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4E2A-643A-429C-971D-3F6AD790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7FA2-B011-48FE-B75F-F63106E1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F96B-951F-4885-8750-A50E8645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60F-3DB8-4494-91DA-61E91FB6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A45-4ACF-429B-A571-FEF6436A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208-842F-4F05-8BB5-BDD64D6A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DAA-9AE0-40D0-9A52-E823CA3C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D47-5D8E-4D83-A9A2-0390ED27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661-060F-4900-9992-E2DC77E6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A847-ED70-4858-9DD0-970FD58C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D70-25DF-45EE-9503-F9FCD36E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2AC-4167-4E32-B835-6267F240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454A-C87A-456C-BA42-6A6EB7DFA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48320" y="3429000"/>
            <a:ext cx="914400" cy="1015920"/>
          </a:xfrm>
          <a:prstGeom prst="irregularSeal2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28440" y="304920"/>
            <a:ext cx="190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uman Bl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56680" y="15796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D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/CD11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72920" y="1295280"/>
            <a:ext cx="154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ecur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D11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198108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08440" y="37339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08320" y="2133720"/>
            <a:ext cx="111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ir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06880" y="762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820520" y="7621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92280" y="2057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35280" y="4952880"/>
            <a:ext cx="202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flammat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imu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65040" y="5410080"/>
            <a:ext cx="86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FN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82800" y="6019920"/>
            <a:ext cx="1676160" cy="990360"/>
          </a:xfrm>
          <a:prstGeom prst="irregularSeal1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5791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6629400"/>
            <a:ext cx="9907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7620120"/>
            <a:ext cx="99072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74200" y="7989840"/>
            <a:ext cx="8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FN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54120" y="685800"/>
            <a:ext cx="11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yel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46200" y="66528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ymph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560" y="3733920"/>
            <a:ext cx="1676520" cy="990360"/>
          </a:xfrm>
          <a:prstGeom prst="irregularSeal1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371240" y="4800600"/>
            <a:ext cx="1443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3960" y="2265480"/>
            <a:ext cx="112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M-C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59920" y="5716440"/>
            <a:ext cx="86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FN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54" idx="3"/>
          </p:cNvCxnSpPr>
          <p:nvPr/>
        </p:nvCxnSpPr>
        <p:spPr>
          <a:xfrm>
            <a:off x="2658960" y="6634080"/>
            <a:ext cx="236880" cy="681480"/>
          </a:xfrm>
          <a:prstGeom prst="curvedConnector3">
            <a:avLst>
              <a:gd name="adj1" fmla="val 3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2640240" y="737064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4495680"/>
            <a:ext cx="1522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4" idx="0"/>
          </p:cNvCxnSpPr>
          <p:nvPr/>
        </p:nvCxnSpPr>
        <p:spPr>
          <a:xfrm flipH="1" rot="16200000">
            <a:off x="1023120" y="7119000"/>
            <a:ext cx="2205720" cy="16920"/>
          </a:xfrm>
          <a:prstGeom prst="curvedConnector4">
            <a:avLst>
              <a:gd name="adj1" fmla="val -228"/>
              <a:gd name="adj2" fmla="val 3958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878120" y="820908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-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81640" y="4857840"/>
            <a:ext cx="8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FN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61" idx="3"/>
            <a:endCxn id="54" idx="3"/>
          </p:cNvCxnSpPr>
          <p:nvPr/>
        </p:nvCxnSpPr>
        <p:spPr>
          <a:xfrm>
            <a:off x="2278080" y="4348080"/>
            <a:ext cx="381240" cy="2286360"/>
          </a:xfrm>
          <a:prstGeom prst="curvedConnector3">
            <a:avLst>
              <a:gd name="adj1" fmla="val 1154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0"/>
            <a:endCxn id="57" idx="0"/>
          </p:cNvCxnSpPr>
          <p:nvPr/>
        </p:nvCxnSpPr>
        <p:spPr>
          <a:xfrm flipV="1" rot="10800000">
            <a:off x="495000" y="6323400"/>
            <a:ext cx="876240" cy="1296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5334120" y="7543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7772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8153280"/>
            <a:ext cx="7617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9" idx="2"/>
          </p:cNvCxnSpPr>
          <p:nvPr/>
        </p:nvCxnSpPr>
        <p:spPr>
          <a:xfrm flipV="1" rot="16200000">
            <a:off x="1443960" y="7774920"/>
            <a:ext cx="227160" cy="1439280"/>
          </a:xfrm>
          <a:prstGeom prst="curvedConnector3">
            <a:avLst>
              <a:gd name="adj1" fmla="val -80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2808360" y="869796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5" idx="2"/>
            <a:endCxn id="77" idx="0"/>
          </p:cNvCxnSpPr>
          <p:nvPr/>
        </p:nvCxnSpPr>
        <p:spPr>
          <a:xfrm flipV="1" rot="10800000">
            <a:off x="3207240" y="8496360"/>
            <a:ext cx="298440" cy="201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9T21:49:05Z</dcterms:created>
  <dc:creator>Annalisa D'Andrea</dc:creator>
  <dc:description/>
  <dc:language>en-US</dc:language>
  <cp:lastModifiedBy>Annalisa D'Andrea</cp:lastModifiedBy>
  <dcterms:modified xsi:type="dcterms:W3CDTF">2001-10-10T16:53:34Z</dcterms:modified>
  <cp:revision>2</cp:revision>
  <dc:subject/>
  <dc:title>No Slide Title</dc:title>
</cp:coreProperties>
</file>