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06DC-9C1D-42A5-8D8D-F02533A4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71A6-A52B-4EF3-B34C-530B4689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0904-80AC-4507-BFB6-76A603A3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1A6F-8A59-4C53-BCCA-46D1E7775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1B75-ED9C-438C-9DB9-4B6F2819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D2B8-46B0-475D-9CD7-19930011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EF8E-98D8-4F0A-865C-153872E1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E0BB-1E71-4DDF-87A6-A425703C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973D-6111-4E2F-BA9B-B7B6ADC7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32D6-CD4C-442B-A627-EE09B98C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0CB3-6AC0-4788-B875-57650DB6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F1A7-D780-42C7-82DA-6AF86CAF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86BB-5F00-4C10-973D-22E62A940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7T20:27:22Z</dcterms:created>
  <dc:creator>Annalisa D'Andrea</dc:creator>
  <dc:description/>
  <dc:language>en-US</dc:language>
  <cp:lastModifiedBy>Annalisa D'Andrea</cp:lastModifiedBy>
  <dcterms:modified xsi:type="dcterms:W3CDTF">2002-01-17T20:31:19Z</dcterms:modified>
  <cp:revision>1</cp:revision>
  <dc:subject/>
  <dc:title>No Slide Title</dc:title>
</cp:coreProperties>
</file>