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235-1837-40FC-A04D-8D3F575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E3-3E33-466B-B11B-72E6430B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631-EBE4-482C-9C41-FAA9ABC5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B9D-1E40-426E-A08E-9F4C285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C61-06C3-4CAB-9BF9-8B0C6064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178-FA84-4E62-AA03-295AF7E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C92-485E-4E45-BC06-62548DC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E83-F4D5-4753-8A5F-20D3094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4F8-E058-4E0F-B40A-C2DB09A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E54-CD28-4166-9F49-85C3999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DF4-A3C3-45CA-B0EF-9301F58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0A9-3328-48D1-9D7C-2A5A422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83C-81BB-4AFF-9235-94DAC45A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2200" y="166680"/>
            <a:ext cx="63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CytoActive Database: DC M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91680" y="1047600"/>
            <a:ext cx="10056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1. Genes induced (or repressed) that enco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secreted factors (i.e. cytokine, chemoki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membrane factors (i.e. cytokine receptor, CMH-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intracellular factors (i.e. cytoskeleton, surviv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2. Expression kinetic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Early (E; 0-8h), Middle (M; 8-18h), Late (L; 18-48h)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Transient (T) or Sustained 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3. Consequences 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DC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c5f08"/>
                </a:solidFill>
                <a:latin typeface="Arial"/>
              </a:rPr>
              <a:t>- Other immune cells (B, 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1440" y="39528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80640" y="2246400"/>
            <a:ext cx="95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Microarray data: gene expression (m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(Huang et al. 2001. Science 294: 870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Granucci et al. 2001. Nature 2: 882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2. Check protein expression (validation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3. Identify Function (on DC &amp; other cells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257800" y="228600"/>
            <a:ext cx="3200400" cy="1752480"/>
            <a:chOff x="5257800" y="228600"/>
            <a:chExt cx="3200400" cy="1752480"/>
          </a:xfrm>
        </p:grpSpPr>
        <p:grpSp>
          <p:nvGrpSpPr>
            <p:cNvPr id="46" name=""/>
            <p:cNvGrpSpPr/>
            <p:nvPr/>
          </p:nvGrpSpPr>
          <p:grpSpPr>
            <a:xfrm>
              <a:off x="6019920" y="456840"/>
              <a:ext cx="2358720" cy="1370880"/>
              <a:chOff x="6019920" y="456840"/>
              <a:chExt cx="2358720" cy="13708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6019920" y="456840"/>
                <a:ext cx="2209680" cy="306360"/>
                <a:chOff x="6019920" y="456840"/>
                <a:chExt cx="2209680" cy="3063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6705720" y="532800"/>
                  <a:ext cx="914400" cy="18216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620120" y="608760"/>
                  <a:ext cx="60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019920" y="6087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"/>
                <p:cNvGrpSpPr/>
                <p:nvPr/>
              </p:nvGrpSpPr>
              <p:grpSpPr>
                <a:xfrm>
                  <a:off x="7848360" y="532800"/>
                  <a:ext cx="228600" cy="151920"/>
                  <a:chOff x="7848360" y="532800"/>
                  <a:chExt cx="228600" cy="1519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>
                    <a:off x="78483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>
                    <a:off x="792468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171840" y="532800"/>
                  <a:ext cx="228600" cy="151920"/>
                  <a:chOff x="6171840" y="532800"/>
                  <a:chExt cx="228600" cy="15192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>
                    <a:off x="617184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>
                    <a:off x="62481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6858000" y="48672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ene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6705720" y="456840"/>
                  <a:ext cx="228600" cy="151920"/>
                  <a:chOff x="6705720" y="456840"/>
                  <a:chExt cx="228600" cy="15192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 flipV="1">
                    <a:off x="6705720" y="456840"/>
                    <a:ext cx="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705720" y="4568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629400" y="913680"/>
                <a:ext cx="1749240" cy="246240"/>
                <a:chOff x="6629400" y="913680"/>
                <a:chExt cx="1749240" cy="246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629400" y="989280"/>
                  <a:ext cx="1179720" cy="104400"/>
                </a:xfrm>
                <a:custGeom>
                  <a:avLst/>
                  <a:gdLst/>
                  <a:ahLst/>
                  <a:rect l="l" t="t" r="r" b="b"/>
                  <a:pathLst>
                    <a:path w="743" h="66">
                      <a:moveTo>
                        <a:pt x="0" y="43"/>
                      </a:moveTo>
                      <a:cubicBezTo>
                        <a:pt x="16" y="38"/>
                        <a:pt x="28" y="23"/>
                        <a:pt x="45" y="21"/>
                      </a:cubicBezTo>
                      <a:cubicBezTo>
                        <a:pt x="75" y="17"/>
                        <a:pt x="123" y="41"/>
                        <a:pt x="151" y="51"/>
                      </a:cubicBezTo>
                      <a:cubicBezTo>
                        <a:pt x="180" y="44"/>
                        <a:pt x="198" y="41"/>
                        <a:pt x="220" y="21"/>
                      </a:cubicBezTo>
                      <a:cubicBezTo>
                        <a:pt x="340" y="35"/>
                        <a:pt x="240" y="14"/>
                        <a:pt x="303" y="43"/>
                      </a:cubicBezTo>
                      <a:cubicBezTo>
                        <a:pt x="317" y="50"/>
                        <a:pt x="348" y="59"/>
                        <a:pt x="348" y="59"/>
                      </a:cubicBezTo>
                      <a:cubicBezTo>
                        <a:pt x="363" y="56"/>
                        <a:pt x="379" y="55"/>
                        <a:pt x="394" y="51"/>
                      </a:cubicBezTo>
                      <a:cubicBezTo>
                        <a:pt x="409" y="47"/>
                        <a:pt x="439" y="36"/>
                        <a:pt x="439" y="36"/>
                      </a:cubicBezTo>
                      <a:cubicBezTo>
                        <a:pt x="464" y="38"/>
                        <a:pt x="490" y="37"/>
                        <a:pt x="515" y="43"/>
                      </a:cubicBezTo>
                      <a:cubicBezTo>
                        <a:pt x="522" y="45"/>
                        <a:pt x="524" y="55"/>
                        <a:pt x="530" y="59"/>
                      </a:cubicBezTo>
                      <a:cubicBezTo>
                        <a:pt x="537" y="63"/>
                        <a:pt x="545" y="64"/>
                        <a:pt x="553" y="66"/>
                      </a:cubicBezTo>
                      <a:cubicBezTo>
                        <a:pt x="583" y="59"/>
                        <a:pt x="593" y="45"/>
                        <a:pt x="621" y="36"/>
                      </a:cubicBezTo>
                      <a:cubicBezTo>
                        <a:pt x="634" y="0"/>
                        <a:pt x="647" y="5"/>
                        <a:pt x="682" y="13"/>
                      </a:cubicBezTo>
                      <a:cubicBezTo>
                        <a:pt x="702" y="26"/>
                        <a:pt x="721" y="33"/>
                        <a:pt x="743" y="43"/>
                      </a:cubicBezTo>
                    </a:path>
                  </a:pathLst>
                </a:custGeom>
                <a:noFill/>
                <a:ln w="5724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740720" y="913680"/>
                  <a:ext cx="63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AAA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782040" y="1447200"/>
                <a:ext cx="838080" cy="380520"/>
                <a:chOff x="6782040" y="1447200"/>
                <a:chExt cx="838080" cy="380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858360" y="1447200"/>
                  <a:ext cx="685800" cy="38052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782040" y="1523160"/>
                  <a:ext cx="838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Factor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7162920" y="114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162920" y="7614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330160" y="380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6640" y="852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560" y="146196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57800" y="228600"/>
              <a:ext cx="3200400" cy="175248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ig1%20Huang" descr=""/>
          <p:cNvPicPr/>
          <p:nvPr/>
        </p:nvPicPr>
        <p:blipFill>
          <a:blip r:embed="rId1"/>
          <a:stretch/>
        </p:blipFill>
        <p:spPr>
          <a:xfrm>
            <a:off x="93600" y="1066680"/>
            <a:ext cx="8821800" cy="461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320" y="6324480"/>
            <a:ext cx="87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ang et al. (2001). The plasticity of DC responses to pathogens and their components. Science 294: 870-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880" y="74520"/>
            <a:ext cx="90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Pathogen-regulated Gene Expression in Human D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7880" y="58672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-1-2-4-8-12-2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603760"/>
            <a:ext cx="4572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52880" y="5603760"/>
            <a:ext cx="4572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4219886002" descr=""/>
          <p:cNvPicPr/>
          <p:nvPr/>
        </p:nvPicPr>
        <p:blipFill>
          <a:blip r:embed="rId1"/>
          <a:stretch/>
        </p:blipFill>
        <p:spPr>
          <a:xfrm>
            <a:off x="3165480" y="152280"/>
            <a:ext cx="5749920" cy="66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4771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6a0b"/>
                </a:solidFill>
                <a:latin typeface="Arial"/>
              </a:rPr>
              <a:t>Huang et al. (2001). Science 294: 870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808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Expression Kinetics of Common Response Genes in D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09480" y="3048120"/>
            <a:ext cx="1218960" cy="990360"/>
            <a:chOff x="609480" y="3048120"/>
            <a:chExt cx="1218960" cy="990360"/>
          </a:xfrm>
        </p:grpSpPr>
        <p:sp>
          <p:nvSpPr>
            <p:cNvPr id="83" name=""/>
            <p:cNvSpPr/>
            <p:nvPr/>
          </p:nvSpPr>
          <p:spPr>
            <a:xfrm>
              <a:off x="689040" y="3124080"/>
              <a:ext cx="106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E: 0-8h</a:t>
              </a:r>
              <a:r>
                <a:rPr b="1" lang="en-US" sz="1600" spc="-1" strike="noStrike">
                  <a:solidFill>
                    <a:srgbClr val="e96a0b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M: 8-18h</a:t>
              </a:r>
              <a:r>
                <a:rPr b="1" lang="en-US" sz="1600" spc="-1" strike="noStrike">
                  <a:solidFill>
                    <a:srgbClr val="e96a0b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1c903"/>
                  </a:solidFill>
                  <a:latin typeface="Arial"/>
                </a:rPr>
                <a:t>L: 18-4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048120"/>
              <a:ext cx="1218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uppl%20Fig1%20Huang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8977320" cy="4684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4600" y="74520"/>
            <a:ext cx="847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mRNA and Protein Expression Levels for Sev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Secreted Factors (Cytokines, Chemokines, G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6a0b"/>
                </a:solidFill>
                <a:latin typeface="Arial"/>
              </a:rPr>
              <a:t>(From Huang et al. 2001. Science 294: 870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657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ET                      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7240" y="37339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T                      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61722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T                      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7960" y="61563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S                   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828800"/>
            <a:ext cx="762120" cy="30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1905120"/>
            <a:ext cx="761760" cy="304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191120"/>
            <a:ext cx="609480" cy="304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14800"/>
            <a:ext cx="609480" cy="30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75520" y="152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CytoActiv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8000" y="950760"/>
            <a:ext cx="925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5f08"/>
                </a:solidFill>
                <a:latin typeface="Arial"/>
              </a:rPr>
              <a:t>Example of DC response to Bacteria Gram- (E.Coli) and Gram+ (S.Aureu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5f08"/>
                </a:solidFill>
                <a:latin typeface="Arial"/>
              </a:rPr>
              <a:t>Fungus C.Albicans, and Virus Influenza (“Core” respo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000" y="6197760"/>
            <a:ext cx="84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5f08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ec5f08"/>
                </a:solidFill>
                <a:latin typeface="Arial"/>
              </a:rPr>
              <a:t> E, Early (0-8h); M, Middle (8-18h); L, Late (18-48h);T, Transient; S, Sustained; R, RNA; P, Prote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6320" y="2147760"/>
            <a:ext cx="9067320" cy="3719520"/>
            <a:chOff x="76320" y="2147760"/>
            <a:chExt cx="9067320" cy="3719520"/>
          </a:xfrm>
        </p:grpSpPr>
        <p:grpSp>
          <p:nvGrpSpPr>
            <p:cNvPr id="99" name=""/>
            <p:cNvGrpSpPr/>
            <p:nvPr/>
          </p:nvGrpSpPr>
          <p:grpSpPr>
            <a:xfrm>
              <a:off x="76320" y="2147760"/>
              <a:ext cx="9021240" cy="1766880"/>
              <a:chOff x="76320" y="2147760"/>
              <a:chExt cx="9021240" cy="1766880"/>
            </a:xfrm>
          </p:grpSpPr>
          <p:graphicFrame>
            <p:nvGraphicFramePr>
              <p:cNvPr id="100" name=""/>
              <p:cNvGraphicFramePr/>
              <p:nvPr/>
            </p:nvGraphicFramePr>
            <p:xfrm>
              <a:off x="76320" y="2147760"/>
              <a:ext cx="5222520" cy="17668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320" y="2147760"/>
                        <a:ext cx="5222520" cy="17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" name=""/>
              <p:cNvGraphicFramePr/>
              <p:nvPr/>
            </p:nvGraphicFramePr>
            <p:xfrm>
              <a:off x="5291640" y="2147760"/>
              <a:ext cx="3805920" cy="176688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1640" y="2147760"/>
                        <a:ext cx="3805920" cy="17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4" name=""/>
            <p:cNvGrpSpPr/>
            <p:nvPr/>
          </p:nvGrpSpPr>
          <p:grpSpPr>
            <a:xfrm>
              <a:off x="76320" y="4129200"/>
              <a:ext cx="9067320" cy="1738080"/>
              <a:chOff x="76320" y="4129200"/>
              <a:chExt cx="9067320" cy="173808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76320" y="4129200"/>
              <a:ext cx="4167720" cy="173808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320" y="4129200"/>
                        <a:ext cx="4167720" cy="17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" name=""/>
              <p:cNvGraphicFramePr/>
              <p:nvPr/>
            </p:nvGraphicFramePr>
            <p:xfrm>
              <a:off x="4236840" y="4129200"/>
              <a:ext cx="4906800" cy="173808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36840" y="4129200"/>
                        <a:ext cx="4906800" cy="17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" name=""/>
            <p:cNvSpPr/>
            <p:nvPr/>
          </p:nvSpPr>
          <p:spPr>
            <a:xfrm>
              <a:off x="2364120" y="22096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c5f08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9520" y="3952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520" y="1066680"/>
            <a:ext cx="753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Common response to Bacteria, Virus and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Effect on DCs and oth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6000" y="29098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5f08"/>
                </a:solidFill>
                <a:latin typeface="Arial"/>
              </a:rPr>
              <a:t>Nex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7640" y="3657600"/>
            <a:ext cx="823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Specific response to distinct pathogens or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Effect of cell-cell interaction and of factors sec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by oth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c5f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5f08"/>
                </a:solidFill>
                <a:latin typeface="Arial"/>
              </a:rPr>
              <a:t>Regulation by DCs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0:11:03Z</dcterms:created>
  <dc:creator>AYA</dc:creator>
  <dc:description/>
  <dc:language>en-US</dc:language>
  <cp:lastModifiedBy>AYA</cp:lastModifiedBy>
  <dcterms:modified xsi:type="dcterms:W3CDTF">2004-03-22T20:09:26Z</dcterms:modified>
  <cp:revision>41</cp:revision>
  <dc:subject/>
  <dc:title>PowerPoint Presentation</dc:title>
</cp:coreProperties>
</file>