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  <p:custShowLst>
    <p:custShow name="Monkeys" id="0">
      <p:sldLst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1E4-E6DE-4822-B77E-1B343299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EBF-78EF-432A-90D8-53415DAD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6B3-4E5B-45EB-8711-D86552AB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4F1-3433-457D-97BD-BFC62712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AA0-D2F1-40EA-87F1-4D50310B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D7F-65B3-453D-9A5F-BCEEFC43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189-240E-4B63-84AA-037FA1C5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BCA-6566-45FC-8562-778860A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D3D-A7FB-4641-9D5E-ACE4A805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B87-4E7A-47B1-8CA7-DAF758D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16B-C304-407F-ACE4-77E3097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23A-BCEA-4787-87B3-975D3D52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FE86-63F8-4488-887F-C3981D8AF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544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tificial Immune System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ational Immunolog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for Embedded Computing Systems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Garv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 Cen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I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20560" y="4906800"/>
            <a:ext cx="373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s of the immune system originate in the bone marrow and descend from self-renewing stem ce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177920" y="2631600"/>
            <a:ext cx="334800" cy="451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348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nate Immun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040" y="3081240"/>
            <a:ext cx="565200" cy="565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3680" y="363528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81120" y="3125880"/>
            <a:ext cx="565200" cy="565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25520" y="2031840"/>
            <a:ext cx="565200" cy="565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74960" y="2597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48120" y="3635280"/>
            <a:ext cx="12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yelo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e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86000" y="3405240"/>
            <a:ext cx="1062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9800" y="1787400"/>
            <a:ext cx="210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agocy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ssue ce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tigen pres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19800" y="2736720"/>
            <a:ext cx="210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agocy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oo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19800" y="3627360"/>
            <a:ext cx="210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nulocy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oo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19800" y="4483080"/>
            <a:ext cx="210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nulocy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ssue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48160" y="4513320"/>
            <a:ext cx="565200" cy="5652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6240" y="49626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48160" y="3646440"/>
            <a:ext cx="565200" cy="565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48280" y="409572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osino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48160" y="2779560"/>
            <a:ext cx="565200" cy="565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8480" y="32288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utro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42720" y="1577160"/>
            <a:ext cx="1579680" cy="1137960"/>
          </a:xfrm>
          <a:prstGeom prst="irregularSeal2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7760" y="23623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roph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092400" y="2387520"/>
            <a:ext cx="1952640" cy="1015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094200" y="3080880"/>
            <a:ext cx="2193840" cy="335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81240" y="3416400"/>
            <a:ext cx="2205000" cy="485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3405240"/>
            <a:ext cx="2251080" cy="1257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608080" y="5478480"/>
            <a:ext cx="1828080" cy="969120"/>
            <a:chOff x="5608080" y="5478480"/>
            <a:chExt cx="1828080" cy="969120"/>
          </a:xfrm>
        </p:grpSpPr>
        <p:sp>
          <p:nvSpPr>
            <p:cNvPr id="166" name=""/>
            <p:cNvSpPr/>
            <p:nvPr/>
          </p:nvSpPr>
          <p:spPr>
            <a:xfrm>
              <a:off x="6073920" y="5478480"/>
              <a:ext cx="695520" cy="6494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08080" y="6110280"/>
              <a:ext cx="18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atural Killer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053960" y="5521320"/>
            <a:ext cx="1450080" cy="1245600"/>
            <a:chOff x="4053960" y="5521320"/>
            <a:chExt cx="1450080" cy="1245600"/>
          </a:xfrm>
        </p:grpSpPr>
        <p:sp>
          <p:nvSpPr>
            <p:cNvPr id="169" name=""/>
            <p:cNvSpPr/>
            <p:nvPr/>
          </p:nvSpPr>
          <p:spPr>
            <a:xfrm>
              <a:off x="4329000" y="5521320"/>
              <a:ext cx="828720" cy="718920"/>
            </a:xfrm>
            <a:custGeom>
              <a:avLst/>
              <a:gdLst>
                <a:gd name="textAreaLeft" fmla="*/ 341280 w 828720"/>
                <a:gd name="textAreaRight" fmla="*/ 487440 w 828720"/>
                <a:gd name="textAreaTop" fmla="*/ 296280 h 718920"/>
                <a:gd name="textAreaBottom" fmla="*/ 4226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53960" y="6186240"/>
              <a:ext cx="145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ndritic Cel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ssen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roph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3920" y="188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lived senti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tates of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s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arbage collectors, senti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i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y interferon gamma–IFN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antigens on surface (in MHC II molec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yperacti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by signal from invader (LPS, mann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and eat lot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te cytokines (TNF, IL-1) to mediate activities of other immune c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58560" y="1555920"/>
            <a:ext cx="3170160" cy="2266560"/>
            <a:chOff x="5758560" y="1555920"/>
            <a:chExt cx="3170160" cy="226656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5821200" y="1555920"/>
              <a:ext cx="289224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58560" y="3608280"/>
              <a:ext cx="3170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crophage 10,000x  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©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ehringer Ingelheim International, Gmb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ens are presented to T cells through major histocompatibility complex (MHC)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HC molecules present short peptide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C I presents end-bound 8-9 peptide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C II presents center-bound ~12 peptide length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dog in a bun ana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 Presentation Throug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HC 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08120" y="1727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C I molecules present short peptide sequences manufactured by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al and parasitic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ells have MHC I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ller T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inspect cel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kill diseas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C II molecules are only on antigen presenting cells (AP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ated macroph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ndritic cells which carry snapshots from battle sites to lymph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ctivate virgin T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ated B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in order to aler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per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only recognize presented ant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troph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lived (~5 days to apoptosis) to limit damage to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in blood; recruited into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blood vessels at site of infection, ready to 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ll, stop, exit (“go to addres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thelial cells in blood vessels near site of infection express proteins that slow neutrophils (after about 6 hours–ensure attack is se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d neutrophils “sniff” for battle signals (C5a, L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battle signals are detected, neutrophil expresses protein that binds to endothelial cells and stops its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oattractants (C5a, f-met) cause neutrophil to pry open cell walls and enter tissues ready to k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464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Killer (NK)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5200" y="157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ll, stop, exit strategy to enter tissues at infection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l by triggering apop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ating target cells and secreting triggering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g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s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n NK surface bind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surface of target to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ling appears to require both a “kill” signal and the absence of a “don’t kill” signal (second sig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signal seems to come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hydrate molecules 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kill appears to come from MHC I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K cells produce IFN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ich activates macroph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K cells activat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S (lipopolysaccharide) from bacterial cell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N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n off by cells under viral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41960" y="3649680"/>
            <a:ext cx="2414520" cy="1204920"/>
            <a:chOff x="6141960" y="3649680"/>
            <a:chExt cx="2414520" cy="1204920"/>
          </a:xfrm>
        </p:grpSpPr>
        <p:sp>
          <p:nvSpPr>
            <p:cNvPr id="185" name=""/>
            <p:cNvSpPr/>
            <p:nvPr/>
          </p:nvSpPr>
          <p:spPr>
            <a:xfrm>
              <a:off x="6401880" y="4578120"/>
              <a:ext cx="6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HC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141960" y="3649680"/>
              <a:ext cx="2414520" cy="1079280"/>
              <a:chOff x="6141960" y="3649680"/>
              <a:chExt cx="2414520" cy="107928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6141960" y="3844800"/>
                <a:ext cx="2414520" cy="884160"/>
                <a:chOff x="6141960" y="3844800"/>
                <a:chExt cx="2414520" cy="8841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6926040" y="4298760"/>
                  <a:ext cx="1138320" cy="430200"/>
                  <a:chOff x="6926040" y="4298760"/>
                  <a:chExt cx="1138320" cy="4302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970680" y="4359240"/>
                    <a:ext cx="142920" cy="309600"/>
                  </a:xfrm>
                  <a:prstGeom prst="rect">
                    <a:avLst/>
                  </a:prstGeom>
                  <a:noFill/>
                  <a:ln w="572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926040" y="4298760"/>
                    <a:ext cx="889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124400" y="4513320"/>
                    <a:ext cx="939960" cy="0"/>
                  </a:xfrm>
                  <a:prstGeom prst="line">
                    <a:avLst/>
                  </a:prstGeom>
                  <a:ln w="572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277040" y="3889080"/>
                  <a:ext cx="541080" cy="287640"/>
                  <a:chOff x="7277040" y="3889080"/>
                  <a:chExt cx="541080" cy="28764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7322760" y="3933720"/>
                    <a:ext cx="198720" cy="198360"/>
                  </a:xfrm>
                  <a:prstGeom prst="ellipse">
                    <a:avLst/>
                  </a:prstGeom>
                  <a:noFill/>
                  <a:ln w="572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277040" y="3889080"/>
                    <a:ext cx="122040" cy="2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519680" y="4033800"/>
                    <a:ext cx="298440" cy="0"/>
                  </a:xfrm>
                  <a:prstGeom prst="line">
                    <a:avLst/>
                  </a:prstGeom>
                  <a:ln w="572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6770520" y="3978000"/>
                  <a:ext cx="692280" cy="109800"/>
                  <a:chOff x="6770520" y="3978000"/>
                  <a:chExt cx="692280" cy="109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6770520" y="4033800"/>
                    <a:ext cx="64116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048440" y="3978000"/>
                    <a:ext cx="109440" cy="1098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200720" y="3978000"/>
                    <a:ext cx="109440" cy="1098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353000" y="3978000"/>
                    <a:ext cx="109800" cy="1098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6141960" y="3857400"/>
                  <a:ext cx="947520" cy="816120"/>
                  <a:chOff x="6141960" y="3857400"/>
                  <a:chExt cx="947520" cy="816120"/>
                </a:xfrm>
              </p:grpSpPr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6581520" y="4398840"/>
                    <a:ext cx="507960" cy="231840"/>
                    <a:chOff x="6581520" y="4398840"/>
                    <a:chExt cx="507960" cy="23184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6581520" y="4398840"/>
                      <a:ext cx="431640" cy="231840"/>
                    </a:xfrm>
                    <a:prstGeom prst="rect">
                      <a:avLst/>
                    </a:prstGeom>
                    <a:solidFill>
                      <a:srgbClr val="00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6924240" y="4432320"/>
                      <a:ext cx="165240" cy="164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5" name=""/>
                  <p:cNvSpPr/>
                  <p:nvPr/>
                </p:nvSpPr>
                <p:spPr>
                  <a:xfrm>
                    <a:off x="6141960" y="3857400"/>
                    <a:ext cx="815760" cy="816120"/>
                  </a:xfrm>
                  <a:prstGeom prst="ellips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Target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Cel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7740360" y="3844800"/>
                  <a:ext cx="816120" cy="81612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N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7824240" y="3878280"/>
                <a:ext cx="35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Ki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19920" y="4373280"/>
                <a:ext cx="703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on’t Ki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749640" y="364968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Carb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091280" y="2185920"/>
            <a:ext cx="816120" cy="1423800"/>
            <a:chOff x="7091280" y="2185920"/>
            <a:chExt cx="816120" cy="1423800"/>
          </a:xfrm>
        </p:grpSpPr>
        <p:grpSp>
          <p:nvGrpSpPr>
            <p:cNvPr id="212" name=""/>
            <p:cNvGrpSpPr/>
            <p:nvPr/>
          </p:nvGrpSpPr>
          <p:grpSpPr>
            <a:xfrm>
              <a:off x="7303680" y="2185920"/>
              <a:ext cx="430200" cy="1137600"/>
              <a:chOff x="7303680" y="2185920"/>
              <a:chExt cx="430200" cy="1137600"/>
            </a:xfrm>
          </p:grpSpPr>
          <p:sp>
            <p:nvSpPr>
              <p:cNvPr id="213" name=""/>
              <p:cNvSpPr/>
              <p:nvPr/>
            </p:nvSpPr>
            <p:spPr>
              <a:xfrm rot="5400000">
                <a:off x="7447320" y="2146680"/>
                <a:ext cx="142560" cy="309600"/>
              </a:xfrm>
              <a:prstGeom prst="rect">
                <a:avLst/>
              </a:prstGeom>
              <a:noFill/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7474320" y="2014920"/>
                <a:ext cx="88560" cy="43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19320" y="2383920"/>
                <a:ext cx="0" cy="939600"/>
              </a:xfrm>
              <a:prstGeom prst="line">
                <a:avLst/>
              </a:prstGeom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091280" y="2793960"/>
              <a:ext cx="816120" cy="8157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800240" y="2768760"/>
            <a:ext cx="1579680" cy="1776240"/>
            <a:chOff x="4800240" y="2768760"/>
            <a:chExt cx="1579680" cy="1776240"/>
          </a:xfrm>
        </p:grpSpPr>
        <p:grpSp>
          <p:nvGrpSpPr>
            <p:cNvPr id="218" name=""/>
            <p:cNvGrpSpPr/>
            <p:nvPr/>
          </p:nvGrpSpPr>
          <p:grpSpPr>
            <a:xfrm>
              <a:off x="5269680" y="2768760"/>
              <a:ext cx="430200" cy="1137600"/>
              <a:chOff x="5269680" y="2768760"/>
              <a:chExt cx="430200" cy="1137600"/>
            </a:xfrm>
          </p:grpSpPr>
          <p:sp>
            <p:nvSpPr>
              <p:cNvPr id="219" name=""/>
              <p:cNvSpPr/>
              <p:nvPr/>
            </p:nvSpPr>
            <p:spPr>
              <a:xfrm rot="5400000">
                <a:off x="5413320" y="2729520"/>
                <a:ext cx="142560" cy="309600"/>
              </a:xfrm>
              <a:prstGeom prst="rect">
                <a:avLst/>
              </a:prstGeom>
              <a:noFill/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400000">
                <a:off x="5440320" y="2597760"/>
                <a:ext cx="88560" cy="43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85320" y="2966760"/>
                <a:ext cx="0" cy="939600"/>
              </a:xfrm>
              <a:prstGeom prst="line">
                <a:avLst/>
              </a:prstGeom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4800240" y="3407040"/>
              <a:ext cx="1579680" cy="1137960"/>
            </a:xfrm>
            <a:prstGeom prst="irregularSeal2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703640" y="1671480"/>
            <a:ext cx="221400" cy="1220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L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6360" y="3554280"/>
            <a:ext cx="1462320" cy="874800"/>
          </a:xfrm>
          <a:custGeom>
            <a:avLst/>
            <a:gdLst/>
            <a:ahLst/>
            <a:rect l="l" t="t" r="r" b="b"/>
            <a:pathLst>
              <a:path w="921" h="551">
                <a:moveTo>
                  <a:pt x="0" y="494"/>
                </a:moveTo>
                <a:cubicBezTo>
                  <a:pt x="43" y="506"/>
                  <a:pt x="87" y="519"/>
                  <a:pt x="125" y="529"/>
                </a:cubicBezTo>
                <a:cubicBezTo>
                  <a:pt x="162" y="538"/>
                  <a:pt x="188" y="546"/>
                  <a:pt x="223" y="549"/>
                </a:cubicBezTo>
                <a:cubicBezTo>
                  <a:pt x="257" y="551"/>
                  <a:pt x="291" y="547"/>
                  <a:pt x="334" y="542"/>
                </a:cubicBezTo>
                <a:cubicBezTo>
                  <a:pt x="376" y="536"/>
                  <a:pt x="431" y="530"/>
                  <a:pt x="480" y="515"/>
                </a:cubicBezTo>
                <a:cubicBezTo>
                  <a:pt x="528" y="500"/>
                  <a:pt x="578" y="479"/>
                  <a:pt x="626" y="452"/>
                </a:cubicBezTo>
                <a:cubicBezTo>
                  <a:pt x="673" y="424"/>
                  <a:pt x="729" y="380"/>
                  <a:pt x="765" y="348"/>
                </a:cubicBezTo>
                <a:cubicBezTo>
                  <a:pt x="800" y="315"/>
                  <a:pt x="819" y="292"/>
                  <a:pt x="842" y="257"/>
                </a:cubicBezTo>
                <a:cubicBezTo>
                  <a:pt x="864" y="221"/>
                  <a:pt x="885" y="166"/>
                  <a:pt x="898" y="132"/>
                </a:cubicBezTo>
                <a:cubicBezTo>
                  <a:pt x="910" y="97"/>
                  <a:pt x="914" y="70"/>
                  <a:pt x="918" y="49"/>
                </a:cubicBezTo>
                <a:cubicBezTo>
                  <a:pt x="921" y="27"/>
                  <a:pt x="919" y="13"/>
                  <a:pt x="918" y="0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665680" y="2293920"/>
            <a:ext cx="1479600" cy="1204920"/>
            <a:chOff x="5665680" y="2293920"/>
            <a:chExt cx="1479600" cy="1204920"/>
          </a:xfrm>
        </p:grpSpPr>
        <p:sp>
          <p:nvSpPr>
            <p:cNvPr id="226" name=""/>
            <p:cNvSpPr/>
            <p:nvPr/>
          </p:nvSpPr>
          <p:spPr>
            <a:xfrm>
              <a:off x="5665680" y="2625480"/>
              <a:ext cx="1479600" cy="873360"/>
            </a:xfrm>
            <a:custGeom>
              <a:avLst/>
              <a:gdLst/>
              <a:ahLst/>
              <a:rect l="l" t="t" r="r" b="b"/>
              <a:pathLst>
                <a:path w="932" h="550">
                  <a:moveTo>
                    <a:pt x="932" y="126"/>
                  </a:moveTo>
                  <a:cubicBezTo>
                    <a:pt x="876" y="98"/>
                    <a:pt x="827" y="69"/>
                    <a:pt x="765" y="49"/>
                  </a:cubicBezTo>
                  <a:cubicBezTo>
                    <a:pt x="702" y="28"/>
                    <a:pt x="623" y="0"/>
                    <a:pt x="557" y="0"/>
                  </a:cubicBezTo>
                  <a:cubicBezTo>
                    <a:pt x="491" y="0"/>
                    <a:pt x="435" y="13"/>
                    <a:pt x="369" y="49"/>
                  </a:cubicBezTo>
                  <a:cubicBezTo>
                    <a:pt x="302" y="84"/>
                    <a:pt x="221" y="132"/>
                    <a:pt x="160" y="216"/>
                  </a:cubicBezTo>
                  <a:cubicBezTo>
                    <a:pt x="98" y="299"/>
                    <a:pt x="33" y="480"/>
                    <a:pt x="0" y="55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0000" y="2293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FN-</a:t>
              </a: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75200" y="3932280"/>
            <a:ext cx="638280" cy="702000"/>
            <a:chOff x="5875200" y="3932280"/>
            <a:chExt cx="638280" cy="702000"/>
          </a:xfrm>
        </p:grpSpPr>
        <p:sp>
          <p:nvSpPr>
            <p:cNvPr id="229" name=""/>
            <p:cNvSpPr/>
            <p:nvPr/>
          </p:nvSpPr>
          <p:spPr>
            <a:xfrm>
              <a:off x="5875200" y="3932280"/>
              <a:ext cx="638280" cy="492120"/>
            </a:xfrm>
            <a:custGeom>
              <a:avLst/>
              <a:gdLst/>
              <a:ahLst/>
              <a:rect l="l" t="t" r="r" b="b"/>
              <a:pathLst>
                <a:path w="402" h="310">
                  <a:moveTo>
                    <a:pt x="0" y="257"/>
                  </a:moveTo>
                  <a:cubicBezTo>
                    <a:pt x="25" y="262"/>
                    <a:pt x="105" y="283"/>
                    <a:pt x="153" y="292"/>
                  </a:cubicBezTo>
                  <a:cubicBezTo>
                    <a:pt x="200" y="300"/>
                    <a:pt x="251" y="310"/>
                    <a:pt x="285" y="306"/>
                  </a:cubicBezTo>
                  <a:cubicBezTo>
                    <a:pt x="318" y="301"/>
                    <a:pt x="336" y="284"/>
                    <a:pt x="355" y="263"/>
                  </a:cubicBezTo>
                  <a:cubicBezTo>
                    <a:pt x="373" y="241"/>
                    <a:pt x="391" y="205"/>
                    <a:pt x="397" y="179"/>
                  </a:cubicBezTo>
                  <a:cubicBezTo>
                    <a:pt x="402" y="152"/>
                    <a:pt x="399" y="126"/>
                    <a:pt x="390" y="103"/>
                  </a:cubicBezTo>
                  <a:cubicBezTo>
                    <a:pt x="380" y="79"/>
                    <a:pt x="364" y="56"/>
                    <a:pt x="341" y="40"/>
                  </a:cubicBezTo>
                  <a:cubicBezTo>
                    <a:pt x="317" y="23"/>
                    <a:pt x="283" y="9"/>
                    <a:pt x="251" y="5"/>
                  </a:cubicBezTo>
                  <a:cubicBezTo>
                    <a:pt x="218" y="0"/>
                    <a:pt x="173" y="6"/>
                    <a:pt x="146" y="12"/>
                  </a:cubicBezTo>
                  <a:cubicBezTo>
                    <a:pt x="118" y="17"/>
                    <a:pt x="94" y="36"/>
                    <a:pt x="84" y="4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5360" y="435780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T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654520" y="3632040"/>
            <a:ext cx="1935000" cy="1263960"/>
            <a:chOff x="5654520" y="3632040"/>
            <a:chExt cx="1935000" cy="1263960"/>
          </a:xfrm>
        </p:grpSpPr>
        <p:sp>
          <p:nvSpPr>
            <p:cNvPr id="232" name=""/>
            <p:cNvSpPr/>
            <p:nvPr/>
          </p:nvSpPr>
          <p:spPr>
            <a:xfrm>
              <a:off x="5654520" y="3632040"/>
              <a:ext cx="1935000" cy="1038240"/>
            </a:xfrm>
            <a:custGeom>
              <a:avLst/>
              <a:gdLst/>
              <a:ahLst/>
              <a:rect l="l" t="t" r="r" b="b"/>
              <a:pathLst>
                <a:path w="1219" h="654">
                  <a:moveTo>
                    <a:pt x="0" y="514"/>
                  </a:moveTo>
                  <a:cubicBezTo>
                    <a:pt x="38" y="539"/>
                    <a:pt x="76" y="564"/>
                    <a:pt x="118" y="584"/>
                  </a:cubicBezTo>
                  <a:cubicBezTo>
                    <a:pt x="159" y="603"/>
                    <a:pt x="201" y="621"/>
                    <a:pt x="251" y="633"/>
                  </a:cubicBezTo>
                  <a:cubicBezTo>
                    <a:pt x="300" y="644"/>
                    <a:pt x="358" y="651"/>
                    <a:pt x="418" y="653"/>
                  </a:cubicBezTo>
                  <a:cubicBezTo>
                    <a:pt x="478" y="654"/>
                    <a:pt x="546" y="653"/>
                    <a:pt x="612" y="640"/>
                  </a:cubicBezTo>
                  <a:cubicBezTo>
                    <a:pt x="678" y="626"/>
                    <a:pt x="756" y="595"/>
                    <a:pt x="814" y="570"/>
                  </a:cubicBezTo>
                  <a:cubicBezTo>
                    <a:pt x="871" y="544"/>
                    <a:pt x="916" y="519"/>
                    <a:pt x="960" y="486"/>
                  </a:cubicBezTo>
                  <a:cubicBezTo>
                    <a:pt x="1004" y="452"/>
                    <a:pt x="1043" y="410"/>
                    <a:pt x="1078" y="368"/>
                  </a:cubicBezTo>
                  <a:cubicBezTo>
                    <a:pt x="1112" y="325"/>
                    <a:pt x="1146" y="271"/>
                    <a:pt x="1169" y="229"/>
                  </a:cubicBezTo>
                  <a:cubicBezTo>
                    <a:pt x="1191" y="186"/>
                    <a:pt x="1202" y="149"/>
                    <a:pt x="1211" y="111"/>
                  </a:cubicBezTo>
                  <a:cubicBezTo>
                    <a:pt x="1219" y="72"/>
                    <a:pt x="1218" y="36"/>
                    <a:pt x="1218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24560" y="461952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L-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764480" y="3079800"/>
            <a:ext cx="1014480" cy="554040"/>
            <a:chOff x="7764480" y="3079800"/>
            <a:chExt cx="1014480" cy="554040"/>
          </a:xfrm>
        </p:grpSpPr>
        <p:sp>
          <p:nvSpPr>
            <p:cNvPr id="235" name=""/>
            <p:cNvSpPr/>
            <p:nvPr/>
          </p:nvSpPr>
          <p:spPr>
            <a:xfrm>
              <a:off x="7764480" y="3079800"/>
              <a:ext cx="569880" cy="554040"/>
            </a:xfrm>
            <a:custGeom>
              <a:avLst/>
              <a:gdLst/>
              <a:ahLst/>
              <a:rect l="l" t="t" r="r" b="b"/>
              <a:pathLst>
                <a:path w="359" h="349">
                  <a:moveTo>
                    <a:pt x="0" y="257"/>
                  </a:moveTo>
                  <a:cubicBezTo>
                    <a:pt x="17" y="284"/>
                    <a:pt x="35" y="311"/>
                    <a:pt x="62" y="327"/>
                  </a:cubicBezTo>
                  <a:cubicBezTo>
                    <a:pt x="88" y="342"/>
                    <a:pt x="127" y="346"/>
                    <a:pt x="160" y="348"/>
                  </a:cubicBezTo>
                  <a:cubicBezTo>
                    <a:pt x="192" y="349"/>
                    <a:pt x="226" y="347"/>
                    <a:pt x="257" y="334"/>
                  </a:cubicBezTo>
                  <a:cubicBezTo>
                    <a:pt x="287" y="320"/>
                    <a:pt x="324" y="294"/>
                    <a:pt x="341" y="264"/>
                  </a:cubicBezTo>
                  <a:cubicBezTo>
                    <a:pt x="357" y="233"/>
                    <a:pt x="359" y="187"/>
                    <a:pt x="355" y="153"/>
                  </a:cubicBezTo>
                  <a:cubicBezTo>
                    <a:pt x="350" y="118"/>
                    <a:pt x="335" y="79"/>
                    <a:pt x="313" y="55"/>
                  </a:cubicBezTo>
                  <a:cubicBezTo>
                    <a:pt x="290" y="30"/>
                    <a:pt x="248" y="13"/>
                    <a:pt x="222" y="7"/>
                  </a:cubicBezTo>
                  <a:cubicBezTo>
                    <a:pt x="195" y="0"/>
                    <a:pt x="173" y="9"/>
                    <a:pt x="153" y="14"/>
                  </a:cubicBezTo>
                  <a:cubicBezTo>
                    <a:pt x="132" y="18"/>
                    <a:pt x="114" y="26"/>
                    <a:pt x="97" y="34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31480" y="32594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L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184440" y="3517920"/>
            <a:ext cx="799560" cy="500040"/>
            <a:chOff x="6184440" y="3517920"/>
            <a:chExt cx="799560" cy="500040"/>
          </a:xfrm>
        </p:grpSpPr>
        <p:sp>
          <p:nvSpPr>
            <p:cNvPr id="238" name=""/>
            <p:cNvSpPr/>
            <p:nvPr/>
          </p:nvSpPr>
          <p:spPr>
            <a:xfrm>
              <a:off x="6184440" y="3517920"/>
              <a:ext cx="79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Make IL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416640" y="3753000"/>
              <a:ext cx="100080" cy="264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167240" y="4073400"/>
            <a:ext cx="1540440" cy="363600"/>
            <a:chOff x="7167240" y="4073400"/>
            <a:chExt cx="1540440" cy="363600"/>
          </a:xfrm>
        </p:grpSpPr>
        <p:sp>
          <p:nvSpPr>
            <p:cNvPr id="241" name=""/>
            <p:cNvSpPr/>
            <p:nvPr/>
          </p:nvSpPr>
          <p:spPr>
            <a:xfrm>
              <a:off x="7557840" y="4190760"/>
              <a:ext cx="114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Make more IFN-</a:t>
              </a:r>
              <a:r>
                <a:rPr b="0" i="1" lang="en-US" sz="1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7167240" y="4073400"/>
              <a:ext cx="420840" cy="209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443720" y="4117320"/>
              <a:ext cx="15408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061840" y="2719440"/>
            <a:ext cx="767520" cy="414360"/>
            <a:chOff x="8061840" y="2719440"/>
            <a:chExt cx="767520" cy="414360"/>
          </a:xfrm>
        </p:grpSpPr>
        <p:sp>
          <p:nvSpPr>
            <p:cNvPr id="245" name=""/>
            <p:cNvSpPr/>
            <p:nvPr/>
          </p:nvSpPr>
          <p:spPr>
            <a:xfrm>
              <a:off x="8061840" y="2719440"/>
              <a:ext cx="76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Prolife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249760" y="2924280"/>
              <a:ext cx="142920" cy="209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5120" y="1617480"/>
            <a:ext cx="4183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S causes NK to produce IFN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N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imes macroph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phage hyperactivated by LPS produces lots of T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NF auto-induces macrophage to produce IL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NF + IL-12 causes NK to produce even more IFN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 more macrophages can be pri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K produces IL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NF causes NK to express IL-2 re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-2 causes NK to prolif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85960" y="2787480"/>
            <a:ext cx="221400" cy="1220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L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19600" y="2205000"/>
            <a:ext cx="221400" cy="1220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L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5180040"/>
            <a:ext cx="462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sitive feedback loop strengthens immun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0720" y="1699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nate Immun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422360" y="1029240"/>
            <a:ext cx="5959440" cy="2518560"/>
            <a:chOff x="1422360" y="1029240"/>
            <a:chExt cx="5959440" cy="2518560"/>
          </a:xfrm>
        </p:grpSpPr>
        <p:sp>
          <p:nvSpPr>
            <p:cNvPr id="253" name=""/>
            <p:cNvSpPr/>
            <p:nvPr/>
          </p:nvSpPr>
          <p:spPr>
            <a:xfrm>
              <a:off x="3310560" y="1124280"/>
              <a:ext cx="126432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mp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425640" y="2329560"/>
              <a:ext cx="948240" cy="1218240"/>
              <a:chOff x="6425640" y="2329560"/>
              <a:chExt cx="948240" cy="12182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425640" y="2846880"/>
                <a:ext cx="657000" cy="182880"/>
                <a:chOff x="6425640" y="2846880"/>
                <a:chExt cx="657000" cy="182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673680" y="2923920"/>
                  <a:ext cx="40896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425640" y="2846880"/>
                  <a:ext cx="295920" cy="18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" rIns="900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66ff"/>
                      </a:solidFill>
                      <a:latin typeface="Comic Sans MS"/>
                    </a:rPr>
                    <a:t>C3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7071840" y="2329560"/>
                <a:ext cx="302040" cy="121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Bacteri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422360" y="1835640"/>
              <a:ext cx="946800" cy="186120"/>
              <a:chOff x="1422360" y="1835640"/>
              <a:chExt cx="946800" cy="186120"/>
            </a:xfrm>
          </p:grpSpPr>
          <p:sp>
            <p:nvSpPr>
              <p:cNvPr id="260" name=""/>
              <p:cNvSpPr/>
              <p:nvPr/>
            </p:nvSpPr>
            <p:spPr>
              <a:xfrm>
                <a:off x="1744560" y="1930320"/>
                <a:ext cx="363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1422360" y="1835640"/>
                <a:ext cx="946800" cy="186120"/>
                <a:chOff x="1422360" y="1835640"/>
                <a:chExt cx="946800" cy="1861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422360" y="1835640"/>
                  <a:ext cx="379800" cy="18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" rIns="900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73240" y="1838880"/>
                  <a:ext cx="295920" cy="18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" rIns="900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66ff"/>
                      </a:solidFill>
                      <a:latin typeface="Comic Sans MS"/>
                    </a:rPr>
                    <a:t>C3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1430280" y="1163520"/>
              <a:ext cx="1114920" cy="624240"/>
              <a:chOff x="1430280" y="1163520"/>
              <a:chExt cx="1114920" cy="624240"/>
            </a:xfrm>
          </p:grpSpPr>
          <p:sp>
            <p:nvSpPr>
              <p:cNvPr id="265" name=""/>
              <p:cNvSpPr/>
              <p:nvPr/>
            </p:nvSpPr>
            <p:spPr>
              <a:xfrm>
                <a:off x="1430280" y="1192680"/>
                <a:ext cx="37980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" rIns="900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Vir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74800" y="1163520"/>
                <a:ext cx="770400" cy="624240"/>
                <a:chOff x="1774800" y="1163520"/>
                <a:chExt cx="770400" cy="62424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1814760" y="1163520"/>
                  <a:ext cx="417240" cy="231840"/>
                  <a:chOff x="1814760" y="1163520"/>
                  <a:chExt cx="417240" cy="2318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814760" y="1279440"/>
                    <a:ext cx="309240" cy="0"/>
                  </a:xfrm>
                  <a:prstGeom prst="line">
                    <a:avLst/>
                  </a:prstGeom>
                  <a:ln w="7632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00160" y="1163520"/>
                    <a:ext cx="231840" cy="23184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774800" y="1386000"/>
                  <a:ext cx="77040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5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mic Sans MS"/>
                    </a:rPr>
                    <a:t>Membrane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Comic Sans MS"/>
                    </a:rPr>
                    <a:t>Attack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Comic Sans MS"/>
                    </a:rPr>
                    <a:t>Comple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6404040" y="1029240"/>
              <a:ext cx="977760" cy="1218240"/>
              <a:chOff x="6404040" y="1029240"/>
              <a:chExt cx="977760" cy="1218240"/>
            </a:xfrm>
          </p:grpSpPr>
          <p:sp>
            <p:nvSpPr>
              <p:cNvPr id="272" name=""/>
              <p:cNvSpPr/>
              <p:nvPr/>
            </p:nvSpPr>
            <p:spPr>
              <a:xfrm>
                <a:off x="7079760" y="1029240"/>
                <a:ext cx="302040" cy="121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Bacteri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4040" y="1164960"/>
                <a:ext cx="770400" cy="623880"/>
                <a:chOff x="6404040" y="1164960"/>
                <a:chExt cx="770400" cy="62388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6676560" y="1164960"/>
                  <a:ext cx="417240" cy="231840"/>
                  <a:chOff x="6676560" y="1164960"/>
                  <a:chExt cx="417240" cy="2318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>
                    <a:off x="6784560" y="1280880"/>
                    <a:ext cx="309240" cy="0"/>
                  </a:xfrm>
                  <a:prstGeom prst="line">
                    <a:avLst/>
                  </a:prstGeom>
                  <a:ln w="7632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>
                    <a:off x="6676560" y="1164960"/>
                    <a:ext cx="231840" cy="23184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6404040" y="1387080"/>
                  <a:ext cx="77040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5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mic Sans MS"/>
                    </a:rPr>
                    <a:t>Membrane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Comic Sans MS"/>
                    </a:rPr>
                    <a:t>Attack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Comic Sans MS"/>
                    </a:rPr>
                    <a:t>Comple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8" name=""/>
            <p:cNvSpPr/>
            <p:nvPr/>
          </p:nvSpPr>
          <p:spPr>
            <a:xfrm flipH="1">
              <a:off x="2303280" y="1278000"/>
              <a:ext cx="998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64080" y="1287360"/>
              <a:ext cx="1836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45280" y="1041480"/>
              <a:ext cx="37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mic Sans MS"/>
                </a:rPr>
                <a:t>K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61320" y="1060560"/>
              <a:ext cx="37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mic Sans MS"/>
                </a:rPr>
                <a:t>K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458800" y="1482840"/>
              <a:ext cx="833400" cy="396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92520" y="1422360"/>
              <a:ext cx="1960560" cy="1341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10200" y="138420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Comic Sans MS"/>
                </a:rPr>
                <a:t>Opsoni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47160" y="187164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Comic Sans MS"/>
                </a:rPr>
                <a:t>Opsoni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430280" y="1819440"/>
            <a:ext cx="5605560" cy="2246760"/>
            <a:chOff x="1430280" y="1819440"/>
            <a:chExt cx="5605560" cy="2246760"/>
          </a:xfrm>
        </p:grpSpPr>
        <p:sp>
          <p:nvSpPr>
            <p:cNvPr id="287" name=""/>
            <p:cNvSpPr/>
            <p:nvPr/>
          </p:nvSpPr>
          <p:spPr>
            <a:xfrm rot="3803400">
              <a:off x="3801240" y="314676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IFN-</a:t>
              </a:r>
              <a:r>
                <a:rPr b="1" lang="en-US" sz="1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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1836720" y="2100240"/>
              <a:ext cx="2666880" cy="16588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605560" y="3369960"/>
              <a:ext cx="1430280" cy="5238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95160" y="1826640"/>
              <a:ext cx="1096560" cy="340920"/>
            </a:xfrm>
            <a:prstGeom prst="rect">
              <a:avLst/>
            </a:prstGeom>
            <a:solidFill>
              <a:srgbClr val="fa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atural Kill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55000" y="2685240"/>
              <a:ext cx="775080" cy="340920"/>
            </a:xfrm>
            <a:prstGeom prst="rect">
              <a:avLst/>
            </a:prstGeom>
            <a:solidFill>
              <a:srgbClr val="fa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ctivat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K 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30240" y="3191760"/>
              <a:ext cx="1059840" cy="170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acroph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2040" y="3725280"/>
              <a:ext cx="1059840" cy="340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ctivat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acroph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30280" y="2414520"/>
              <a:ext cx="990720" cy="990720"/>
              <a:chOff x="1430280" y="2414520"/>
              <a:chExt cx="990720" cy="990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430280" y="2414520"/>
                <a:ext cx="990720" cy="9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89320" y="2717640"/>
                <a:ext cx="8726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irus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Infect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e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36640" y="2549880"/>
                <a:ext cx="379800" cy="1828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" rIns="900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Vir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H="1">
              <a:off x="2116080" y="1973160"/>
              <a:ext cx="1193760" cy="432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2489040" y="2844720"/>
              <a:ext cx="990720" cy="7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455920" y="3124080"/>
              <a:ext cx="2047680" cy="744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18200" y="1946160"/>
              <a:ext cx="37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mic Sans MS"/>
                </a:rPr>
                <a:t>K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48320" y="2590920"/>
              <a:ext cx="37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mic Sans MS"/>
                </a:rPr>
                <a:t>K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66000" y="3268800"/>
              <a:ext cx="37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mic Sans MS"/>
                </a:rPr>
                <a:t>K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83760" y="299412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Comic Sans MS"/>
                </a:rPr>
                <a:t>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01920" y="341964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Comic Sans MS"/>
                </a:rPr>
                <a:t>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367000" y="2184480"/>
              <a:ext cx="934920" cy="39672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8080" y="2235240"/>
              <a:ext cx="355680" cy="91440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375160" y="1819440"/>
              <a:ext cx="1635120" cy="132048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94280" y="3098880"/>
              <a:ext cx="528480" cy="600120"/>
            </a:xfrm>
            <a:custGeom>
              <a:avLst/>
              <a:gdLst/>
              <a:ahLst/>
              <a:rect l="l" t="t" r="r" b="b"/>
              <a:pathLst>
                <a:path w="333" h="378">
                  <a:moveTo>
                    <a:pt x="0" y="0"/>
                  </a:moveTo>
                  <a:lnTo>
                    <a:pt x="103" y="243"/>
                  </a:lnTo>
                  <a:lnTo>
                    <a:pt x="333" y="378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75280" y="3281400"/>
              <a:ext cx="377640" cy="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62640" y="1930320"/>
              <a:ext cx="1299960" cy="1900440"/>
            </a:xfrm>
            <a:custGeom>
              <a:avLst/>
              <a:gdLst/>
              <a:ahLst/>
              <a:rect l="l" t="t" r="r" b="b"/>
              <a:pathLst>
                <a:path w="819" h="1178">
                  <a:moveTo>
                    <a:pt x="646" y="1178"/>
                  </a:moveTo>
                  <a:lnTo>
                    <a:pt x="819" y="1120"/>
                  </a:lnTo>
                  <a:lnTo>
                    <a:pt x="819" y="41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0" y="2031840"/>
              <a:ext cx="1219320" cy="1697040"/>
            </a:xfrm>
            <a:custGeom>
              <a:avLst/>
              <a:gdLst/>
              <a:ahLst/>
              <a:rect l="l" t="t" r="r" b="b"/>
              <a:pathLst>
                <a:path w="768" h="1069">
                  <a:moveTo>
                    <a:pt x="645" y="1069"/>
                  </a:moveTo>
                  <a:lnTo>
                    <a:pt x="768" y="1029"/>
                  </a:lnTo>
                  <a:lnTo>
                    <a:pt x="768" y="37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4042200">
              <a:off x="4344120" y="243648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IFN-</a:t>
              </a:r>
              <a:r>
                <a:rPr b="1" lang="en-US" sz="1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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140800">
              <a:off x="2600280" y="231660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IFN-</a:t>
              </a:r>
              <a:r>
                <a:rPr b="1" lang="en-US" sz="1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</a:t>
              </a: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,</a:t>
              </a:r>
              <a:r>
                <a:rPr b="1" lang="en-US" sz="1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71000">
              <a:off x="5041800" y="204408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IL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9206000">
              <a:off x="6143400" y="2106000"/>
              <a:ext cx="40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L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59600">
              <a:off x="4917960" y="2306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TN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02040" y="2244600"/>
              <a:ext cx="0" cy="3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9840" y="3403440"/>
              <a:ext cx="0" cy="27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daptiv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e response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Cells and Anti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HC Molecules and Antigen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ells and Cytok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oid Organs and Lymphocyte Traffi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nce Induction and MHC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 flipV="1">
            <a:off x="1177920" y="2631600"/>
            <a:ext cx="334800" cy="451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6348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ive Immun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16040" y="3081240"/>
            <a:ext cx="565200" cy="565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3680" y="363528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67080" y="3122640"/>
            <a:ext cx="565200" cy="5652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25520" y="2031840"/>
            <a:ext cx="565200" cy="565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74960" y="2597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48120" y="3635280"/>
            <a:ext cx="12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mpho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e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120" y="200808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Lymph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48920" y="419256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Lymph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06840" y="1460520"/>
            <a:ext cx="588960" cy="650880"/>
          </a:xfrm>
          <a:custGeom>
            <a:avLst/>
            <a:gdLst>
              <a:gd name="textAreaLeft" fmla="*/ 134280 w 588960"/>
              <a:gd name="textAreaRight" fmla="*/ 454680 w 588960"/>
              <a:gd name="textAreaTop" fmla="*/ 148320 h 650880"/>
              <a:gd name="textAreaBottom" fmla="*/ 5025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86000" y="3405240"/>
            <a:ext cx="1062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083040" y="1881360"/>
            <a:ext cx="1422360" cy="1442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71880" y="3349800"/>
            <a:ext cx="1431720" cy="448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6960" y="5265720"/>
            <a:ext cx="373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s of the immune system originate in the bone marrow and descend from self-renewing stem ce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2920" y="1325520"/>
            <a:ext cx="321804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B cell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mature in bone marrow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lasma B Cell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re antibody factories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Memory B Cell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remember past in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00600" y="3570120"/>
            <a:ext cx="324828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 cell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ure  in thymus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elper T Cell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Th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kine factories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Killer T cells (CTL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kill cells or cause them to kill themsel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18000" y="3591000"/>
            <a:ext cx="565200" cy="565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c19a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(human) immu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the interaction among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icial immun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3008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 Cell Receptors (BCRs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Anti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81360" y="1863360"/>
            <a:ext cx="411984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 cell produces BCRs with a single typ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bodies are (essentially) free B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rm (Fab) binds to the same 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binds to receptors on immune cells (such as macroph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~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-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9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antibodies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68440" y="2244600"/>
            <a:ext cx="3890880" cy="2971080"/>
            <a:chOff x="568440" y="2244600"/>
            <a:chExt cx="3890880" cy="2971080"/>
          </a:xfrm>
        </p:grpSpPr>
        <p:sp>
          <p:nvSpPr>
            <p:cNvPr id="343" name=""/>
            <p:cNvSpPr/>
            <p:nvPr/>
          </p:nvSpPr>
          <p:spPr>
            <a:xfrm>
              <a:off x="1621080" y="487836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mmunoglobin G (Ig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0160" y="2494080"/>
              <a:ext cx="65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Light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Ch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99960" y="224460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Heavy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Ch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84000" y="3187800"/>
              <a:ext cx="290520" cy="376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71360" y="3568680"/>
              <a:ext cx="0" cy="1212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5560" y="2313000"/>
              <a:ext cx="162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Antigen Binding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Region (Fa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7720" y="4011480"/>
              <a:ext cx="1096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Constant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Region (F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8440" y="3149640"/>
              <a:ext cx="110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Variable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Region (F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650600" y="2759040"/>
              <a:ext cx="2221200" cy="2003400"/>
              <a:chOff x="1650600" y="2759040"/>
              <a:chExt cx="2221200" cy="2003400"/>
            </a:xfrm>
          </p:grpSpPr>
          <p:sp>
            <p:nvSpPr>
              <p:cNvPr id="352" name=""/>
              <p:cNvSpPr/>
              <p:nvPr/>
            </p:nvSpPr>
            <p:spPr>
              <a:xfrm>
                <a:off x="2684160" y="3614760"/>
                <a:ext cx="1494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84160" y="3686040"/>
                <a:ext cx="1494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2844720" y="2759040"/>
                <a:ext cx="1027080" cy="2003400"/>
                <a:chOff x="2844720" y="2759040"/>
                <a:chExt cx="1027080" cy="20034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111480" y="3535560"/>
                  <a:ext cx="141120" cy="104760"/>
                </a:xfrm>
                <a:custGeom>
                  <a:avLst/>
                  <a:gdLst/>
                  <a:ahLst/>
                  <a:rect l="l" t="t" r="r" b="b"/>
                  <a:pathLst>
                    <a:path w="89" h="66">
                      <a:moveTo>
                        <a:pt x="89" y="6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850840" y="2759040"/>
                  <a:ext cx="738360" cy="2003400"/>
                </a:xfrm>
                <a:custGeom>
                  <a:avLst/>
                  <a:gdLst/>
                  <a:ahLst/>
                  <a:rect l="l" t="t" r="r" b="b"/>
                  <a:pathLst>
                    <a:path w="465" h="1262">
                      <a:moveTo>
                        <a:pt x="373" y="0"/>
                      </a:moveTo>
                      <a:lnTo>
                        <a:pt x="465" y="69"/>
                      </a:lnTo>
                      <a:lnTo>
                        <a:pt x="102" y="564"/>
                      </a:lnTo>
                      <a:lnTo>
                        <a:pt x="102" y="1262"/>
                      </a:lnTo>
                      <a:lnTo>
                        <a:pt x="0" y="1262"/>
                      </a:lnTo>
                      <a:lnTo>
                        <a:pt x="0" y="506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224160" y="2975040"/>
                  <a:ext cx="647640" cy="779400"/>
                </a:xfrm>
                <a:custGeom>
                  <a:avLst/>
                  <a:gdLst/>
                  <a:ahLst/>
                  <a:rect l="l" t="t" r="r" b="b"/>
                  <a:pathLst>
                    <a:path w="408" h="491">
                      <a:moveTo>
                        <a:pt x="319" y="0"/>
                      </a:moveTo>
                      <a:lnTo>
                        <a:pt x="408" y="64"/>
                      </a:lnTo>
                      <a:lnTo>
                        <a:pt x="88" y="491"/>
                      </a:lnTo>
                      <a:lnTo>
                        <a:pt x="0" y="424"/>
                      </a:lnTo>
                      <a:lnTo>
                        <a:pt x="31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4720" y="3175200"/>
                  <a:ext cx="425520" cy="1582560"/>
                </a:xfrm>
                <a:custGeom>
                  <a:avLst/>
                  <a:gdLst/>
                  <a:ahLst/>
                  <a:rect l="l" t="t" r="r" b="b"/>
                  <a:pathLst>
                    <a:path w="268" h="997">
                      <a:moveTo>
                        <a:pt x="180" y="0"/>
                      </a:moveTo>
                      <a:lnTo>
                        <a:pt x="0" y="248"/>
                      </a:lnTo>
                      <a:lnTo>
                        <a:pt x="0" y="997"/>
                      </a:lnTo>
                      <a:lnTo>
                        <a:pt x="112" y="997"/>
                      </a:lnTo>
                      <a:lnTo>
                        <a:pt x="112" y="296"/>
                      </a:lnTo>
                      <a:lnTo>
                        <a:pt x="268" y="74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19120" y="3390840"/>
                  <a:ext cx="343080" cy="368280"/>
                </a:xfrm>
                <a:custGeom>
                  <a:avLst/>
                  <a:gdLst/>
                  <a:ahLst/>
                  <a:rect l="l" t="t" r="r" b="b"/>
                  <a:pathLst>
                    <a:path w="216" h="232">
                      <a:moveTo>
                        <a:pt x="125" y="0"/>
                      </a:moveTo>
                      <a:lnTo>
                        <a:pt x="0" y="162"/>
                      </a:lnTo>
                      <a:lnTo>
                        <a:pt x="91" y="232"/>
                      </a:lnTo>
                      <a:lnTo>
                        <a:pt x="216" y="64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50600" y="2759040"/>
                <a:ext cx="1027080" cy="2003400"/>
                <a:chOff x="1650600" y="2759040"/>
                <a:chExt cx="1027080" cy="2003400"/>
              </a:xfrm>
            </p:grpSpPr>
            <p:sp>
              <p:nvSpPr>
                <p:cNvPr id="361" name=""/>
                <p:cNvSpPr/>
                <p:nvPr/>
              </p:nvSpPr>
              <p:spPr>
                <a:xfrm flipH="1">
                  <a:off x="2269800" y="3535560"/>
                  <a:ext cx="141120" cy="104760"/>
                </a:xfrm>
                <a:custGeom>
                  <a:avLst/>
                  <a:gdLst/>
                  <a:ahLst/>
                  <a:rect l="l" t="t" r="r" b="b"/>
                  <a:pathLst>
                    <a:path w="89" h="66">
                      <a:moveTo>
                        <a:pt x="89" y="6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1932840" y="2759040"/>
                  <a:ext cx="738360" cy="2003400"/>
                </a:xfrm>
                <a:custGeom>
                  <a:avLst/>
                  <a:gdLst/>
                  <a:ahLst/>
                  <a:rect l="l" t="t" r="r" b="b"/>
                  <a:pathLst>
                    <a:path w="465" h="1262">
                      <a:moveTo>
                        <a:pt x="373" y="0"/>
                      </a:moveTo>
                      <a:lnTo>
                        <a:pt x="465" y="69"/>
                      </a:lnTo>
                      <a:lnTo>
                        <a:pt x="102" y="564"/>
                      </a:lnTo>
                      <a:lnTo>
                        <a:pt x="102" y="1262"/>
                      </a:lnTo>
                      <a:lnTo>
                        <a:pt x="0" y="1262"/>
                      </a:lnTo>
                      <a:lnTo>
                        <a:pt x="0" y="506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1650240" y="2975040"/>
                  <a:ext cx="647640" cy="779400"/>
                </a:xfrm>
                <a:custGeom>
                  <a:avLst/>
                  <a:gdLst/>
                  <a:ahLst/>
                  <a:rect l="l" t="t" r="r" b="b"/>
                  <a:pathLst>
                    <a:path w="408" h="491">
                      <a:moveTo>
                        <a:pt x="319" y="0"/>
                      </a:moveTo>
                      <a:lnTo>
                        <a:pt x="408" y="64"/>
                      </a:lnTo>
                      <a:lnTo>
                        <a:pt x="88" y="491"/>
                      </a:lnTo>
                      <a:lnTo>
                        <a:pt x="0" y="424"/>
                      </a:lnTo>
                      <a:lnTo>
                        <a:pt x="31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2252160" y="3175200"/>
                  <a:ext cx="425520" cy="1582560"/>
                </a:xfrm>
                <a:custGeom>
                  <a:avLst/>
                  <a:gdLst/>
                  <a:ahLst/>
                  <a:rect l="l" t="t" r="r" b="b"/>
                  <a:pathLst>
                    <a:path w="268" h="997">
                      <a:moveTo>
                        <a:pt x="180" y="0"/>
                      </a:moveTo>
                      <a:lnTo>
                        <a:pt x="0" y="248"/>
                      </a:lnTo>
                      <a:lnTo>
                        <a:pt x="0" y="997"/>
                      </a:lnTo>
                      <a:lnTo>
                        <a:pt x="112" y="997"/>
                      </a:lnTo>
                      <a:lnTo>
                        <a:pt x="112" y="296"/>
                      </a:lnTo>
                      <a:lnTo>
                        <a:pt x="268" y="74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1959840" y="3390840"/>
                  <a:ext cx="343080" cy="368280"/>
                </a:xfrm>
                <a:custGeom>
                  <a:avLst/>
                  <a:gdLst/>
                  <a:ahLst/>
                  <a:rect l="l" t="t" r="r" b="b"/>
                  <a:pathLst>
                    <a:path w="216" h="232">
                      <a:moveTo>
                        <a:pt x="125" y="0"/>
                      </a:moveTo>
                      <a:lnTo>
                        <a:pt x="0" y="162"/>
                      </a:lnTo>
                      <a:lnTo>
                        <a:pt x="91" y="232"/>
                      </a:lnTo>
                      <a:lnTo>
                        <a:pt x="216" y="64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792720" y="1913040"/>
            <a:ext cx="3920040" cy="2477880"/>
            <a:chOff x="792720" y="1913040"/>
            <a:chExt cx="3920040" cy="2477880"/>
          </a:xfrm>
        </p:grpSpPr>
        <p:sp>
          <p:nvSpPr>
            <p:cNvPr id="368" name=""/>
            <p:cNvSpPr/>
            <p:nvPr/>
          </p:nvSpPr>
          <p:spPr>
            <a:xfrm>
              <a:off x="2461320" y="1913040"/>
              <a:ext cx="24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792720" y="2063880"/>
              <a:ext cx="3920040" cy="2327040"/>
              <a:chOff x="792720" y="2063880"/>
              <a:chExt cx="3920040" cy="2327040"/>
            </a:xfrm>
          </p:grpSpPr>
          <p:sp>
            <p:nvSpPr>
              <p:cNvPr id="370" name=""/>
              <p:cNvSpPr/>
              <p:nvPr/>
            </p:nvSpPr>
            <p:spPr>
              <a:xfrm>
                <a:off x="901440" y="3202560"/>
                <a:ext cx="2301480" cy="1139040"/>
              </a:xfrm>
              <a:prstGeom prst="irregularSeal2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2407320" y="3055680"/>
                <a:ext cx="178200" cy="265320"/>
                <a:chOff x="2407320" y="3055680"/>
                <a:chExt cx="178200" cy="265320"/>
              </a:xfrm>
            </p:grpSpPr>
            <p:sp>
              <p:nvSpPr>
                <p:cNvPr id="372" name=""/>
                <p:cNvSpPr/>
                <p:nvPr/>
              </p:nvSpPr>
              <p:spPr>
                <a:xfrm rot="1599600">
                  <a:off x="2450880" y="3113640"/>
                  <a:ext cx="7416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599600">
                  <a:off x="2433600" y="3083400"/>
                  <a:ext cx="14256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2407320" y="3186360"/>
                  <a:ext cx="64440" cy="134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433960" y="3124440"/>
                <a:ext cx="217800" cy="248040"/>
                <a:chOff x="2433960" y="3124440"/>
                <a:chExt cx="217800" cy="248040"/>
              </a:xfrm>
            </p:grpSpPr>
            <p:sp>
              <p:nvSpPr>
                <p:cNvPr id="376" name=""/>
                <p:cNvSpPr/>
                <p:nvPr/>
              </p:nvSpPr>
              <p:spPr>
                <a:xfrm rot="2359200">
                  <a:off x="2512800" y="3186720"/>
                  <a:ext cx="7416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2359200">
                  <a:off x="2501640" y="3161160"/>
                  <a:ext cx="14256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2433960" y="3255120"/>
                  <a:ext cx="92160" cy="117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2843640" y="3373920"/>
                <a:ext cx="260280" cy="190080"/>
                <a:chOff x="2843640" y="3373920"/>
                <a:chExt cx="260280" cy="190080"/>
              </a:xfrm>
            </p:grpSpPr>
            <p:sp>
              <p:nvSpPr>
                <p:cNvPr id="380" name=""/>
                <p:cNvSpPr/>
                <p:nvPr/>
              </p:nvSpPr>
              <p:spPr>
                <a:xfrm rot="3674400">
                  <a:off x="2968560" y="343296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3674400">
                  <a:off x="2965320" y="3417120"/>
                  <a:ext cx="14292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2843640" y="3489480"/>
                  <a:ext cx="128520" cy="745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494080" y="2822400"/>
                <a:ext cx="235440" cy="320400"/>
                <a:chOff x="2494080" y="2822400"/>
                <a:chExt cx="235440" cy="320400"/>
              </a:xfrm>
            </p:grpSpPr>
            <p:sp>
              <p:nvSpPr>
                <p:cNvPr id="384" name=""/>
                <p:cNvSpPr/>
                <p:nvPr/>
              </p:nvSpPr>
              <p:spPr>
                <a:xfrm flipH="1" rot="1915200">
                  <a:off x="2693880" y="288252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rot="1915200">
                  <a:off x="2609640" y="283032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rot="1915200">
                  <a:off x="2599200" y="2864880"/>
                  <a:ext cx="95760" cy="6444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8720" bIns="18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2494080" y="2923560"/>
                  <a:ext cx="136440" cy="2192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2555640" y="2981160"/>
                <a:ext cx="318240" cy="239040"/>
                <a:chOff x="2555640" y="2981160"/>
                <a:chExt cx="318240" cy="239040"/>
              </a:xfrm>
            </p:grpSpPr>
            <p:sp>
              <p:nvSpPr>
                <p:cNvPr id="389" name=""/>
                <p:cNvSpPr/>
                <p:nvPr/>
              </p:nvSpPr>
              <p:spPr>
                <a:xfrm flipH="1" rot="3407400">
                  <a:off x="2841120" y="3075120"/>
                  <a:ext cx="33840" cy="1440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320" bIns="-31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3407400">
                  <a:off x="2786760" y="2991960"/>
                  <a:ext cx="33840" cy="1440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320" bIns="-31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rot="3407400">
                  <a:off x="2749680" y="3030120"/>
                  <a:ext cx="96120" cy="6408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8360" bIns="18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2555640" y="3079080"/>
                  <a:ext cx="215640" cy="141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968560" y="2542320"/>
                <a:ext cx="91440" cy="165240"/>
                <a:chOff x="2968560" y="2542320"/>
                <a:chExt cx="91440" cy="165240"/>
              </a:xfrm>
            </p:grpSpPr>
            <p:sp>
              <p:nvSpPr>
                <p:cNvPr id="394" name=""/>
                <p:cNvSpPr/>
                <p:nvPr/>
              </p:nvSpPr>
              <p:spPr>
                <a:xfrm rot="945600">
                  <a:off x="2976840" y="2550960"/>
                  <a:ext cx="7416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2976480" y="2625120"/>
                  <a:ext cx="23400" cy="824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598480" y="2395800"/>
                <a:ext cx="74520" cy="161280"/>
                <a:chOff x="2598480" y="2395800"/>
                <a:chExt cx="74520" cy="161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598480" y="2395800"/>
                  <a:ext cx="74520" cy="7452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31960" y="247176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 rot="1914600">
                <a:off x="2545920" y="2757600"/>
                <a:ext cx="974160" cy="142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845440" y="2472480"/>
                <a:ext cx="120240" cy="155160"/>
                <a:chOff x="2845440" y="2472480"/>
                <a:chExt cx="120240" cy="155160"/>
              </a:xfrm>
            </p:grpSpPr>
            <p:sp>
              <p:nvSpPr>
                <p:cNvPr id="401" name=""/>
                <p:cNvSpPr/>
                <p:nvPr/>
              </p:nvSpPr>
              <p:spPr>
                <a:xfrm rot="1914600">
                  <a:off x="2876760" y="248616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2845440" y="2554920"/>
                  <a:ext cx="4500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184920" y="2694960"/>
                <a:ext cx="120240" cy="154800"/>
                <a:chOff x="3184920" y="2694960"/>
                <a:chExt cx="120240" cy="154800"/>
              </a:xfrm>
            </p:grpSpPr>
            <p:sp>
              <p:nvSpPr>
                <p:cNvPr id="404" name=""/>
                <p:cNvSpPr/>
                <p:nvPr/>
              </p:nvSpPr>
              <p:spPr>
                <a:xfrm rot="1914600">
                  <a:off x="3216600" y="2708640"/>
                  <a:ext cx="7416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3184920" y="2777040"/>
                  <a:ext cx="4536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588400" y="2698200"/>
                <a:ext cx="113760" cy="159120"/>
                <a:chOff x="2588400" y="2698200"/>
                <a:chExt cx="113760" cy="159120"/>
              </a:xfrm>
            </p:grpSpPr>
            <p:sp>
              <p:nvSpPr>
                <p:cNvPr id="407" name=""/>
                <p:cNvSpPr/>
                <p:nvPr/>
              </p:nvSpPr>
              <p:spPr>
                <a:xfrm flipV="1" rot="1915200">
                  <a:off x="2602440" y="276804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2657160" y="2698200"/>
                  <a:ext cx="4500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456000" y="3087000"/>
                <a:ext cx="154440" cy="120240"/>
                <a:chOff x="3456000" y="3087000"/>
                <a:chExt cx="154440" cy="120240"/>
              </a:xfrm>
            </p:grpSpPr>
            <p:sp>
              <p:nvSpPr>
                <p:cNvPr id="410" name=""/>
                <p:cNvSpPr/>
                <p:nvPr/>
              </p:nvSpPr>
              <p:spPr>
                <a:xfrm rot="7314600">
                  <a:off x="3521520" y="3118320"/>
                  <a:ext cx="74520" cy="7452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 flipV="1">
                  <a:off x="3456000" y="3087000"/>
                  <a:ext cx="72360" cy="45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699640" y="2767680"/>
                <a:ext cx="113760" cy="159480"/>
                <a:chOff x="2699640" y="2767680"/>
                <a:chExt cx="113760" cy="159480"/>
              </a:xfrm>
            </p:grpSpPr>
            <p:sp>
              <p:nvSpPr>
                <p:cNvPr id="413" name=""/>
                <p:cNvSpPr/>
                <p:nvPr/>
              </p:nvSpPr>
              <p:spPr>
                <a:xfrm flipV="1" rot="1915200">
                  <a:off x="2713680" y="2837880"/>
                  <a:ext cx="7416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2768040" y="2767680"/>
                  <a:ext cx="4536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790000" y="2863440"/>
                <a:ext cx="113760" cy="158400"/>
                <a:chOff x="2790000" y="2863440"/>
                <a:chExt cx="113760" cy="158400"/>
              </a:xfrm>
            </p:grpSpPr>
            <p:sp>
              <p:nvSpPr>
                <p:cNvPr id="416" name=""/>
                <p:cNvSpPr/>
                <p:nvPr/>
              </p:nvSpPr>
              <p:spPr>
                <a:xfrm flipV="1" rot="1915200">
                  <a:off x="2803680" y="2933640"/>
                  <a:ext cx="74520" cy="7416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2858760" y="2863440"/>
                  <a:ext cx="45000" cy="72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098160" y="3015360"/>
                <a:ext cx="113760" cy="159480"/>
                <a:chOff x="3098160" y="3015360"/>
                <a:chExt cx="113760" cy="159480"/>
              </a:xfrm>
            </p:grpSpPr>
            <p:sp>
              <p:nvSpPr>
                <p:cNvPr id="419" name=""/>
                <p:cNvSpPr/>
                <p:nvPr/>
              </p:nvSpPr>
              <p:spPr>
                <a:xfrm flipV="1" rot="1915200">
                  <a:off x="3112200" y="3085560"/>
                  <a:ext cx="7416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3166560" y="3015360"/>
                  <a:ext cx="4536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3003480" y="3144960"/>
                <a:ext cx="235080" cy="319680"/>
                <a:chOff x="3003480" y="3144960"/>
                <a:chExt cx="235080" cy="31968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915200">
                  <a:off x="3202920" y="320508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915200">
                  <a:off x="3119040" y="315288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rot="1915200">
                  <a:off x="3108600" y="3187440"/>
                  <a:ext cx="95760" cy="6444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8720" bIns="18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3003480" y="3246120"/>
                  <a:ext cx="136080" cy="2185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456360" y="3186000"/>
                <a:ext cx="151920" cy="342000"/>
                <a:chOff x="3456360" y="3186000"/>
                <a:chExt cx="151920" cy="342000"/>
              </a:xfrm>
            </p:grpSpPr>
            <p:sp>
              <p:nvSpPr>
                <p:cNvPr id="427" name=""/>
                <p:cNvSpPr/>
                <p:nvPr/>
              </p:nvSpPr>
              <p:spPr>
                <a:xfrm flipH="1" rot="20680800">
                  <a:off x="3552480" y="318996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 rot="20680800">
                  <a:off x="3457080" y="321624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rot="20680800">
                  <a:off x="3484440" y="3216240"/>
                  <a:ext cx="95760" cy="6480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9080" bIns="19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539880" y="3279600"/>
                  <a:ext cx="68400" cy="2484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930760" y="2248200"/>
                <a:ext cx="235440" cy="320400"/>
                <a:chOff x="2930760" y="2248200"/>
                <a:chExt cx="235440" cy="320400"/>
              </a:xfrm>
            </p:grpSpPr>
            <p:sp>
              <p:nvSpPr>
                <p:cNvPr id="432" name=""/>
                <p:cNvSpPr/>
                <p:nvPr/>
              </p:nvSpPr>
              <p:spPr>
                <a:xfrm flipH="1" rot="12715200">
                  <a:off x="2931480" y="249408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 rot="12715200">
                  <a:off x="3015720" y="254628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 rot="12715200">
                  <a:off x="2964240" y="2461320"/>
                  <a:ext cx="95760" cy="6444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8720" bIns="18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V="1">
                  <a:off x="3029760" y="2248200"/>
                  <a:ext cx="136440" cy="2192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256200" y="2473560"/>
                <a:ext cx="235440" cy="320400"/>
                <a:chOff x="3256200" y="2473560"/>
                <a:chExt cx="235440" cy="320400"/>
              </a:xfrm>
            </p:grpSpPr>
            <p:sp>
              <p:nvSpPr>
                <p:cNvPr id="437" name=""/>
                <p:cNvSpPr/>
                <p:nvPr/>
              </p:nvSpPr>
              <p:spPr>
                <a:xfrm flipH="1" rot="12715200">
                  <a:off x="3256920" y="271944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rot="12715200">
                  <a:off x="3341160" y="277164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rot="12715200">
                  <a:off x="3289680" y="2686680"/>
                  <a:ext cx="95760" cy="6444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8720" bIns="18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3355200" y="2473560"/>
                  <a:ext cx="136440" cy="2192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579040" y="2071080"/>
                <a:ext cx="163800" cy="341280"/>
                <a:chOff x="2579040" y="2071080"/>
                <a:chExt cx="163800" cy="341280"/>
              </a:xfrm>
            </p:grpSpPr>
            <p:sp>
              <p:nvSpPr>
                <p:cNvPr id="442" name=""/>
                <p:cNvSpPr/>
                <p:nvPr/>
              </p:nvSpPr>
              <p:spPr>
                <a:xfrm flipH="1" rot="9746400">
                  <a:off x="2612880" y="2392920"/>
                  <a:ext cx="33840" cy="1440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320" bIns="-31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 rot="9746400">
                  <a:off x="2707560" y="2363040"/>
                  <a:ext cx="33840" cy="1440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320" bIns="-31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rot="9746400">
                  <a:off x="2617560" y="2315160"/>
                  <a:ext cx="95760" cy="6444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8720" bIns="18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>
                  <a:off x="2579040" y="2071080"/>
                  <a:ext cx="77760" cy="2458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3049920" y="2063880"/>
                <a:ext cx="2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367440" y="2298960"/>
                <a:ext cx="2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370600" y="2968920"/>
                <a:ext cx="2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424600" y="3051360"/>
                <a:ext cx="2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78560" y="3295800"/>
                <a:ext cx="2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81920" y="3346560"/>
                <a:ext cx="2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2686320" y="3785400"/>
                <a:ext cx="262080" cy="145440"/>
                <a:chOff x="2686320" y="3785400"/>
                <a:chExt cx="262080" cy="145440"/>
              </a:xfrm>
            </p:grpSpPr>
            <p:sp>
              <p:nvSpPr>
                <p:cNvPr id="453" name=""/>
                <p:cNvSpPr/>
                <p:nvPr/>
              </p:nvSpPr>
              <p:spPr>
                <a:xfrm rot="5523000">
                  <a:off x="2836800" y="381852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523000">
                  <a:off x="2836800" y="3820680"/>
                  <a:ext cx="14292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>
                  <a:off x="2686320" y="3853080"/>
                  <a:ext cx="148680" cy="2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1073520" y="4102920"/>
                <a:ext cx="262080" cy="185760"/>
                <a:chOff x="1073520" y="4102920"/>
                <a:chExt cx="262080" cy="185760"/>
              </a:xfrm>
            </p:grpSpPr>
            <p:sp>
              <p:nvSpPr>
                <p:cNvPr id="457" name=""/>
                <p:cNvSpPr/>
                <p:nvPr/>
              </p:nvSpPr>
              <p:spPr>
                <a:xfrm rot="14556600">
                  <a:off x="1132920" y="415548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14556600">
                  <a:off x="1068120" y="4170600"/>
                  <a:ext cx="14292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1204920" y="4102920"/>
                  <a:ext cx="130680" cy="71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1010520" y="3486960"/>
                <a:ext cx="266760" cy="171720"/>
                <a:chOff x="1010520" y="3486960"/>
                <a:chExt cx="266760" cy="171720"/>
              </a:xfrm>
            </p:grpSpPr>
            <p:sp>
              <p:nvSpPr>
                <p:cNvPr id="461" name=""/>
                <p:cNvSpPr/>
                <p:nvPr/>
              </p:nvSpPr>
              <p:spPr>
                <a:xfrm rot="17696400">
                  <a:off x="1067760" y="35456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17696400">
                  <a:off x="1002960" y="3530160"/>
                  <a:ext cx="14292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141200" y="3598920"/>
                  <a:ext cx="136080" cy="597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1647720" y="3284640"/>
                <a:ext cx="227160" cy="240480"/>
                <a:chOff x="1647720" y="3284640"/>
                <a:chExt cx="227160" cy="240480"/>
              </a:xfrm>
            </p:grpSpPr>
            <p:sp>
              <p:nvSpPr>
                <p:cNvPr id="465" name=""/>
                <p:cNvSpPr/>
                <p:nvPr/>
              </p:nvSpPr>
              <p:spPr>
                <a:xfrm rot="19120800">
                  <a:off x="1710360" y="3349080"/>
                  <a:ext cx="7416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9120800">
                  <a:off x="1654560" y="3322080"/>
                  <a:ext cx="14256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74080" y="3414960"/>
                  <a:ext cx="100800" cy="110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816920" y="4125240"/>
                <a:ext cx="149040" cy="265680"/>
                <a:chOff x="1816920" y="4125240"/>
                <a:chExt cx="149040" cy="265680"/>
              </a:xfrm>
            </p:grpSpPr>
            <p:sp>
              <p:nvSpPr>
                <p:cNvPr id="469" name=""/>
                <p:cNvSpPr/>
                <p:nvPr/>
              </p:nvSpPr>
              <p:spPr>
                <a:xfrm rot="10463400">
                  <a:off x="1852200" y="4274640"/>
                  <a:ext cx="7416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0463400">
                  <a:off x="1819800" y="4309200"/>
                  <a:ext cx="14256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 flipV="1">
                  <a:off x="1867320" y="4125240"/>
                  <a:ext cx="17280" cy="148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2330280" y="4042080"/>
                <a:ext cx="233280" cy="235080"/>
                <a:chOff x="2330280" y="4042080"/>
                <a:chExt cx="233280" cy="235080"/>
              </a:xfrm>
            </p:grpSpPr>
            <p:sp>
              <p:nvSpPr>
                <p:cNvPr id="473" name=""/>
                <p:cNvSpPr/>
                <p:nvPr/>
              </p:nvSpPr>
              <p:spPr>
                <a:xfrm rot="8164200">
                  <a:off x="2426400" y="4137480"/>
                  <a:ext cx="74160" cy="7452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8164200">
                  <a:off x="2414880" y="4163400"/>
                  <a:ext cx="142560" cy="7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2330280" y="4042080"/>
                  <a:ext cx="105120" cy="10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1568160" y="2330640"/>
                <a:ext cx="933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ntibod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2720" y="2711520"/>
                <a:ext cx="138312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Receptor (Fcr)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for Fc Region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of Antibod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189160" y="2603520"/>
                <a:ext cx="342360" cy="374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11320" y="3086280"/>
                <a:ext cx="406080" cy="1332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40320" y="2463840"/>
                <a:ext cx="1072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Opsoniz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Bacteri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738680" y="2025720"/>
            <a:ext cx="405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ie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pson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for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to Fcr receptors increases level of phagocyt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ize viruses by blocking binding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act complement proteins for MAC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93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 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5320" y="1430280"/>
            <a:ext cx="38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ed ~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-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antibody typ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n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a lot of B cells with different BC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B cell recognizes its “cognate” antigen, make a lot of clones (~12 hours to divide; ~20,000 clones in a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ill become plasma cells and secrete lots of anti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R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mix and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atic hyperm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344880" y="1990800"/>
            <a:ext cx="4571280" cy="2727000"/>
            <a:chOff x="344880" y="1990800"/>
            <a:chExt cx="4571280" cy="2727000"/>
          </a:xfrm>
        </p:grpSpPr>
        <p:grpSp>
          <p:nvGrpSpPr>
            <p:cNvPr id="486" name=""/>
            <p:cNvGrpSpPr/>
            <p:nvPr/>
          </p:nvGrpSpPr>
          <p:grpSpPr>
            <a:xfrm>
              <a:off x="1609560" y="3846600"/>
              <a:ext cx="3306600" cy="536040"/>
              <a:chOff x="1609560" y="3846600"/>
              <a:chExt cx="3306600" cy="536040"/>
            </a:xfrm>
          </p:grpSpPr>
          <p:sp>
            <p:nvSpPr>
              <p:cNvPr id="487" name=""/>
              <p:cNvSpPr/>
              <p:nvPr/>
            </p:nvSpPr>
            <p:spPr>
              <a:xfrm>
                <a:off x="1609560" y="4268520"/>
                <a:ext cx="33066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709720" y="4176360"/>
                <a:ext cx="207720" cy="1839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076200" y="4176360"/>
                <a:ext cx="74880" cy="1839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342960" y="4167000"/>
                <a:ext cx="203400" cy="202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750840" y="4154400"/>
                <a:ext cx="228600" cy="228240"/>
              </a:xfrm>
              <a:prstGeom prst="diamond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648880" y="3846600"/>
                <a:ext cx="322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V</a:t>
                </a:r>
                <a:r>
                  <a:rPr b="0" lang="en-US" sz="1200" spc="-1" strike="noStrike" baseline="-25000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58840" y="3846600"/>
                <a:ext cx="342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D</a:t>
                </a:r>
                <a:r>
                  <a:rPr b="0" lang="en-US" sz="1200" spc="-1" strike="noStrike" baseline="-25000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95080" y="3846600"/>
                <a:ext cx="272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J</a:t>
                </a:r>
                <a:r>
                  <a:rPr b="0" lang="en-US" sz="12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84240" y="3846600"/>
                <a:ext cx="357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r>
                  <a:rPr b="0" lang="en-US" sz="1200" spc="-1" strike="noStrike" baseline="-25000">
                    <a:solidFill>
                      <a:srgbClr val="ff0000"/>
                    </a:solidFill>
                    <a:latin typeface="Comic Sans MS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63680" y="4154400"/>
                <a:ext cx="228600" cy="228240"/>
              </a:xfrm>
              <a:prstGeom prst="diamond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15440" y="3846600"/>
                <a:ext cx="340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r>
                  <a:rPr b="0" lang="en-US" sz="1200" spc="-1" strike="noStrike" baseline="-25000">
                    <a:solidFill>
                      <a:srgbClr val="ff0000"/>
                    </a:solidFill>
                    <a:latin typeface="Comic Sans MS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456120" y="3984480"/>
              <a:ext cx="145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Mature 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B cell DNA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for heavy ch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47840" y="3008160"/>
              <a:ext cx="0" cy="87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76640" y="2948040"/>
              <a:ext cx="1424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Choice of gene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segments by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re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44880" y="1990800"/>
              <a:ext cx="4453920" cy="959400"/>
              <a:chOff x="344880" y="1990800"/>
              <a:chExt cx="4453920" cy="95940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1491840" y="1990800"/>
                <a:ext cx="3306960" cy="536400"/>
                <a:chOff x="1491840" y="1990800"/>
                <a:chExt cx="3306960" cy="5364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491840" y="2413080"/>
                  <a:ext cx="33069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701720" y="2320920"/>
                  <a:ext cx="207720" cy="1839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6000" y="2320920"/>
                  <a:ext cx="207720" cy="1839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30280" y="2320920"/>
                  <a:ext cx="207720" cy="1839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84240" y="2320920"/>
                  <a:ext cx="74520" cy="1839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958840" y="2320920"/>
                  <a:ext cx="74520" cy="1839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403440" y="2311200"/>
                  <a:ext cx="203040" cy="20340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714480" y="2311200"/>
                  <a:ext cx="203040" cy="20340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08320" y="2298600"/>
                  <a:ext cx="228600" cy="228600"/>
                </a:xfrm>
                <a:prstGeom prst="diamond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626480" y="1990800"/>
                  <a:ext cx="3225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V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74240" y="1990800"/>
                  <a:ext cx="3225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V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69440" y="1990800"/>
                  <a:ext cx="3225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V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21160" y="1990800"/>
                  <a:ext cx="342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D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841480" y="1990800"/>
                  <a:ext cx="342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D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55200" y="1990800"/>
                  <a:ext cx="2721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J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041360" y="1990800"/>
                  <a:ext cx="3574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701520" y="1990800"/>
                  <a:ext cx="2721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J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420800" y="2298600"/>
                  <a:ext cx="228600" cy="228600"/>
                </a:xfrm>
                <a:prstGeom prst="diamond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72560" y="1990800"/>
                  <a:ext cx="3409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r>
                    <a:rPr b="0" lang="en-US" sz="1200" spc="-1" strike="noStrike" baseline="-25000">
                      <a:solidFill>
                        <a:srgbClr val="ff0000"/>
                      </a:solidFill>
                      <a:latin typeface="Comic Sans MS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344880" y="2104920"/>
                <a:ext cx="1458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Immatur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B cell DNA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for heavy ch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50600" y="2558880"/>
                <a:ext cx="922320" cy="127080"/>
              </a:xfrm>
              <a:custGeom>
                <a:avLst/>
                <a:gdLst/>
                <a:ahLst/>
                <a:rect l="l" t="t" r="r" b="b"/>
                <a:pathLst>
                  <a:path w="581" h="80">
                    <a:moveTo>
                      <a:pt x="0" y="0"/>
                    </a:moveTo>
                    <a:lnTo>
                      <a:pt x="0" y="80"/>
                    </a:lnTo>
                    <a:lnTo>
                      <a:pt x="581" y="80"/>
                    </a:lnTo>
                    <a:lnTo>
                      <a:pt x="58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82360" y="2643120"/>
                <a:ext cx="58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~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680920" y="2535120"/>
                <a:ext cx="432000" cy="144360"/>
              </a:xfrm>
              <a:custGeom>
                <a:avLst/>
                <a:gdLst/>
                <a:ahLst/>
                <a:rect l="l" t="t" r="r" b="b"/>
                <a:pathLst>
                  <a:path w="581" h="80">
                    <a:moveTo>
                      <a:pt x="0" y="0"/>
                    </a:moveTo>
                    <a:lnTo>
                      <a:pt x="0" y="80"/>
                    </a:lnTo>
                    <a:lnTo>
                      <a:pt x="581" y="80"/>
                    </a:lnTo>
                    <a:lnTo>
                      <a:pt x="58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381120" y="2535120"/>
                <a:ext cx="555480" cy="144360"/>
              </a:xfrm>
              <a:custGeom>
                <a:avLst/>
                <a:gdLst/>
                <a:ahLst/>
                <a:rect l="l" t="t" r="r" b="b"/>
                <a:pathLst>
                  <a:path w="581" h="80">
                    <a:moveTo>
                      <a:pt x="0" y="0"/>
                    </a:moveTo>
                    <a:lnTo>
                      <a:pt x="0" y="80"/>
                    </a:lnTo>
                    <a:lnTo>
                      <a:pt x="581" y="80"/>
                    </a:lnTo>
                    <a:lnTo>
                      <a:pt x="58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081320" y="2535120"/>
                <a:ext cx="598320" cy="144360"/>
              </a:xfrm>
              <a:custGeom>
                <a:avLst/>
                <a:gdLst/>
                <a:ahLst/>
                <a:rect l="l" t="t" r="r" b="b"/>
                <a:pathLst>
                  <a:path w="581" h="80">
                    <a:moveTo>
                      <a:pt x="0" y="0"/>
                    </a:moveTo>
                    <a:lnTo>
                      <a:pt x="0" y="80"/>
                    </a:lnTo>
                    <a:lnTo>
                      <a:pt x="581" y="80"/>
                    </a:lnTo>
                    <a:lnTo>
                      <a:pt x="58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534840" y="264312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37120" y="264312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~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83440" y="2643120"/>
                <a:ext cx="4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&gt;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R Divers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ough Genetic Rearran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038200" y="1810800"/>
            <a:ext cx="35895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B cell matures, the genes for the specific BCR it will express are selected from several choices for different parts of the BCR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rearrangements must be joined in frame and represent a proper anti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 commit apop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 rearrangement can yield ~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fferent combinations of light and heavy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matic hypermut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atic Hyperm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high mutation rate in V, D, J seg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utated base/1000 bases/generation have been 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s after segment selection during prolif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 could cause affinity of BCR for cognate antigen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cells must be continually re-stimulated by antigens to prolif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Rs will be fine-tuned to higher affinity b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ffinity mat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dapts antigen binding Fab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 Cell Ac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ïve B cells must be activated before they produce anti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cell-dependent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680" indent="-19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R recognition of cognate ant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2680" indent="-19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stimulatory signal from Th (helper T)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cell-independent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is 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reshol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ed B ce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a receptor for IL-2 growth factor that causes them to prolif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680" indent="-1940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lls are major supplier of IL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2680" indent="-19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s for clon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ation (sel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lif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729400" y="1998720"/>
            <a:ext cx="2422080" cy="1521000"/>
            <a:chOff x="5729400" y="1998720"/>
            <a:chExt cx="2422080" cy="1521000"/>
          </a:xfrm>
        </p:grpSpPr>
        <p:sp>
          <p:nvSpPr>
            <p:cNvPr id="538" name=""/>
            <p:cNvSpPr/>
            <p:nvPr/>
          </p:nvSpPr>
          <p:spPr>
            <a:xfrm>
              <a:off x="6330600" y="243036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D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43960" y="324324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D40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562440" y="2674800"/>
              <a:ext cx="25560" cy="169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6283440" y="2988720"/>
              <a:ext cx="10152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5729400" y="1998720"/>
              <a:ext cx="2422080" cy="1270080"/>
              <a:chOff x="5729400" y="1998720"/>
              <a:chExt cx="2422080" cy="127008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7034760" y="2425320"/>
                <a:ext cx="235440" cy="320400"/>
                <a:chOff x="7034760" y="2425320"/>
                <a:chExt cx="235440" cy="320400"/>
              </a:xfrm>
            </p:grpSpPr>
            <p:sp>
              <p:nvSpPr>
                <p:cNvPr id="544" name=""/>
                <p:cNvSpPr/>
                <p:nvPr/>
              </p:nvSpPr>
              <p:spPr>
                <a:xfrm flipH="1" rot="1915200">
                  <a:off x="7234560" y="248544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1915200">
                  <a:off x="7150320" y="2433240"/>
                  <a:ext cx="33840" cy="1404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680" bIns="-31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rot="1915200">
                  <a:off x="7139880" y="2467800"/>
                  <a:ext cx="95760" cy="6444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8720" bIns="18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7034760" y="2526480"/>
                  <a:ext cx="136440" cy="2192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095960" y="2584080"/>
                <a:ext cx="318600" cy="239400"/>
                <a:chOff x="7095960" y="2584080"/>
                <a:chExt cx="318600" cy="239400"/>
              </a:xfrm>
            </p:grpSpPr>
            <p:sp>
              <p:nvSpPr>
                <p:cNvPr id="549" name=""/>
                <p:cNvSpPr/>
                <p:nvPr/>
              </p:nvSpPr>
              <p:spPr>
                <a:xfrm flipH="1" rot="3407400">
                  <a:off x="7381800" y="2678040"/>
                  <a:ext cx="33840" cy="1440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320" bIns="-31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rot="3407400">
                  <a:off x="7327440" y="2594880"/>
                  <a:ext cx="33840" cy="14400"/>
                </a:xfrm>
                <a:custGeom>
                  <a:avLst/>
                  <a:gdLst/>
                  <a:ahLst/>
                  <a:rect l="l" t="t" r="r" b="b"/>
                  <a:pathLst>
                    <a:path w="219" h="91">
                      <a:moveTo>
                        <a:pt x="0" y="6"/>
                      </a:moveTo>
                      <a:cubicBezTo>
                        <a:pt x="6" y="17"/>
                        <a:pt x="20" y="55"/>
                        <a:pt x="38" y="70"/>
                      </a:cubicBezTo>
                      <a:cubicBezTo>
                        <a:pt x="55" y="84"/>
                        <a:pt x="84" y="91"/>
                        <a:pt x="107" y="91"/>
                      </a:cubicBezTo>
                      <a:cubicBezTo>
                        <a:pt x="130" y="91"/>
                        <a:pt x="157" y="85"/>
                        <a:pt x="176" y="70"/>
                      </a:cubicBezTo>
                      <a:cubicBezTo>
                        <a:pt x="194" y="54"/>
                        <a:pt x="210" y="14"/>
                        <a:pt x="219" y="0"/>
                      </a:cubicBez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320" bIns="-31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 rot="3407400">
                  <a:off x="7290360" y="2633040"/>
                  <a:ext cx="96120" cy="64080"/>
                </a:xfrm>
                <a:custGeom>
                  <a:avLst/>
                  <a:gdLst/>
                  <a:ahLst/>
                  <a:rect l="l" t="t" r="r" b="b"/>
                  <a:pathLst>
                    <a:path w="619" h="416">
                      <a:moveTo>
                        <a:pt x="0" y="0"/>
                      </a:moveTo>
                      <a:lnTo>
                        <a:pt x="315" y="416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8360" bIns="18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7095960" y="2682000"/>
                  <a:ext cx="216000" cy="141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5729400" y="2617920"/>
                <a:ext cx="1465200" cy="650880"/>
                <a:chOff x="5729400" y="2617920"/>
                <a:chExt cx="1465200" cy="6508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6605640" y="2617920"/>
                  <a:ext cx="588960" cy="650880"/>
                </a:xfrm>
                <a:custGeom>
                  <a:avLst/>
                  <a:gdLst>
                    <a:gd name="textAreaLeft" fmla="*/ 134280 w 588960"/>
                    <a:gd name="textAreaRight" fmla="*/ 454680 w 588960"/>
                    <a:gd name="textAreaTop" fmla="*/ 148320 h 650880"/>
                    <a:gd name="textAreaBottom" fmla="*/ 502560 h 65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92960" y="2884680"/>
                  <a:ext cx="126720" cy="117360"/>
                </a:xfrm>
                <a:custGeom>
                  <a:avLst/>
                  <a:gdLst/>
                  <a:ahLst/>
                  <a:rect l="l" t="t" r="r" b="b"/>
                  <a:pathLst>
                    <a:path w="80" h="74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74"/>
                      </a:lnTo>
                      <a:lnTo>
                        <a:pt x="6" y="74"/>
                      </a:lnTo>
                    </a:path>
                  </a:pathLst>
                </a:custGeom>
                <a:noFill/>
                <a:ln w="572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729400" y="2660760"/>
                  <a:ext cx="564840" cy="56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c19a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289560" y="2943360"/>
                  <a:ext cx="279360" cy="0"/>
                </a:xfrm>
                <a:prstGeom prst="line">
                  <a:avLst/>
                </a:prstGeom>
                <a:ln w="5724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7139160" y="1998720"/>
                <a:ext cx="74520" cy="162000"/>
                <a:chOff x="7139160" y="1998720"/>
                <a:chExt cx="74520" cy="1620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7139160" y="199872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172640" y="2075040"/>
                  <a:ext cx="0" cy="85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 rot="1914600">
                <a:off x="7086240" y="2360160"/>
                <a:ext cx="974880" cy="14292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7386120" y="2075400"/>
                <a:ext cx="120240" cy="155160"/>
                <a:chOff x="7386120" y="2075400"/>
                <a:chExt cx="120240" cy="155160"/>
              </a:xfrm>
            </p:grpSpPr>
            <p:sp>
              <p:nvSpPr>
                <p:cNvPr id="563" name=""/>
                <p:cNvSpPr/>
                <p:nvPr/>
              </p:nvSpPr>
              <p:spPr>
                <a:xfrm rot="1914600">
                  <a:off x="7417440" y="208908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7386120" y="2157840"/>
                  <a:ext cx="4500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497000" y="2154600"/>
                <a:ext cx="120600" cy="155160"/>
                <a:chOff x="7497000" y="2154600"/>
                <a:chExt cx="120600" cy="155160"/>
              </a:xfrm>
            </p:grpSpPr>
            <p:sp>
              <p:nvSpPr>
                <p:cNvPr id="566" name=""/>
                <p:cNvSpPr/>
                <p:nvPr/>
              </p:nvSpPr>
              <p:spPr>
                <a:xfrm rot="1914600">
                  <a:off x="7528680" y="216828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7497000" y="2237040"/>
                  <a:ext cx="4536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7725600" y="2297520"/>
                <a:ext cx="120600" cy="155160"/>
                <a:chOff x="7725600" y="2297520"/>
                <a:chExt cx="120600" cy="155160"/>
              </a:xfrm>
            </p:grpSpPr>
            <p:sp>
              <p:nvSpPr>
                <p:cNvPr id="569" name=""/>
                <p:cNvSpPr/>
                <p:nvPr/>
              </p:nvSpPr>
              <p:spPr>
                <a:xfrm rot="1914600">
                  <a:off x="7757280" y="231120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7725600" y="2379960"/>
                  <a:ext cx="4536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7129080" y="2301120"/>
                <a:ext cx="113760" cy="159120"/>
                <a:chOff x="7129080" y="2301120"/>
                <a:chExt cx="113760" cy="159120"/>
              </a:xfrm>
            </p:grpSpPr>
            <p:sp>
              <p:nvSpPr>
                <p:cNvPr id="572" name=""/>
                <p:cNvSpPr/>
                <p:nvPr/>
              </p:nvSpPr>
              <p:spPr>
                <a:xfrm flipV="1" rot="1915200">
                  <a:off x="7143120" y="237096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V="1">
                  <a:off x="7197840" y="2301120"/>
                  <a:ext cx="4500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7996320" y="2689920"/>
                <a:ext cx="155160" cy="120600"/>
                <a:chOff x="7996320" y="2689920"/>
                <a:chExt cx="155160" cy="120600"/>
              </a:xfrm>
            </p:grpSpPr>
            <p:sp>
              <p:nvSpPr>
                <p:cNvPr id="575" name=""/>
                <p:cNvSpPr/>
                <p:nvPr/>
              </p:nvSpPr>
              <p:spPr>
                <a:xfrm rot="7314600">
                  <a:off x="8062560" y="272124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flipV="1">
                  <a:off x="7996320" y="2689920"/>
                  <a:ext cx="72720" cy="45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7239960" y="2370600"/>
                <a:ext cx="114120" cy="159120"/>
                <a:chOff x="7239960" y="2370600"/>
                <a:chExt cx="114120" cy="159120"/>
              </a:xfrm>
            </p:grpSpPr>
            <p:sp>
              <p:nvSpPr>
                <p:cNvPr id="578" name=""/>
                <p:cNvSpPr/>
                <p:nvPr/>
              </p:nvSpPr>
              <p:spPr>
                <a:xfrm flipV="1" rot="1915200">
                  <a:off x="7254000" y="244044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7308720" y="2370600"/>
                  <a:ext cx="4536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7330680" y="2466360"/>
                <a:ext cx="113760" cy="159120"/>
                <a:chOff x="7330680" y="2466360"/>
                <a:chExt cx="113760" cy="159120"/>
              </a:xfrm>
            </p:grpSpPr>
            <p:sp>
              <p:nvSpPr>
                <p:cNvPr id="581" name=""/>
                <p:cNvSpPr/>
                <p:nvPr/>
              </p:nvSpPr>
              <p:spPr>
                <a:xfrm flipV="1" rot="1915200">
                  <a:off x="7344720" y="253620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7399440" y="2466360"/>
                  <a:ext cx="4500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7638480" y="2618280"/>
                <a:ext cx="114120" cy="159120"/>
                <a:chOff x="7638480" y="2618280"/>
                <a:chExt cx="114120" cy="159120"/>
              </a:xfrm>
            </p:grpSpPr>
            <p:sp>
              <p:nvSpPr>
                <p:cNvPr id="584" name=""/>
                <p:cNvSpPr/>
                <p:nvPr/>
              </p:nvSpPr>
              <p:spPr>
                <a:xfrm flipV="1" rot="1915200">
                  <a:off x="7652520" y="2688120"/>
                  <a:ext cx="74520" cy="74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7707240" y="2618280"/>
                  <a:ext cx="45360" cy="72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20720" y="1699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un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615760" y="3681360"/>
            <a:ext cx="4386600" cy="451080"/>
            <a:chOff x="2615760" y="3681360"/>
            <a:chExt cx="4386600" cy="451080"/>
          </a:xfrm>
        </p:grpSpPr>
        <p:sp>
          <p:nvSpPr>
            <p:cNvPr id="588" name=""/>
            <p:cNvSpPr/>
            <p:nvPr/>
          </p:nvSpPr>
          <p:spPr>
            <a:xfrm flipH="1" flipV="1">
              <a:off x="2615760" y="3860280"/>
              <a:ext cx="1879560" cy="93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13480" y="3954600"/>
              <a:ext cx="1388880" cy="177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20720" y="380052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Comic Sans MS"/>
                </a:rPr>
                <a:t>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60240" y="368136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Comic Sans MS"/>
                </a:rPr>
                <a:t>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917000" y="3536640"/>
            <a:ext cx="5732280" cy="1522800"/>
            <a:chOff x="1917000" y="3536640"/>
            <a:chExt cx="5732280" cy="1522800"/>
          </a:xfrm>
        </p:grpSpPr>
        <p:sp>
          <p:nvSpPr>
            <p:cNvPr id="593" name=""/>
            <p:cNvSpPr/>
            <p:nvPr/>
          </p:nvSpPr>
          <p:spPr>
            <a:xfrm>
              <a:off x="2176200" y="3777120"/>
              <a:ext cx="379800" cy="18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Vir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1917000" y="3536640"/>
              <a:ext cx="5732280" cy="1522800"/>
              <a:chOff x="1917000" y="3536640"/>
              <a:chExt cx="5732280" cy="15228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917000" y="3536640"/>
                <a:ext cx="5063400" cy="1146600"/>
                <a:chOff x="1917000" y="3536640"/>
                <a:chExt cx="5063400" cy="1146600"/>
              </a:xfrm>
            </p:grpSpPr>
            <p:sp>
              <p:nvSpPr>
                <p:cNvPr id="596" name=""/>
                <p:cNvSpPr/>
                <p:nvPr/>
              </p:nvSpPr>
              <p:spPr>
                <a:xfrm flipH="1" flipV="1">
                  <a:off x="2650680" y="3983040"/>
                  <a:ext cx="1870200" cy="6904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5527800" y="4287960"/>
                  <a:ext cx="1452600" cy="395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497760" y="4116240"/>
                  <a:ext cx="76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6600"/>
                      </a:solidFill>
                      <a:latin typeface="Comic Sans MS"/>
                    </a:rPr>
                    <a:t>Opsoniz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580360" y="4278240"/>
                  <a:ext cx="76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6600"/>
                      </a:solidFill>
                      <a:latin typeface="Comic Sans MS"/>
                    </a:rPr>
                    <a:t>Opsoniz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0" name=""/>
                <p:cNvGrpSpPr/>
                <p:nvPr/>
              </p:nvGrpSpPr>
              <p:grpSpPr>
                <a:xfrm>
                  <a:off x="2193840" y="3973680"/>
                  <a:ext cx="141480" cy="212400"/>
                  <a:chOff x="2193840" y="3973680"/>
                  <a:chExt cx="141480" cy="21240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2193840" y="3973680"/>
                    <a:ext cx="60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274840" y="3973680"/>
                    <a:ext cx="60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2450160" y="3911760"/>
                  <a:ext cx="219600" cy="253440"/>
                  <a:chOff x="2450160" y="3911760"/>
                  <a:chExt cx="219600" cy="25344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20062800">
                    <a:off x="2493000" y="394956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rot="20062800">
                    <a:off x="2565720" y="39142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2309040" y="3536640"/>
                  <a:ext cx="140400" cy="212760"/>
                  <a:chOff x="2309040" y="3536640"/>
                  <a:chExt cx="140400" cy="21276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rot="10800000">
                    <a:off x="2389320" y="35366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0800000">
                    <a:off x="2308680" y="35366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1917000" y="3736440"/>
                  <a:ext cx="251640" cy="214920"/>
                  <a:chOff x="1917000" y="3736440"/>
                  <a:chExt cx="251640" cy="2149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rot="3963000">
                    <a:off x="1996200" y="37004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3963000">
                    <a:off x="2028960" y="37742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6590880" y="3584160"/>
                <a:ext cx="1058400" cy="1475280"/>
                <a:chOff x="6590880" y="3584160"/>
                <a:chExt cx="1058400" cy="147528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6590880" y="3643920"/>
                  <a:ext cx="791280" cy="1218240"/>
                  <a:chOff x="6590880" y="3643920"/>
                  <a:chExt cx="791280" cy="121824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6858000" y="4638600"/>
                    <a:ext cx="33192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590880" y="4531320"/>
                    <a:ext cx="295920" cy="18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" rIns="900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66ff"/>
                        </a:solidFill>
                        <a:latin typeface="Comic Sans MS"/>
                      </a:rPr>
                      <a:t>C3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080120" y="3643920"/>
                    <a:ext cx="302040" cy="121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 anchorCtr="1" vert="eaVer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acteri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102440" y="4846680"/>
                  <a:ext cx="141480" cy="212760"/>
                  <a:chOff x="7102440" y="4846680"/>
                  <a:chExt cx="141480" cy="21276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7102440" y="48466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7183440" y="48466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7352280" y="4605120"/>
                  <a:ext cx="253440" cy="246240"/>
                  <a:chOff x="7352280" y="4605120"/>
                  <a:chExt cx="253440" cy="24624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rot="18655200">
                    <a:off x="7422120" y="46522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18655200">
                    <a:off x="7474680" y="45910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7410240" y="4154040"/>
                  <a:ext cx="218880" cy="150840"/>
                  <a:chOff x="7410240" y="4154040"/>
                  <a:chExt cx="218880" cy="15084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rot="16045200">
                    <a:off x="7491240" y="416340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16045200">
                    <a:off x="7487640" y="408240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7394400" y="3818520"/>
                  <a:ext cx="254880" cy="235440"/>
                  <a:chOff x="7394400" y="3818520"/>
                  <a:chExt cx="254880" cy="23544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rot="14161200">
                    <a:off x="7513920" y="386316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rot="14161200">
                    <a:off x="7468560" y="379656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7300440" y="3584160"/>
                  <a:ext cx="255600" cy="237240"/>
                  <a:chOff x="7300440" y="3584160"/>
                  <a:chExt cx="255600" cy="23724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rot="18275400">
                    <a:off x="7374600" y="362952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 rot="18275400">
                    <a:off x="7421040" y="356292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6843600" y="3692520"/>
                  <a:ext cx="253440" cy="220320"/>
                  <a:chOff x="6843600" y="3692520"/>
                  <a:chExt cx="253440" cy="22032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rot="6960000">
                    <a:off x="6957720" y="365976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 rot="6960000">
                    <a:off x="6921720" y="37324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35" name=""/>
          <p:cNvGrpSpPr/>
          <p:nvPr/>
        </p:nvGrpSpPr>
        <p:grpSpPr>
          <a:xfrm>
            <a:off x="1422360" y="1029240"/>
            <a:ext cx="5959440" cy="3036960"/>
            <a:chOff x="1422360" y="1029240"/>
            <a:chExt cx="5959440" cy="3036960"/>
          </a:xfrm>
        </p:grpSpPr>
        <p:sp>
          <p:nvSpPr>
            <p:cNvPr id="636" name=""/>
            <p:cNvSpPr/>
            <p:nvPr/>
          </p:nvSpPr>
          <p:spPr>
            <a:xfrm>
              <a:off x="4562640" y="1930320"/>
              <a:ext cx="1299960" cy="1900440"/>
            </a:xfrm>
            <a:custGeom>
              <a:avLst/>
              <a:gdLst/>
              <a:ahLst/>
              <a:rect l="l" t="t" r="r" b="b"/>
              <a:pathLst>
                <a:path w="819" h="1178">
                  <a:moveTo>
                    <a:pt x="646" y="1178"/>
                  </a:moveTo>
                  <a:lnTo>
                    <a:pt x="819" y="1120"/>
                  </a:lnTo>
                  <a:lnTo>
                    <a:pt x="819" y="41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72000" y="2031840"/>
              <a:ext cx="1219320" cy="1697040"/>
            </a:xfrm>
            <a:custGeom>
              <a:avLst/>
              <a:gdLst/>
              <a:ahLst/>
              <a:rect l="l" t="t" r="r" b="b"/>
              <a:pathLst>
                <a:path w="768" h="1069">
                  <a:moveTo>
                    <a:pt x="645" y="1069"/>
                  </a:moveTo>
                  <a:lnTo>
                    <a:pt x="768" y="1029"/>
                  </a:lnTo>
                  <a:lnTo>
                    <a:pt x="768" y="37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1422360" y="1029240"/>
              <a:ext cx="5959440" cy="3036960"/>
              <a:chOff x="1422360" y="1029240"/>
              <a:chExt cx="5959440" cy="3036960"/>
            </a:xfrm>
          </p:grpSpPr>
          <p:sp>
            <p:nvSpPr>
              <p:cNvPr id="639" name=""/>
              <p:cNvSpPr/>
              <p:nvPr/>
            </p:nvSpPr>
            <p:spPr>
              <a:xfrm>
                <a:off x="4094280" y="3098880"/>
                <a:ext cx="528480" cy="600120"/>
              </a:xfrm>
              <a:custGeom>
                <a:avLst/>
                <a:gdLst/>
                <a:ahLst/>
                <a:rect l="l" t="t" r="r" b="b"/>
                <a:pathLst>
                  <a:path w="333" h="378">
                    <a:moveTo>
                      <a:pt x="0" y="0"/>
                    </a:moveTo>
                    <a:lnTo>
                      <a:pt x="103" y="243"/>
                    </a:lnTo>
                    <a:lnTo>
                      <a:pt x="333" y="378"/>
                    </a:lnTo>
                  </a:path>
                </a:pathLst>
              </a:custGeom>
              <a:noFill/>
              <a:ln w="28440">
                <a:solidFill>
                  <a:srgbClr val="33cc33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1422360" y="1029240"/>
                <a:ext cx="5959440" cy="3036960"/>
                <a:chOff x="1422360" y="1029240"/>
                <a:chExt cx="5959440" cy="3036960"/>
              </a:xfrm>
            </p:grpSpPr>
            <p:sp>
              <p:nvSpPr>
                <p:cNvPr id="641" name=""/>
                <p:cNvSpPr/>
                <p:nvPr/>
              </p:nvSpPr>
              <p:spPr>
                <a:xfrm flipH="1" flipV="1">
                  <a:off x="1836720" y="2100240"/>
                  <a:ext cx="2666880" cy="165888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2" name=""/>
                <p:cNvGrpSpPr/>
                <p:nvPr/>
              </p:nvGrpSpPr>
              <p:grpSpPr>
                <a:xfrm>
                  <a:off x="1422360" y="1029240"/>
                  <a:ext cx="5959440" cy="3036960"/>
                  <a:chOff x="1422360" y="1029240"/>
                  <a:chExt cx="5959440" cy="3036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rot="3803400">
                    <a:off x="3801240" y="3146760"/>
                    <a:ext cx="5144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33cc33"/>
                        </a:solidFill>
                        <a:latin typeface="Comic Sans MS"/>
                      </a:rPr>
                      <a:t>IFN-</a:t>
                    </a:r>
                    <a:r>
                      <a:rPr b="1" lang="en-US" sz="1000" spc="-1" strike="noStrike">
                        <a:solidFill>
                          <a:srgbClr val="33cc33"/>
                        </a:solidFill>
                        <a:latin typeface="Symbol"/>
                        <a:ea typeface="Symbol"/>
                      </a:rPr>
                      <a:t>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1422360" y="1029240"/>
                    <a:ext cx="5959440" cy="3036960"/>
                    <a:chOff x="1422360" y="1029240"/>
                    <a:chExt cx="5959440" cy="303696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V="1">
                      <a:off x="5605560" y="3369960"/>
                      <a:ext cx="1430280" cy="523800"/>
                    </a:xfrm>
                    <a:prstGeom prst="line">
                      <a:avLst/>
                    </a:prstGeom>
                    <a:ln w="38160">
                      <a:solidFill>
                        <a:srgbClr val="80808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3310560" y="1124280"/>
                      <a:ext cx="1264320" cy="30708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3395160" y="1826640"/>
                      <a:ext cx="1096560" cy="340920"/>
                    </a:xfrm>
                    <a:prstGeom prst="rect">
                      <a:avLst/>
                    </a:prstGeom>
                    <a:solidFill>
                      <a:srgbClr val="fa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ural Kill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3555000" y="2685240"/>
                      <a:ext cx="775080" cy="340920"/>
                    </a:xfrm>
                    <a:prstGeom prst="rect">
                      <a:avLst/>
                    </a:prstGeom>
                    <a:solidFill>
                      <a:srgbClr val="fa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at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K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530240" y="3191760"/>
                      <a:ext cx="1059840" cy="17064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oph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532040" y="3725280"/>
                      <a:ext cx="1059840" cy="34092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at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oph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51" name=""/>
                    <p:cNvGrpSpPr/>
                    <p:nvPr/>
                  </p:nvGrpSpPr>
                  <p:grpSpPr>
                    <a:xfrm>
                      <a:off x="1430280" y="2414520"/>
                      <a:ext cx="990720" cy="990720"/>
                      <a:chOff x="1430280" y="2414520"/>
                      <a:chExt cx="990720" cy="990720"/>
                    </a:xfrm>
                  </p:grpSpPr>
                  <p:sp>
                    <p:nvSpPr>
                      <p:cNvPr id="652" name=""/>
                      <p:cNvSpPr/>
                      <p:nvPr/>
                    </p:nvSpPr>
                    <p:spPr>
                      <a:xfrm>
                        <a:off x="1430280" y="2414520"/>
                        <a:ext cx="990720" cy="990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>
                        <a:off x="1489320" y="2717640"/>
                        <a:ext cx="872640" cy="604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Virus</a:t>
                        </a:r>
                        <a:br>
                          <a:rPr sz="1400"/>
                        </a:b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Infected</a:t>
                        </a:r>
                        <a:br>
                          <a:rPr sz="1400"/>
                        </a:b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Cell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>
                        <a:off x="1736640" y="2549880"/>
                        <a:ext cx="379800" cy="182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" rIns="9000" tIns="0" bIns="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Viru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5" name=""/>
                    <p:cNvGrpSpPr/>
                    <p:nvPr/>
                  </p:nvGrpSpPr>
                  <p:grpSpPr>
                    <a:xfrm>
                      <a:off x="6425640" y="2329560"/>
                      <a:ext cx="948240" cy="1218240"/>
                      <a:chOff x="6425640" y="2329560"/>
                      <a:chExt cx="948240" cy="1218240"/>
                    </a:xfrm>
                  </p:grpSpPr>
                  <p:grpSp>
                    <p:nvGrpSpPr>
                      <p:cNvPr id="656" name=""/>
                      <p:cNvGrpSpPr/>
                      <p:nvPr/>
                    </p:nvGrpSpPr>
                    <p:grpSpPr>
                      <a:xfrm>
                        <a:off x="6425640" y="2846880"/>
                        <a:ext cx="657000" cy="182880"/>
                        <a:chOff x="6425640" y="2846880"/>
                        <a:chExt cx="657000" cy="182880"/>
                      </a:xfrm>
                    </p:grpSpPr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>
                          <a:off x="6673680" y="2923920"/>
                          <a:ext cx="4089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>
                          <a:off x="6425640" y="2846880"/>
                          <a:ext cx="29592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66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66ff"/>
                              </a:solidFill>
                              <a:latin typeface="Comic Sans MS"/>
                            </a:rPr>
                            <a:t>C3b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59" name=""/>
                      <p:cNvSpPr/>
                      <p:nvPr/>
                    </p:nvSpPr>
                    <p:spPr>
                      <a:xfrm>
                        <a:off x="7071840" y="2329560"/>
                        <a:ext cx="302040" cy="121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 anchorCtr="1" vert="eaVer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acterium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1430280" y="1192680"/>
                      <a:ext cx="379800" cy="182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" rIns="900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i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1" name=""/>
                    <p:cNvGrpSpPr/>
                    <p:nvPr/>
                  </p:nvGrpSpPr>
                  <p:grpSpPr>
                    <a:xfrm>
                      <a:off x="1422360" y="1835640"/>
                      <a:ext cx="946800" cy="186120"/>
                      <a:chOff x="1422360" y="1835640"/>
                      <a:chExt cx="946800" cy="186120"/>
                    </a:xfrm>
                  </p:grpSpPr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1744560" y="1930320"/>
                        <a:ext cx="363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3" name=""/>
                      <p:cNvGrpSpPr/>
                      <p:nvPr/>
                    </p:nvGrpSpPr>
                    <p:grpSpPr>
                      <a:xfrm>
                        <a:off x="1422360" y="1835640"/>
                        <a:ext cx="946800" cy="186120"/>
                        <a:chOff x="1422360" y="1835640"/>
                        <a:chExt cx="946800" cy="186120"/>
                      </a:xfrm>
                    </p:grpSpPr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>
                          <a:off x="1422360" y="1835640"/>
                          <a:ext cx="37980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Virus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>
                          <a:off x="2073240" y="1838880"/>
                          <a:ext cx="29592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66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66ff"/>
                              </a:solidFill>
                              <a:latin typeface="Comic Sans MS"/>
                            </a:rPr>
                            <a:t>C3b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66" name=""/>
                    <p:cNvGrpSpPr/>
                    <p:nvPr/>
                  </p:nvGrpSpPr>
                  <p:grpSpPr>
                    <a:xfrm>
                      <a:off x="1774800" y="1163520"/>
                      <a:ext cx="770400" cy="624240"/>
                      <a:chOff x="1774800" y="1163520"/>
                      <a:chExt cx="770400" cy="624240"/>
                    </a:xfrm>
                  </p:grpSpPr>
                  <p:grpSp>
                    <p:nvGrpSpPr>
                      <p:cNvPr id="667" name=""/>
                      <p:cNvGrpSpPr/>
                      <p:nvPr/>
                    </p:nvGrpSpPr>
                    <p:grpSpPr>
                      <a:xfrm>
                        <a:off x="1814760" y="1163520"/>
                        <a:ext cx="417240" cy="231840"/>
                        <a:chOff x="1814760" y="1163520"/>
                        <a:chExt cx="417240" cy="231840"/>
                      </a:xfrm>
                    </p:grpSpPr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>
                          <a:off x="1814760" y="1279440"/>
                          <a:ext cx="309240" cy="0"/>
                        </a:xfrm>
                        <a:prstGeom prst="line">
                          <a:avLst/>
                        </a:prstGeom>
                        <a:ln w="7632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>
                          <a:off x="2000160" y="1163520"/>
                          <a:ext cx="231840" cy="231840"/>
                        </a:xfrm>
                        <a:prstGeom prst="ellipse">
                          <a:avLst/>
                        </a:prstGeom>
                        <a:solidFill>
                          <a:srgbClr val="000099"/>
                        </a:solidFill>
                        <a:ln w="93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1774800" y="1386000"/>
                        <a:ext cx="770400" cy="401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75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embrane</a:t>
                        </a:r>
                        <a:br>
                          <a:rPr sz="900"/>
                        </a:b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ttack</a:t>
                        </a:r>
                        <a:br>
                          <a:rPr sz="900"/>
                        </a:b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Complex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1" name=""/>
                    <p:cNvGrpSpPr/>
                    <p:nvPr/>
                  </p:nvGrpSpPr>
                  <p:grpSpPr>
                    <a:xfrm>
                      <a:off x="6404040" y="1029240"/>
                      <a:ext cx="977760" cy="1218240"/>
                      <a:chOff x="6404040" y="1029240"/>
                      <a:chExt cx="977760" cy="1218240"/>
                    </a:xfrm>
                  </p:grpSpPr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7079760" y="1029240"/>
                        <a:ext cx="302040" cy="121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 anchorCtr="1" vert="eaVer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acterium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73" name=""/>
                      <p:cNvGrpSpPr/>
                      <p:nvPr/>
                    </p:nvGrpSpPr>
                    <p:grpSpPr>
                      <a:xfrm>
                        <a:off x="6404040" y="1164960"/>
                        <a:ext cx="770400" cy="623880"/>
                        <a:chOff x="6404040" y="1164960"/>
                        <a:chExt cx="770400" cy="623880"/>
                      </a:xfrm>
                    </p:grpSpPr>
                    <p:grpSp>
                      <p:nvGrpSpPr>
                        <p:cNvPr id="674" name=""/>
                        <p:cNvGrpSpPr/>
                        <p:nvPr/>
                      </p:nvGrpSpPr>
                      <p:grpSpPr>
                        <a:xfrm>
                          <a:off x="6676560" y="1164960"/>
                          <a:ext cx="417240" cy="231840"/>
                          <a:chOff x="6676560" y="1164960"/>
                          <a:chExt cx="417240" cy="231840"/>
                        </a:xfrm>
                      </p:grpSpPr>
                      <p:sp>
                        <p:nvSpPr>
                          <p:cNvPr id="675" name=""/>
                          <p:cNvSpPr/>
                          <p:nvPr/>
                        </p:nvSpPr>
                        <p:spPr>
                          <a:xfrm flipH="1">
                            <a:off x="6784560" y="1280880"/>
                            <a:ext cx="309240" cy="0"/>
                          </a:xfrm>
                          <a:prstGeom prst="line">
                            <a:avLst/>
                          </a:prstGeom>
                          <a:ln w="76320">
                            <a:solidFill>
                              <a:srgbClr val="0000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6" name=""/>
                          <p:cNvSpPr/>
                          <p:nvPr/>
                        </p:nvSpPr>
                        <p:spPr>
                          <a:xfrm flipH="1">
                            <a:off x="6676560" y="1164960"/>
                            <a:ext cx="231840" cy="231840"/>
                          </a:xfrm>
                          <a:prstGeom prst="ellipse">
                            <a:avLst/>
                          </a:prstGeom>
                          <a:solidFill>
                            <a:srgbClr val="000099"/>
                          </a:solidFill>
                          <a:ln w="9360">
                            <a:solidFill>
                              <a:srgbClr val="0000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>
                          <a:off x="6404040" y="1387080"/>
                          <a:ext cx="770400" cy="401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75000"/>
                            </a:lnSpc>
                            <a:spcBef>
                              <a:spcPts val="56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Membrane</a:t>
                          </a:r>
                          <a:br>
                            <a:rPr sz="900"/>
                          </a:b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ttack</a:t>
                          </a:r>
                          <a:br>
                            <a:rPr sz="900"/>
                          </a:b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Complex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78" name=""/>
                    <p:cNvSpPr/>
                    <p:nvPr/>
                  </p:nvSpPr>
                  <p:spPr>
                    <a:xfrm flipH="1">
                      <a:off x="2303280" y="1278000"/>
                      <a:ext cx="998280" cy="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4564080" y="1287360"/>
                      <a:ext cx="1836720" cy="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>
                      <a:off x="2116080" y="1973160"/>
                      <a:ext cx="1193760" cy="43200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flipV="1">
                      <a:off x="2489040" y="2844720"/>
                      <a:ext cx="990720" cy="792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 flipV="1">
                      <a:off x="2455920" y="3124080"/>
                      <a:ext cx="2047680" cy="74448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2645280" y="104148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2518200" y="194616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2848320" y="259092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3366000" y="326880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5161320" y="106056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3083760" y="2994120"/>
                      <a:ext cx="381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6001920" y="3419640"/>
                      <a:ext cx="381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>
                      <a:off x="2458800" y="1482840"/>
                      <a:ext cx="833400" cy="3967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4592520" y="1422360"/>
                      <a:ext cx="1960560" cy="1341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2410200" y="1384200"/>
                      <a:ext cx="7614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Opson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5447160" y="1871640"/>
                      <a:ext cx="7614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Opson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V="1">
                      <a:off x="2367000" y="2184480"/>
                      <a:ext cx="934920" cy="3967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4348080" y="2235240"/>
                      <a:ext cx="355680" cy="91440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>
                      <a:off x="5375160" y="1819440"/>
                      <a:ext cx="1635120" cy="1320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4175280" y="3281400"/>
                      <a:ext cx="377640" cy="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4042200">
                      <a:off x="4344120" y="2436480"/>
                      <a:ext cx="5144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FN-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rot="20140800">
                      <a:off x="2600280" y="2316600"/>
                      <a:ext cx="6289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FN-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1671000">
                      <a:off x="5041800" y="2044080"/>
                      <a:ext cx="4856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L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9206000">
                      <a:off x="6143400" y="2106000"/>
                      <a:ext cx="4017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L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rot="1659600">
                      <a:off x="4917960" y="2306160"/>
                      <a:ext cx="4262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T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3902040" y="2244600"/>
                      <a:ext cx="0" cy="39708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4" name=""/>
                  <p:cNvSpPr/>
                  <p:nvPr/>
                </p:nvSpPr>
                <p:spPr>
                  <a:xfrm>
                    <a:off x="5019840" y="34034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05" name=""/>
          <p:cNvSpPr/>
          <p:nvPr/>
        </p:nvSpPr>
        <p:spPr>
          <a:xfrm flipV="1">
            <a:off x="4033800" y="4795560"/>
            <a:ext cx="457200" cy="50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529160" y="4368960"/>
            <a:ext cx="990720" cy="990360"/>
            <a:chOff x="4529160" y="4368960"/>
            <a:chExt cx="990720" cy="990360"/>
          </a:xfrm>
        </p:grpSpPr>
        <p:sp>
          <p:nvSpPr>
            <p:cNvPr id="707" name=""/>
            <p:cNvSpPr/>
            <p:nvPr/>
          </p:nvSpPr>
          <p:spPr>
            <a:xfrm>
              <a:off x="4529160" y="4368960"/>
              <a:ext cx="990720" cy="9903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57240" y="456696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Activated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B 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2477520" y="4264200"/>
            <a:ext cx="2064240" cy="1530720"/>
            <a:chOff x="2477520" y="4264200"/>
            <a:chExt cx="2064240" cy="1530720"/>
          </a:xfrm>
        </p:grpSpPr>
        <p:sp>
          <p:nvSpPr>
            <p:cNvPr id="710" name=""/>
            <p:cNvSpPr/>
            <p:nvPr/>
          </p:nvSpPr>
          <p:spPr>
            <a:xfrm>
              <a:off x="3316680" y="5445000"/>
              <a:ext cx="43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CD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76920" y="5332320"/>
              <a:ext cx="48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CD40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901680" y="5475240"/>
              <a:ext cx="111240" cy="71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2477520" y="4264200"/>
              <a:ext cx="2064240" cy="1530720"/>
              <a:chOff x="2477520" y="4264200"/>
              <a:chExt cx="2064240" cy="153072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4010760" y="4986000"/>
                <a:ext cx="213480" cy="141120"/>
                <a:chOff x="4010760" y="4986000"/>
                <a:chExt cx="213480" cy="141120"/>
              </a:xfrm>
            </p:grpSpPr>
            <p:sp>
              <p:nvSpPr>
                <p:cNvPr id="715" name=""/>
                <p:cNvSpPr/>
                <p:nvPr/>
              </p:nvSpPr>
              <p:spPr>
                <a:xfrm rot="5388000">
                  <a:off x="4087080" y="4910040"/>
                  <a:ext cx="60120" cy="212760"/>
                </a:xfrm>
                <a:custGeom>
                  <a:avLst/>
                  <a:gdLst/>
                  <a:ahLst/>
                  <a:rect l="l" t="t" r="r" b="b"/>
                  <a:pathLst>
                    <a:path w="38" h="134">
                      <a:moveTo>
                        <a:pt x="0" y="0"/>
                      </a:moveTo>
                      <a:lnTo>
                        <a:pt x="38" y="64"/>
                      </a:lnTo>
                      <a:lnTo>
                        <a:pt x="38" y="134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H="1" rot="5388000">
                  <a:off x="4087440" y="4990320"/>
                  <a:ext cx="60120" cy="212760"/>
                </a:xfrm>
                <a:custGeom>
                  <a:avLst/>
                  <a:gdLst/>
                  <a:ahLst/>
                  <a:rect l="l" t="t" r="r" b="b"/>
                  <a:pathLst>
                    <a:path w="38" h="134">
                      <a:moveTo>
                        <a:pt x="0" y="0"/>
                      </a:moveTo>
                      <a:lnTo>
                        <a:pt x="38" y="64"/>
                      </a:lnTo>
                      <a:lnTo>
                        <a:pt x="38" y="134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2477520" y="4264200"/>
                <a:ext cx="1513440" cy="1530720"/>
                <a:chOff x="2477520" y="4264200"/>
                <a:chExt cx="1513440" cy="153072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3558240" y="5259960"/>
                  <a:ext cx="424080" cy="534960"/>
                  <a:chOff x="3558240" y="5259960"/>
                  <a:chExt cx="424080" cy="53496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3558240" y="5259960"/>
                    <a:ext cx="345960" cy="363600"/>
                    <a:chOff x="3558240" y="5259960"/>
                    <a:chExt cx="345960" cy="36360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rot="8944800">
                      <a:off x="3614400" y="5299560"/>
                      <a:ext cx="233280" cy="28404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rot="8944800">
                      <a:off x="3741480" y="5487120"/>
                      <a:ext cx="101880" cy="11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2" name=""/>
                  <p:cNvSpPr/>
                  <p:nvPr/>
                </p:nvSpPr>
                <p:spPr>
                  <a:xfrm rot="19600800">
                    <a:off x="3811680" y="5473440"/>
                    <a:ext cx="88920" cy="3236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3000240" y="4513320"/>
                  <a:ext cx="990720" cy="990360"/>
                  <a:chOff x="3000240" y="4513320"/>
                  <a:chExt cx="990720" cy="9903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3000240" y="4513320"/>
                    <a:ext cx="990720" cy="990360"/>
                  </a:xfrm>
                  <a:prstGeom prst="ellips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162240" y="4692600"/>
                    <a:ext cx="6714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Virgin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B Cel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2712960" y="4278240"/>
                  <a:ext cx="650880" cy="609120"/>
                  <a:chOff x="2712960" y="4278240"/>
                  <a:chExt cx="650880" cy="609120"/>
                </a:xfrm>
              </p:grpSpPr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3140280" y="4329360"/>
                    <a:ext cx="223560" cy="253800"/>
                    <a:chOff x="3140280" y="4329360"/>
                    <a:chExt cx="223560" cy="25380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 rot="19959600">
                      <a:off x="3185640" y="436824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 rot="19959600">
                      <a:off x="3257280" y="433116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2801880" y="4674600"/>
                    <a:ext cx="250560" cy="212760"/>
                    <a:chOff x="2801880" y="4674600"/>
                    <a:chExt cx="250560" cy="21276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rot="17589600">
                      <a:off x="2881440" y="471132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flipH="1" rot="17589000">
                      <a:off x="2912040" y="463752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2894040" y="4502880"/>
                    <a:ext cx="250920" cy="250560"/>
                    <a:chOff x="2894040" y="4502880"/>
                    <a:chExt cx="250920" cy="25056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rot="18873000">
                      <a:off x="2960640" y="455040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flipH="1" rot="18873000">
                      <a:off x="3017160" y="449244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3034080" y="4400640"/>
                    <a:ext cx="232200" cy="254520"/>
                    <a:chOff x="3034080" y="4400640"/>
                    <a:chExt cx="232200" cy="25452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rot="19680000">
                      <a:off x="3085560" y="444240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flipH="1" rot="19680000">
                      <a:off x="3153600" y="440028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2712960" y="4278240"/>
                    <a:ext cx="542520" cy="520560"/>
                    <a:chOff x="2712960" y="4278240"/>
                    <a:chExt cx="542520" cy="520560"/>
                  </a:xfrm>
                </p:grpSpPr>
                <p:grpSp>
                  <p:nvGrpSpPr>
                    <p:cNvPr id="740" name=""/>
                    <p:cNvGrpSpPr/>
                    <p:nvPr/>
                  </p:nvGrpSpPr>
                  <p:grpSpPr>
                    <a:xfrm>
                      <a:off x="2748240" y="4672800"/>
                      <a:ext cx="152640" cy="126000"/>
                      <a:chOff x="2748240" y="4672800"/>
                      <a:chExt cx="152640" cy="126000"/>
                    </a:xfrm>
                  </p:grpSpPr>
                  <p:sp>
                    <p:nvSpPr>
                      <p:cNvPr id="741" name=""/>
                      <p:cNvSpPr/>
                      <p:nvPr/>
                    </p:nvSpPr>
                    <p:spPr>
                      <a:xfrm rot="7471200">
                        <a:off x="2811600" y="470916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 flipH="1" flipV="1">
                        <a:off x="2748240" y="4672800"/>
                        <a:ext cx="70560" cy="4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3" name=""/>
                    <p:cNvGrpSpPr/>
                    <p:nvPr/>
                  </p:nvGrpSpPr>
                  <p:grpSpPr>
                    <a:xfrm>
                      <a:off x="2871000" y="4470120"/>
                      <a:ext cx="138240" cy="143640"/>
                      <a:chOff x="2871000" y="4470120"/>
                      <a:chExt cx="138240" cy="143640"/>
                    </a:xfrm>
                  </p:grpSpPr>
                  <p:sp>
                    <p:nvSpPr>
                      <p:cNvPr id="744" name=""/>
                      <p:cNvSpPr/>
                      <p:nvPr/>
                    </p:nvSpPr>
                    <p:spPr>
                      <a:xfrm rot="8091600">
                        <a:off x="2918880" y="452340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 flipH="1" flipV="1">
                        <a:off x="2871000" y="4470120"/>
                        <a:ext cx="60480" cy="604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6" name=""/>
                    <p:cNvGrpSpPr/>
                    <p:nvPr/>
                  </p:nvGrpSpPr>
                  <p:grpSpPr>
                    <a:xfrm>
                      <a:off x="3024360" y="4366440"/>
                      <a:ext cx="135720" cy="145800"/>
                      <a:chOff x="3024360" y="4366440"/>
                      <a:chExt cx="135720" cy="145800"/>
                    </a:xfrm>
                  </p:grpSpPr>
                  <p:sp>
                    <p:nvSpPr>
                      <p:cNvPr id="747" name=""/>
                      <p:cNvSpPr/>
                      <p:nvPr/>
                    </p:nvSpPr>
                    <p:spPr>
                      <a:xfrm rot="8193000">
                        <a:off x="3069720" y="442188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 flipH="1" flipV="1">
                        <a:off x="3024360" y="4366440"/>
                        <a:ext cx="58680" cy="6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9" name=""/>
                    <p:cNvGrpSpPr/>
                    <p:nvPr/>
                  </p:nvGrpSpPr>
                  <p:grpSpPr>
                    <a:xfrm>
                      <a:off x="3119760" y="4281840"/>
                      <a:ext cx="135720" cy="145800"/>
                      <a:chOff x="3119760" y="4281840"/>
                      <a:chExt cx="135720" cy="145800"/>
                    </a:xfrm>
                  </p:grpSpPr>
                  <p:sp>
                    <p:nvSpPr>
                      <p:cNvPr id="750" name=""/>
                      <p:cNvSpPr/>
                      <p:nvPr/>
                    </p:nvSpPr>
                    <p:spPr>
                      <a:xfrm rot="8193000">
                        <a:off x="3165120" y="433728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 flipH="1" flipV="1">
                        <a:off x="3119760" y="4281840"/>
                        <a:ext cx="59040" cy="6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2712960" y="4278240"/>
                      <a:ext cx="39708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256">
                          <a:moveTo>
                            <a:pt x="0" y="256"/>
                          </a:moveTo>
                          <a:cubicBezTo>
                            <a:pt x="6" y="244"/>
                            <a:pt x="21" y="208"/>
                            <a:pt x="38" y="185"/>
                          </a:cubicBezTo>
                          <a:cubicBezTo>
                            <a:pt x="54" y="161"/>
                            <a:pt x="78" y="136"/>
                            <a:pt x="102" y="115"/>
                          </a:cubicBezTo>
                          <a:cubicBezTo>
                            <a:pt x="125" y="93"/>
                            <a:pt x="154" y="76"/>
                            <a:pt x="179" y="57"/>
                          </a:cubicBezTo>
                          <a:cubicBezTo>
                            <a:pt x="203" y="37"/>
                            <a:pt x="235" y="11"/>
                            <a:pt x="25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53" name=""/>
                <p:cNvSpPr/>
                <p:nvPr/>
              </p:nvSpPr>
              <p:spPr>
                <a:xfrm>
                  <a:off x="2477520" y="4264200"/>
                  <a:ext cx="554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omic Sans MS"/>
                    </a:rPr>
                    <a:t>Antige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>
                <a:off x="4165920" y="4943520"/>
                <a:ext cx="375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3654360" y="5541840"/>
            <a:ext cx="990720" cy="990720"/>
            <a:chOff x="3654360" y="5541840"/>
            <a:chExt cx="990720" cy="990720"/>
          </a:xfrm>
        </p:grpSpPr>
        <p:sp>
          <p:nvSpPr>
            <p:cNvPr id="756" name=""/>
            <p:cNvSpPr/>
            <p:nvPr/>
          </p:nvSpPr>
          <p:spPr>
            <a:xfrm>
              <a:off x="3654360" y="5541840"/>
              <a:ext cx="990720" cy="99072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71280" y="577224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Activated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Cells and T Cell Receptors (TC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98160" y="1981080"/>
            <a:ext cx="84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ty in TCRs comes from  a clonal sele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Rs bind to antigen/MHC compl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Rs are specific for either MHC I or MHC II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ells “scan” the surface of APCs looking for its cognate 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o match, it goes on to another A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ells require a co-stimulatory signal from the APC to become acti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PCs provide different co-stimulatory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nfluence the cytokines produced by the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Cs in resting states do not express much co-stimulatory signal and cannot activate 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F and IFN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ctivate APCs, come from innat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nate system must recognize danger to activate the adap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dback Locks in a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627520" y="4402080"/>
            <a:ext cx="1833480" cy="987480"/>
            <a:chOff x="5627520" y="4402080"/>
            <a:chExt cx="1833480" cy="987480"/>
          </a:xfrm>
        </p:grpSpPr>
        <p:sp>
          <p:nvSpPr>
            <p:cNvPr id="762" name=""/>
            <p:cNvSpPr/>
            <p:nvPr/>
          </p:nvSpPr>
          <p:spPr>
            <a:xfrm>
              <a:off x="5627520" y="4402080"/>
              <a:ext cx="1833480" cy="709560"/>
            </a:xfrm>
            <a:custGeom>
              <a:avLst/>
              <a:gdLst/>
              <a:ahLst/>
              <a:rect l="l" t="t" r="r" b="b"/>
              <a:pathLst>
                <a:path w="1148" h="384">
                  <a:moveTo>
                    <a:pt x="0" y="0"/>
                  </a:moveTo>
                  <a:cubicBezTo>
                    <a:pt x="10" y="24"/>
                    <a:pt x="32" y="100"/>
                    <a:pt x="63" y="146"/>
                  </a:cubicBezTo>
                  <a:cubicBezTo>
                    <a:pt x="93" y="191"/>
                    <a:pt x="133" y="237"/>
                    <a:pt x="181" y="272"/>
                  </a:cubicBezTo>
                  <a:cubicBezTo>
                    <a:pt x="228" y="306"/>
                    <a:pt x="279" y="336"/>
                    <a:pt x="348" y="355"/>
                  </a:cubicBezTo>
                  <a:cubicBezTo>
                    <a:pt x="416" y="373"/>
                    <a:pt x="521" y="381"/>
                    <a:pt x="592" y="383"/>
                  </a:cubicBezTo>
                  <a:cubicBezTo>
                    <a:pt x="662" y="384"/>
                    <a:pt x="716" y="372"/>
                    <a:pt x="773" y="362"/>
                  </a:cubicBezTo>
                  <a:cubicBezTo>
                    <a:pt x="829" y="351"/>
                    <a:pt x="886" y="334"/>
                    <a:pt x="933" y="320"/>
                  </a:cubicBezTo>
                  <a:cubicBezTo>
                    <a:pt x="979" y="306"/>
                    <a:pt x="1015" y="297"/>
                    <a:pt x="1051" y="278"/>
                  </a:cubicBezTo>
                  <a:cubicBezTo>
                    <a:pt x="1086" y="258"/>
                    <a:pt x="1131" y="214"/>
                    <a:pt x="1148" y="202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81760" y="4781520"/>
              <a:ext cx="113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Don’t make IL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54720" y="51130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4973400" y="2357280"/>
            <a:ext cx="2511360" cy="2207880"/>
            <a:chOff x="4973400" y="2357280"/>
            <a:chExt cx="2511360" cy="2207880"/>
          </a:xfrm>
        </p:grpSpPr>
        <p:grpSp>
          <p:nvGrpSpPr>
            <p:cNvPr id="766" name=""/>
            <p:cNvGrpSpPr/>
            <p:nvPr/>
          </p:nvGrpSpPr>
          <p:grpSpPr>
            <a:xfrm>
              <a:off x="4973400" y="2787480"/>
              <a:ext cx="1579680" cy="1777680"/>
              <a:chOff x="4973400" y="2787480"/>
              <a:chExt cx="1579680" cy="17776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5442840" y="2787480"/>
                <a:ext cx="430200" cy="1138320"/>
                <a:chOff x="5442840" y="2787480"/>
                <a:chExt cx="430200" cy="1138320"/>
              </a:xfrm>
            </p:grpSpPr>
            <p:sp>
              <p:nvSpPr>
                <p:cNvPr id="768" name=""/>
                <p:cNvSpPr/>
                <p:nvPr/>
              </p:nvSpPr>
              <p:spPr>
                <a:xfrm rot="5400000">
                  <a:off x="5586120" y="2748600"/>
                  <a:ext cx="142920" cy="309600"/>
                </a:xfrm>
                <a:prstGeom prst="rect">
                  <a:avLst/>
                </a:prstGeom>
                <a:noFill/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rot="5400000">
                  <a:off x="5613480" y="2616840"/>
                  <a:ext cx="88920" cy="43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658480" y="2985840"/>
                  <a:ext cx="0" cy="93996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4973400" y="3426120"/>
                <a:ext cx="1579680" cy="1139040"/>
              </a:xfrm>
              <a:prstGeom prst="irregularSeal2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005520" y="2357280"/>
              <a:ext cx="1479240" cy="1204920"/>
              <a:chOff x="6005520" y="2357280"/>
              <a:chExt cx="1479240" cy="1204920"/>
            </a:xfrm>
          </p:grpSpPr>
          <p:sp>
            <p:nvSpPr>
              <p:cNvPr id="773" name=""/>
              <p:cNvSpPr/>
              <p:nvPr/>
            </p:nvSpPr>
            <p:spPr>
              <a:xfrm>
                <a:off x="6005520" y="2688840"/>
                <a:ext cx="1479240" cy="873360"/>
              </a:xfrm>
              <a:custGeom>
                <a:avLst/>
                <a:gdLst/>
                <a:ahLst/>
                <a:rect l="l" t="t" r="r" b="b"/>
                <a:pathLst>
                  <a:path w="932" h="550">
                    <a:moveTo>
                      <a:pt x="932" y="126"/>
                    </a:moveTo>
                    <a:cubicBezTo>
                      <a:pt x="876" y="98"/>
                      <a:pt x="827" y="69"/>
                      <a:pt x="765" y="49"/>
                    </a:cubicBezTo>
                    <a:cubicBezTo>
                      <a:pt x="702" y="28"/>
                      <a:pt x="623" y="0"/>
                      <a:pt x="557" y="0"/>
                    </a:cubicBezTo>
                    <a:cubicBezTo>
                      <a:pt x="491" y="0"/>
                      <a:pt x="435" y="13"/>
                      <a:pt x="369" y="49"/>
                    </a:cubicBezTo>
                    <a:cubicBezTo>
                      <a:pt x="302" y="84"/>
                      <a:pt x="221" y="132"/>
                      <a:pt x="160" y="216"/>
                    </a:cubicBezTo>
                    <a:cubicBezTo>
                      <a:pt x="98" y="299"/>
                      <a:pt x="33" y="480"/>
                      <a:pt x="0" y="550"/>
                    </a:cubicBezTo>
                  </a:path>
                </a:pathLst>
              </a:custGeom>
              <a:noFill/>
              <a:ln w="19080">
                <a:solidFill>
                  <a:srgbClr val="00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459120" y="2357280"/>
                <a:ext cx="56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IFN-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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6313680" y="392256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L-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14400" y="3098520"/>
              <a:ext cx="8467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Make more 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IFN-</a:t>
              </a:r>
              <a:r>
                <a:rPr b="0" i="1" lang="en-US" sz="1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58760" y="2806560"/>
              <a:ext cx="221400" cy="122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L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6148080" y="3403440"/>
              <a:ext cx="1160640" cy="628560"/>
            </a:xfrm>
            <a:custGeom>
              <a:avLst/>
              <a:gdLst/>
              <a:ahLst/>
              <a:rect l="l" t="t" r="r" b="b"/>
              <a:pathLst>
                <a:path w="731" h="396">
                  <a:moveTo>
                    <a:pt x="0" y="396"/>
                  </a:moveTo>
                  <a:cubicBezTo>
                    <a:pt x="72" y="384"/>
                    <a:pt x="144" y="372"/>
                    <a:pt x="195" y="361"/>
                  </a:cubicBezTo>
                  <a:cubicBezTo>
                    <a:pt x="246" y="349"/>
                    <a:pt x="267" y="342"/>
                    <a:pt x="306" y="327"/>
                  </a:cubicBezTo>
                  <a:cubicBezTo>
                    <a:pt x="344" y="312"/>
                    <a:pt x="387" y="293"/>
                    <a:pt x="425" y="271"/>
                  </a:cubicBezTo>
                  <a:cubicBezTo>
                    <a:pt x="462" y="248"/>
                    <a:pt x="489" y="226"/>
                    <a:pt x="529" y="194"/>
                  </a:cubicBezTo>
                  <a:cubicBezTo>
                    <a:pt x="568" y="161"/>
                    <a:pt x="627" y="108"/>
                    <a:pt x="661" y="76"/>
                  </a:cubicBezTo>
                  <a:cubicBezTo>
                    <a:pt x="694" y="43"/>
                    <a:pt x="720" y="12"/>
                    <a:pt x="731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707160" y="3468600"/>
            <a:ext cx="1274040" cy="630360"/>
            <a:chOff x="6707160" y="3468600"/>
            <a:chExt cx="1274040" cy="630360"/>
          </a:xfrm>
        </p:grpSpPr>
        <p:sp>
          <p:nvSpPr>
            <p:cNvPr id="780" name=""/>
            <p:cNvSpPr/>
            <p:nvPr/>
          </p:nvSpPr>
          <p:spPr>
            <a:xfrm>
              <a:off x="7230960" y="3468600"/>
              <a:ext cx="210960" cy="630360"/>
            </a:xfrm>
            <a:custGeom>
              <a:avLst/>
              <a:gdLst/>
              <a:ahLst/>
              <a:rect l="l" t="t" r="r" b="b"/>
              <a:pathLst>
                <a:path w="133" h="397">
                  <a:moveTo>
                    <a:pt x="133" y="0"/>
                  </a:moveTo>
                  <a:cubicBezTo>
                    <a:pt x="113" y="29"/>
                    <a:pt x="94" y="59"/>
                    <a:pt x="77" y="84"/>
                  </a:cubicBezTo>
                  <a:cubicBezTo>
                    <a:pt x="59" y="108"/>
                    <a:pt x="40" y="126"/>
                    <a:pt x="29" y="146"/>
                  </a:cubicBezTo>
                  <a:cubicBezTo>
                    <a:pt x="17" y="165"/>
                    <a:pt x="11" y="181"/>
                    <a:pt x="8" y="202"/>
                  </a:cubicBezTo>
                  <a:cubicBezTo>
                    <a:pt x="4" y="222"/>
                    <a:pt x="0" y="246"/>
                    <a:pt x="8" y="271"/>
                  </a:cubicBezTo>
                  <a:cubicBezTo>
                    <a:pt x="15" y="295"/>
                    <a:pt x="32" y="327"/>
                    <a:pt x="50" y="348"/>
                  </a:cubicBezTo>
                  <a:cubicBezTo>
                    <a:pt x="67" y="368"/>
                    <a:pt x="99" y="386"/>
                    <a:pt x="112" y="397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12240" y="3570120"/>
              <a:ext cx="768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Don’t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prolife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07160" y="36511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FN-</a:t>
              </a: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780320" y="3476160"/>
            <a:ext cx="737640" cy="630360"/>
            <a:chOff x="7780320" y="3476160"/>
            <a:chExt cx="737640" cy="630360"/>
          </a:xfrm>
        </p:grpSpPr>
        <p:sp>
          <p:nvSpPr>
            <p:cNvPr id="784" name=""/>
            <p:cNvSpPr/>
            <p:nvPr/>
          </p:nvSpPr>
          <p:spPr>
            <a:xfrm flipH="1" flipV="1">
              <a:off x="7780320" y="3475800"/>
              <a:ext cx="210960" cy="630360"/>
            </a:xfrm>
            <a:custGeom>
              <a:avLst/>
              <a:gdLst/>
              <a:ahLst/>
              <a:rect l="l" t="t" r="r" b="b"/>
              <a:pathLst>
                <a:path w="133" h="397">
                  <a:moveTo>
                    <a:pt x="133" y="0"/>
                  </a:moveTo>
                  <a:cubicBezTo>
                    <a:pt x="113" y="29"/>
                    <a:pt x="94" y="59"/>
                    <a:pt x="77" y="84"/>
                  </a:cubicBezTo>
                  <a:cubicBezTo>
                    <a:pt x="59" y="108"/>
                    <a:pt x="40" y="126"/>
                    <a:pt x="29" y="146"/>
                  </a:cubicBezTo>
                  <a:cubicBezTo>
                    <a:pt x="17" y="165"/>
                    <a:pt x="11" y="181"/>
                    <a:pt x="8" y="202"/>
                  </a:cubicBezTo>
                  <a:cubicBezTo>
                    <a:pt x="4" y="222"/>
                    <a:pt x="0" y="246"/>
                    <a:pt x="8" y="271"/>
                  </a:cubicBezTo>
                  <a:cubicBezTo>
                    <a:pt x="15" y="295"/>
                    <a:pt x="32" y="327"/>
                    <a:pt x="50" y="348"/>
                  </a:cubicBezTo>
                  <a:cubicBezTo>
                    <a:pt x="67" y="368"/>
                    <a:pt x="99" y="386"/>
                    <a:pt x="112" y="397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83720" y="360180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L-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7219800" y="4016520"/>
            <a:ext cx="1646280" cy="819000"/>
            <a:chOff x="7219800" y="4016520"/>
            <a:chExt cx="1646280" cy="819000"/>
          </a:xfrm>
        </p:grpSpPr>
        <p:sp>
          <p:nvSpPr>
            <p:cNvPr id="787" name=""/>
            <p:cNvSpPr/>
            <p:nvPr/>
          </p:nvSpPr>
          <p:spPr>
            <a:xfrm>
              <a:off x="7219800" y="4016520"/>
              <a:ext cx="819000" cy="819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81920" y="4144680"/>
              <a:ext cx="460440" cy="545760"/>
            </a:xfrm>
            <a:custGeom>
              <a:avLst/>
              <a:gdLst/>
              <a:ahLst/>
              <a:rect l="l" t="t" r="r" b="b"/>
              <a:pathLst>
                <a:path w="290" h="344">
                  <a:moveTo>
                    <a:pt x="0" y="311"/>
                  </a:moveTo>
                  <a:cubicBezTo>
                    <a:pt x="24" y="322"/>
                    <a:pt x="48" y="333"/>
                    <a:pt x="76" y="338"/>
                  </a:cubicBezTo>
                  <a:cubicBezTo>
                    <a:pt x="103" y="342"/>
                    <a:pt x="139" y="344"/>
                    <a:pt x="167" y="338"/>
                  </a:cubicBezTo>
                  <a:cubicBezTo>
                    <a:pt x="194" y="331"/>
                    <a:pt x="223" y="315"/>
                    <a:pt x="243" y="297"/>
                  </a:cubicBezTo>
                  <a:cubicBezTo>
                    <a:pt x="262" y="278"/>
                    <a:pt x="279" y="258"/>
                    <a:pt x="285" y="227"/>
                  </a:cubicBezTo>
                  <a:cubicBezTo>
                    <a:pt x="290" y="195"/>
                    <a:pt x="288" y="141"/>
                    <a:pt x="278" y="109"/>
                  </a:cubicBezTo>
                  <a:cubicBezTo>
                    <a:pt x="267" y="76"/>
                    <a:pt x="245" y="49"/>
                    <a:pt x="223" y="32"/>
                  </a:cubicBezTo>
                  <a:cubicBezTo>
                    <a:pt x="201" y="14"/>
                    <a:pt x="171" y="7"/>
                    <a:pt x="146" y="4"/>
                  </a:cubicBezTo>
                  <a:cubicBezTo>
                    <a:pt x="120" y="0"/>
                    <a:pt x="93" y="4"/>
                    <a:pt x="70" y="11"/>
                  </a:cubicBezTo>
                  <a:cubicBezTo>
                    <a:pt x="46" y="17"/>
                    <a:pt x="20" y="38"/>
                    <a:pt x="7" y="4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418600" y="421776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72480" y="4430520"/>
              <a:ext cx="767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Prolife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7219800" y="2714760"/>
            <a:ext cx="1636560" cy="819000"/>
            <a:chOff x="7219800" y="2714760"/>
            <a:chExt cx="1636560" cy="819000"/>
          </a:xfrm>
        </p:grpSpPr>
        <p:sp>
          <p:nvSpPr>
            <p:cNvPr id="792" name=""/>
            <p:cNvSpPr/>
            <p:nvPr/>
          </p:nvSpPr>
          <p:spPr>
            <a:xfrm>
              <a:off x="7219800" y="2714760"/>
              <a:ext cx="819000" cy="8190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72200" y="2865240"/>
              <a:ext cx="460440" cy="545760"/>
            </a:xfrm>
            <a:custGeom>
              <a:avLst/>
              <a:gdLst/>
              <a:ahLst/>
              <a:rect l="l" t="t" r="r" b="b"/>
              <a:pathLst>
                <a:path w="290" h="344">
                  <a:moveTo>
                    <a:pt x="0" y="311"/>
                  </a:moveTo>
                  <a:cubicBezTo>
                    <a:pt x="24" y="322"/>
                    <a:pt x="48" y="333"/>
                    <a:pt x="76" y="338"/>
                  </a:cubicBezTo>
                  <a:cubicBezTo>
                    <a:pt x="103" y="342"/>
                    <a:pt x="139" y="344"/>
                    <a:pt x="167" y="338"/>
                  </a:cubicBezTo>
                  <a:cubicBezTo>
                    <a:pt x="194" y="331"/>
                    <a:pt x="223" y="315"/>
                    <a:pt x="243" y="297"/>
                  </a:cubicBezTo>
                  <a:cubicBezTo>
                    <a:pt x="262" y="278"/>
                    <a:pt x="279" y="258"/>
                    <a:pt x="285" y="227"/>
                  </a:cubicBezTo>
                  <a:cubicBezTo>
                    <a:pt x="290" y="195"/>
                    <a:pt x="288" y="141"/>
                    <a:pt x="278" y="109"/>
                  </a:cubicBezTo>
                  <a:cubicBezTo>
                    <a:pt x="267" y="76"/>
                    <a:pt x="245" y="49"/>
                    <a:pt x="223" y="32"/>
                  </a:cubicBezTo>
                  <a:cubicBezTo>
                    <a:pt x="201" y="14"/>
                    <a:pt x="171" y="7"/>
                    <a:pt x="146" y="4"/>
                  </a:cubicBezTo>
                  <a:cubicBezTo>
                    <a:pt x="120" y="0"/>
                    <a:pt x="93" y="4"/>
                    <a:pt x="70" y="11"/>
                  </a:cubicBezTo>
                  <a:cubicBezTo>
                    <a:pt x="46" y="17"/>
                    <a:pt x="20" y="38"/>
                    <a:pt x="7" y="4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408880" y="29383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IL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893360" y="3112920"/>
              <a:ext cx="767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0000"/>
                  </a:solidFill>
                  <a:latin typeface="Comic Sans MS"/>
                </a:rPr>
                <a:t>Prolife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304920" y="2006640"/>
            <a:ext cx="4577760" cy="3609000"/>
            <a:chOff x="304920" y="2006640"/>
            <a:chExt cx="4577760" cy="3609000"/>
          </a:xfrm>
        </p:grpSpPr>
        <p:grpSp>
          <p:nvGrpSpPr>
            <p:cNvPr id="797" name=""/>
            <p:cNvGrpSpPr/>
            <p:nvPr/>
          </p:nvGrpSpPr>
          <p:grpSpPr>
            <a:xfrm>
              <a:off x="515880" y="2006640"/>
              <a:ext cx="4366800" cy="3076920"/>
              <a:chOff x="515880" y="2006640"/>
              <a:chExt cx="4366800" cy="307692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515880" y="2481120"/>
                <a:ext cx="1579680" cy="1777680"/>
                <a:chOff x="515880" y="2481120"/>
                <a:chExt cx="1579680" cy="177768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985320" y="2481120"/>
                  <a:ext cx="430200" cy="1138320"/>
                  <a:chOff x="985320" y="2481120"/>
                  <a:chExt cx="430200" cy="113832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 rot="5400000">
                    <a:off x="1128600" y="2442240"/>
                    <a:ext cx="142920" cy="309600"/>
                  </a:xfrm>
                  <a:prstGeom prst="rect">
                    <a:avLst/>
                  </a:prstGeom>
                  <a:noFill/>
                  <a:ln w="572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rot="5400000">
                    <a:off x="1155960" y="2310480"/>
                    <a:ext cx="889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200960" y="2679480"/>
                    <a:ext cx="0" cy="939960"/>
                  </a:xfrm>
                  <a:prstGeom prst="line">
                    <a:avLst/>
                  </a:prstGeom>
                  <a:ln w="572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3" name=""/>
                <p:cNvSpPr/>
                <p:nvPr/>
              </p:nvSpPr>
              <p:spPr>
                <a:xfrm>
                  <a:off x="515880" y="3119760"/>
                  <a:ext cx="1579680" cy="1139040"/>
                </a:xfrm>
                <a:prstGeom prst="irregularSeal2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181160" y="4195800"/>
                <a:ext cx="1821960" cy="609480"/>
              </a:xfrm>
              <a:custGeom>
                <a:avLst/>
                <a:gdLst/>
                <a:ahLst/>
                <a:rect l="l" t="t" r="r" b="b"/>
                <a:pathLst>
                  <a:path w="1148" h="384">
                    <a:moveTo>
                      <a:pt x="0" y="0"/>
                    </a:moveTo>
                    <a:cubicBezTo>
                      <a:pt x="10" y="24"/>
                      <a:pt x="32" y="100"/>
                      <a:pt x="63" y="146"/>
                    </a:cubicBezTo>
                    <a:cubicBezTo>
                      <a:pt x="93" y="191"/>
                      <a:pt x="133" y="237"/>
                      <a:pt x="181" y="272"/>
                    </a:cubicBezTo>
                    <a:cubicBezTo>
                      <a:pt x="228" y="306"/>
                      <a:pt x="279" y="336"/>
                      <a:pt x="348" y="355"/>
                    </a:cubicBezTo>
                    <a:cubicBezTo>
                      <a:pt x="416" y="373"/>
                      <a:pt x="521" y="381"/>
                      <a:pt x="592" y="383"/>
                    </a:cubicBezTo>
                    <a:cubicBezTo>
                      <a:pt x="662" y="384"/>
                      <a:pt x="716" y="372"/>
                      <a:pt x="773" y="362"/>
                    </a:cubicBezTo>
                    <a:cubicBezTo>
                      <a:pt x="829" y="351"/>
                      <a:pt x="886" y="334"/>
                      <a:pt x="933" y="320"/>
                    </a:cubicBezTo>
                    <a:cubicBezTo>
                      <a:pt x="979" y="306"/>
                      <a:pt x="1015" y="297"/>
                      <a:pt x="1051" y="278"/>
                    </a:cubicBezTo>
                    <a:cubicBezTo>
                      <a:pt x="1086" y="258"/>
                      <a:pt x="1131" y="214"/>
                      <a:pt x="1148" y="202"/>
                    </a:cubicBezTo>
                  </a:path>
                </a:pathLst>
              </a:custGeom>
              <a:noFill/>
              <a:ln w="19080">
                <a:solidFill>
                  <a:srgbClr val="00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"/>
              <p:cNvGrpSpPr/>
              <p:nvPr/>
            </p:nvGrpSpPr>
            <p:grpSpPr>
              <a:xfrm>
                <a:off x="1380960" y="2006640"/>
                <a:ext cx="1479240" cy="1204920"/>
                <a:chOff x="1380960" y="2006640"/>
                <a:chExt cx="1479240" cy="12049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1380960" y="2338200"/>
                  <a:ext cx="1479240" cy="873360"/>
                </a:xfrm>
                <a:custGeom>
                  <a:avLst/>
                  <a:gdLst/>
                  <a:ahLst/>
                  <a:rect l="l" t="t" r="r" b="b"/>
                  <a:pathLst>
                    <a:path w="932" h="550">
                      <a:moveTo>
                        <a:pt x="932" y="126"/>
                      </a:moveTo>
                      <a:cubicBezTo>
                        <a:pt x="876" y="98"/>
                        <a:pt x="827" y="69"/>
                        <a:pt x="765" y="49"/>
                      </a:cubicBezTo>
                      <a:cubicBezTo>
                        <a:pt x="702" y="28"/>
                        <a:pt x="623" y="0"/>
                        <a:pt x="557" y="0"/>
                      </a:cubicBezTo>
                      <a:cubicBezTo>
                        <a:pt x="491" y="0"/>
                        <a:pt x="435" y="13"/>
                        <a:pt x="369" y="49"/>
                      </a:cubicBezTo>
                      <a:cubicBezTo>
                        <a:pt x="302" y="84"/>
                        <a:pt x="221" y="132"/>
                        <a:pt x="160" y="216"/>
                      </a:cubicBezTo>
                      <a:cubicBezTo>
                        <a:pt x="98" y="299"/>
                        <a:pt x="33" y="480"/>
                        <a:pt x="0" y="550"/>
                      </a:cubicBezTo>
                    </a:path>
                  </a:pathLst>
                </a:custGeom>
                <a:noFill/>
                <a:ln w="19080">
                  <a:solidFill>
                    <a:srgbClr val="0000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834560" y="200664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IFN-</a:t>
                  </a:r>
                  <a:r>
                    <a:rPr b="0" lang="en-US" sz="1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1546200" y="3224160"/>
                <a:ext cx="1604520" cy="819000"/>
              </a:xfrm>
              <a:custGeom>
                <a:avLst/>
                <a:gdLst/>
                <a:ahLst/>
                <a:rect l="l" t="t" r="r" b="b"/>
                <a:pathLst>
                  <a:path w="1219" h="654">
                    <a:moveTo>
                      <a:pt x="0" y="514"/>
                    </a:moveTo>
                    <a:cubicBezTo>
                      <a:pt x="38" y="539"/>
                      <a:pt x="76" y="564"/>
                      <a:pt x="118" y="584"/>
                    </a:cubicBezTo>
                    <a:cubicBezTo>
                      <a:pt x="159" y="603"/>
                      <a:pt x="201" y="621"/>
                      <a:pt x="251" y="633"/>
                    </a:cubicBezTo>
                    <a:cubicBezTo>
                      <a:pt x="300" y="644"/>
                      <a:pt x="358" y="651"/>
                      <a:pt x="418" y="653"/>
                    </a:cubicBezTo>
                    <a:cubicBezTo>
                      <a:pt x="478" y="654"/>
                      <a:pt x="546" y="653"/>
                      <a:pt x="612" y="640"/>
                    </a:cubicBezTo>
                    <a:cubicBezTo>
                      <a:pt x="678" y="626"/>
                      <a:pt x="756" y="595"/>
                      <a:pt x="814" y="570"/>
                    </a:cubicBezTo>
                    <a:cubicBezTo>
                      <a:pt x="871" y="544"/>
                      <a:pt x="916" y="519"/>
                      <a:pt x="960" y="486"/>
                    </a:cubicBezTo>
                    <a:cubicBezTo>
                      <a:pt x="1004" y="452"/>
                      <a:pt x="1043" y="410"/>
                      <a:pt x="1078" y="368"/>
                    </a:cubicBezTo>
                    <a:cubicBezTo>
                      <a:pt x="1112" y="325"/>
                      <a:pt x="1146" y="271"/>
                      <a:pt x="1169" y="229"/>
                    </a:cubicBezTo>
                    <a:cubicBezTo>
                      <a:pt x="1191" y="186"/>
                      <a:pt x="1202" y="149"/>
                      <a:pt x="1211" y="111"/>
                    </a:cubicBezTo>
                    <a:cubicBezTo>
                      <a:pt x="1219" y="72"/>
                      <a:pt x="1218" y="36"/>
                      <a:pt x="1218" y="0"/>
                    </a:cubicBezTo>
                  </a:path>
                </a:pathLst>
              </a:custGeom>
              <a:noFill/>
              <a:ln w="19080">
                <a:solidFill>
                  <a:srgbClr val="00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87720" y="4003560"/>
                <a:ext cx="53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IL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672560" y="3606840"/>
                <a:ext cx="114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0000"/>
                    </a:solidFill>
                    <a:latin typeface="Comic Sans MS"/>
                  </a:rPr>
                  <a:t>Make more IFN-</a:t>
                </a:r>
                <a:r>
                  <a:rPr b="0" i="1" lang="en-US" sz="1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100880" y="2500200"/>
                <a:ext cx="221400" cy="1220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L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62280" y="2408040"/>
                <a:ext cx="818640" cy="8193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Th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62280" y="3709800"/>
                <a:ext cx="818640" cy="81936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Th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64040" y="3709800"/>
                <a:ext cx="818640" cy="81936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Th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599480" y="4497480"/>
                <a:ext cx="96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0000"/>
                    </a:solidFill>
                    <a:latin typeface="Comic Sans MS"/>
                  </a:rPr>
                  <a:t>Become a Th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887480" y="4807080"/>
                <a:ext cx="53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IL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600360" y="4108320"/>
                <a:ext cx="4741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304920" y="2022480"/>
              <a:ext cx="1839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2240" y="5278320"/>
              <a:ext cx="37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Positive Feedback Loop for Recrui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5342760" y="5535720"/>
            <a:ext cx="319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ositive and Negative Feedback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tabilizes 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tokine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h1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es macroph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luences B cells to produce IgG3 antibod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for opsonizing viruses an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for fixing co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h2 inhib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ates primed macrophages and NK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-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mulates killer T cells and NK cells to prolif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h1 growth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mic Sans MS"/>
              </a:rPr>
              <a:t>Good for bacterial or viral 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36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h2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cell growth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luences B cells to class switch to produce IgE anti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h2 growth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cell growth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luences B cells to class switch to produce IgA anti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ibits macrophage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h1 inhib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mic Sans MS"/>
              </a:rPr>
              <a:t>Good for parasitic (IgE) or mucosal (IgA) 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756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120" y="1195200"/>
            <a:ext cx="836136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mbedded comp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a poses new challenge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,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systems offer insights into how large ensembles of autonomous processors (agents) might be “designed” to yield desirable glob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01280" y="21985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are open issues at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 Tolerance and MHC Restr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 cells mature in thy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to self MHC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sitive se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ose that do not recognize self MHC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ture T cells will have TCRs that recognize antigens presented by MHC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to a large number of “self”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gative se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ose that recognize MHC + self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 dendritic cells that live only a few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akes ~ 2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gradu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xpress large numbers of co-re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5941800" y="4544280"/>
            <a:ext cx="1152720" cy="1176480"/>
            <a:chOff x="5941800" y="4544280"/>
            <a:chExt cx="1152720" cy="1176480"/>
          </a:xfrm>
        </p:grpSpPr>
        <p:grpSp>
          <p:nvGrpSpPr>
            <p:cNvPr id="827" name=""/>
            <p:cNvGrpSpPr/>
            <p:nvPr/>
          </p:nvGrpSpPr>
          <p:grpSpPr>
            <a:xfrm>
              <a:off x="6166440" y="5303880"/>
              <a:ext cx="558360" cy="416880"/>
              <a:chOff x="6166440" y="5303880"/>
              <a:chExt cx="558360" cy="41688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6166440" y="5382360"/>
                <a:ext cx="359280" cy="338400"/>
                <a:chOff x="6166440" y="5382360"/>
                <a:chExt cx="359280" cy="338400"/>
              </a:xfrm>
            </p:grpSpPr>
            <p:sp>
              <p:nvSpPr>
                <p:cNvPr id="829" name=""/>
                <p:cNvSpPr/>
                <p:nvPr/>
              </p:nvSpPr>
              <p:spPr>
                <a:xfrm rot="3736800">
                  <a:off x="6229440" y="5409720"/>
                  <a:ext cx="233280" cy="2833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3736800">
                  <a:off x="6399000" y="5440320"/>
                  <a:ext cx="10188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 rot="14392800">
                <a:off x="6517800" y="5261760"/>
                <a:ext cx="88920" cy="323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5991840" y="4969800"/>
              <a:ext cx="479160" cy="611640"/>
              <a:chOff x="5991840" y="4969800"/>
              <a:chExt cx="479160" cy="611640"/>
            </a:xfrm>
          </p:grpSpPr>
          <p:sp>
            <p:nvSpPr>
              <p:cNvPr id="833" name=""/>
              <p:cNvSpPr/>
              <p:nvPr/>
            </p:nvSpPr>
            <p:spPr>
              <a:xfrm rot="12608400">
                <a:off x="6048360" y="5263200"/>
                <a:ext cx="21204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6146280" y="4969800"/>
                <a:ext cx="324720" cy="339480"/>
                <a:chOff x="6146280" y="4969800"/>
                <a:chExt cx="324720" cy="339480"/>
              </a:xfrm>
            </p:grpSpPr>
            <p:sp>
              <p:nvSpPr>
                <p:cNvPr id="835" name=""/>
                <p:cNvSpPr/>
                <p:nvPr/>
              </p:nvSpPr>
              <p:spPr>
                <a:xfrm rot="12608400">
                  <a:off x="6197400" y="5007600"/>
                  <a:ext cx="222120" cy="263520"/>
                </a:xfrm>
                <a:custGeom>
                  <a:avLst/>
                  <a:gdLst>
                    <a:gd name="textAreaLeft" fmla="*/ 34560 w 222120"/>
                    <a:gd name="textAreaRight" fmla="*/ 187560 w 222120"/>
                    <a:gd name="textAreaTop" fmla="*/ 41040 h 263520"/>
                    <a:gd name="textAreaBottom" fmla="*/ 22248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69" y="21600"/>
                      </a:lnTo>
                      <a:lnTo>
                        <a:pt x="2931" y="216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12608400">
                  <a:off x="6234480" y="5139000"/>
                  <a:ext cx="74160" cy="133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12608400">
                  <a:off x="6242760" y="5068080"/>
                  <a:ext cx="131400" cy="14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12608400">
                  <a:off x="6271200" y="5104800"/>
                  <a:ext cx="74160" cy="74520"/>
                </a:xfrm>
                <a:prstGeom prst="ellipse">
                  <a:avLst/>
                </a:prstGeom>
                <a:solidFill>
                  <a:srgbClr val="33cc33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9" name=""/>
            <p:cNvSpPr/>
            <p:nvPr/>
          </p:nvSpPr>
          <p:spPr>
            <a:xfrm rot="16608600">
              <a:off x="6065280" y="4605120"/>
              <a:ext cx="893880" cy="1042920"/>
            </a:xfrm>
            <a:custGeom>
              <a:avLst/>
              <a:gdLst/>
              <a:ahLst/>
              <a:rect l="l" t="t" r="r" b="b"/>
              <a:pathLst>
                <a:path w="563" h="657">
                  <a:moveTo>
                    <a:pt x="18" y="529"/>
                  </a:moveTo>
                  <a:cubicBezTo>
                    <a:pt x="35" y="506"/>
                    <a:pt x="90" y="506"/>
                    <a:pt x="126" y="478"/>
                  </a:cubicBezTo>
                  <a:cubicBezTo>
                    <a:pt x="161" y="449"/>
                    <a:pt x="195" y="401"/>
                    <a:pt x="229" y="356"/>
                  </a:cubicBezTo>
                  <a:cubicBezTo>
                    <a:pt x="262" y="310"/>
                    <a:pt x="305" y="243"/>
                    <a:pt x="325" y="203"/>
                  </a:cubicBezTo>
                  <a:cubicBezTo>
                    <a:pt x="344" y="162"/>
                    <a:pt x="337" y="140"/>
                    <a:pt x="344" y="113"/>
                  </a:cubicBezTo>
                  <a:cubicBezTo>
                    <a:pt x="350" y="85"/>
                    <a:pt x="338" y="52"/>
                    <a:pt x="363" y="36"/>
                  </a:cubicBezTo>
                  <a:cubicBezTo>
                    <a:pt x="387" y="19"/>
                    <a:pt x="459" y="0"/>
                    <a:pt x="491" y="11"/>
                  </a:cubicBezTo>
                  <a:cubicBezTo>
                    <a:pt x="523" y="21"/>
                    <a:pt x="546" y="58"/>
                    <a:pt x="555" y="100"/>
                  </a:cubicBezTo>
                  <a:cubicBezTo>
                    <a:pt x="563" y="141"/>
                    <a:pt x="554" y="206"/>
                    <a:pt x="542" y="260"/>
                  </a:cubicBezTo>
                  <a:cubicBezTo>
                    <a:pt x="529" y="313"/>
                    <a:pt x="511" y="369"/>
                    <a:pt x="478" y="420"/>
                  </a:cubicBezTo>
                  <a:cubicBezTo>
                    <a:pt x="444" y="470"/>
                    <a:pt x="384" y="523"/>
                    <a:pt x="338" y="561"/>
                  </a:cubicBezTo>
                  <a:cubicBezTo>
                    <a:pt x="291" y="598"/>
                    <a:pt x="240" y="630"/>
                    <a:pt x="197" y="644"/>
                  </a:cubicBezTo>
                  <a:cubicBezTo>
                    <a:pt x="153" y="657"/>
                    <a:pt x="104" y="649"/>
                    <a:pt x="75" y="644"/>
                  </a:cubicBezTo>
                  <a:cubicBezTo>
                    <a:pt x="45" y="638"/>
                    <a:pt x="27" y="632"/>
                    <a:pt x="18" y="612"/>
                  </a:cubicBezTo>
                  <a:cubicBezTo>
                    <a:pt x="8" y="591"/>
                    <a:pt x="0" y="551"/>
                    <a:pt x="18" y="529"/>
                  </a:cubicBez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3608600">
              <a:off x="6015600" y="4901040"/>
              <a:ext cx="11300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ctivate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croph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20720" y="1699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un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051240" y="5125320"/>
            <a:ext cx="2419920" cy="1731240"/>
            <a:chOff x="6051240" y="5125320"/>
            <a:chExt cx="2419920" cy="1731240"/>
          </a:xfrm>
        </p:grpSpPr>
        <p:grpSp>
          <p:nvGrpSpPr>
            <p:cNvPr id="843" name=""/>
            <p:cNvGrpSpPr/>
            <p:nvPr/>
          </p:nvGrpSpPr>
          <p:grpSpPr>
            <a:xfrm>
              <a:off x="6051240" y="5998680"/>
              <a:ext cx="524160" cy="486720"/>
              <a:chOff x="6051240" y="5998680"/>
              <a:chExt cx="524160" cy="48672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6051240" y="5998680"/>
                <a:ext cx="366120" cy="364680"/>
                <a:chOff x="6051240" y="5998680"/>
                <a:chExt cx="366120" cy="364680"/>
              </a:xfrm>
            </p:grpSpPr>
            <p:sp>
              <p:nvSpPr>
                <p:cNvPr id="845" name=""/>
                <p:cNvSpPr/>
                <p:nvPr/>
              </p:nvSpPr>
              <p:spPr>
                <a:xfrm rot="8025000">
                  <a:off x="6117480" y="6039000"/>
                  <a:ext cx="233280" cy="283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8025000">
                  <a:off x="6269040" y="6206400"/>
                  <a:ext cx="10188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 rot="18681000">
                <a:off x="6380280" y="6182640"/>
                <a:ext cx="88560" cy="324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6163920" y="5808240"/>
              <a:ext cx="615600" cy="462240"/>
              <a:chOff x="6163920" y="5808240"/>
              <a:chExt cx="615600" cy="462240"/>
            </a:xfrm>
          </p:grpSpPr>
          <p:sp>
            <p:nvSpPr>
              <p:cNvPr id="849" name=""/>
              <p:cNvSpPr/>
              <p:nvPr/>
            </p:nvSpPr>
            <p:spPr>
              <a:xfrm rot="17860200">
                <a:off x="6232680" y="5826240"/>
                <a:ext cx="21240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6442920" y="5951160"/>
                <a:ext cx="336600" cy="319320"/>
                <a:chOff x="6442920" y="5951160"/>
                <a:chExt cx="336600" cy="319320"/>
              </a:xfrm>
            </p:grpSpPr>
            <p:sp>
              <p:nvSpPr>
                <p:cNvPr id="851" name=""/>
                <p:cNvSpPr/>
                <p:nvPr/>
              </p:nvSpPr>
              <p:spPr>
                <a:xfrm rot="17860200">
                  <a:off x="6499800" y="5978880"/>
                  <a:ext cx="222480" cy="263520"/>
                </a:xfrm>
                <a:custGeom>
                  <a:avLst/>
                  <a:gdLst>
                    <a:gd name="textAreaLeft" fmla="*/ 34560 w 222480"/>
                    <a:gd name="textAreaRight" fmla="*/ 187920 w 222480"/>
                    <a:gd name="textAreaTop" fmla="*/ 41040 h 263520"/>
                    <a:gd name="textAreaBottom" fmla="*/ 22248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69" y="21600"/>
                      </a:lnTo>
                      <a:lnTo>
                        <a:pt x="2931" y="216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7860200">
                  <a:off x="6505920" y="6009120"/>
                  <a:ext cx="74520" cy="133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17860200">
                  <a:off x="6545520" y="6038640"/>
                  <a:ext cx="131760" cy="14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17860200">
                  <a:off x="6571440" y="6073200"/>
                  <a:ext cx="74520" cy="74520"/>
                </a:xfrm>
                <a:prstGeom prst="ellipse">
                  <a:avLst/>
                </a:prstGeom>
                <a:solidFill>
                  <a:srgbClr val="33cc33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5" name=""/>
            <p:cNvGrpSpPr/>
            <p:nvPr/>
          </p:nvGrpSpPr>
          <p:grpSpPr>
            <a:xfrm>
              <a:off x="6280200" y="5649840"/>
              <a:ext cx="1003680" cy="1206720"/>
              <a:chOff x="6280200" y="5649840"/>
              <a:chExt cx="1003680" cy="1206720"/>
            </a:xfrm>
          </p:grpSpPr>
          <p:sp>
            <p:nvSpPr>
              <p:cNvPr id="856" name=""/>
              <p:cNvSpPr/>
              <p:nvPr/>
            </p:nvSpPr>
            <p:spPr>
              <a:xfrm>
                <a:off x="6280200" y="5649840"/>
                <a:ext cx="893880" cy="1042920"/>
              </a:xfrm>
              <a:custGeom>
                <a:avLst/>
                <a:gdLst/>
                <a:ahLst/>
                <a:rect l="l" t="t" r="r" b="b"/>
                <a:pathLst>
                  <a:path w="563" h="657">
                    <a:moveTo>
                      <a:pt x="18" y="529"/>
                    </a:moveTo>
                    <a:cubicBezTo>
                      <a:pt x="35" y="506"/>
                      <a:pt x="90" y="506"/>
                      <a:pt x="126" y="478"/>
                    </a:cubicBezTo>
                    <a:cubicBezTo>
                      <a:pt x="161" y="449"/>
                      <a:pt x="195" y="401"/>
                      <a:pt x="229" y="356"/>
                    </a:cubicBezTo>
                    <a:cubicBezTo>
                      <a:pt x="262" y="310"/>
                      <a:pt x="305" y="243"/>
                      <a:pt x="325" y="203"/>
                    </a:cubicBezTo>
                    <a:cubicBezTo>
                      <a:pt x="344" y="162"/>
                      <a:pt x="337" y="140"/>
                      <a:pt x="344" y="113"/>
                    </a:cubicBezTo>
                    <a:cubicBezTo>
                      <a:pt x="350" y="85"/>
                      <a:pt x="338" y="52"/>
                      <a:pt x="363" y="36"/>
                    </a:cubicBezTo>
                    <a:cubicBezTo>
                      <a:pt x="387" y="19"/>
                      <a:pt x="459" y="0"/>
                      <a:pt x="491" y="11"/>
                    </a:cubicBezTo>
                    <a:cubicBezTo>
                      <a:pt x="523" y="21"/>
                      <a:pt x="546" y="58"/>
                      <a:pt x="555" y="100"/>
                    </a:cubicBezTo>
                    <a:cubicBezTo>
                      <a:pt x="563" y="141"/>
                      <a:pt x="554" y="206"/>
                      <a:pt x="542" y="260"/>
                    </a:cubicBezTo>
                    <a:cubicBezTo>
                      <a:pt x="529" y="313"/>
                      <a:pt x="511" y="369"/>
                      <a:pt x="478" y="420"/>
                    </a:cubicBezTo>
                    <a:cubicBezTo>
                      <a:pt x="444" y="470"/>
                      <a:pt x="384" y="523"/>
                      <a:pt x="338" y="561"/>
                    </a:cubicBezTo>
                    <a:cubicBezTo>
                      <a:pt x="291" y="598"/>
                      <a:pt x="240" y="630"/>
                      <a:pt x="197" y="644"/>
                    </a:cubicBezTo>
                    <a:cubicBezTo>
                      <a:pt x="153" y="657"/>
                      <a:pt x="104" y="649"/>
                      <a:pt x="75" y="644"/>
                    </a:cubicBezTo>
                    <a:cubicBezTo>
                      <a:pt x="45" y="638"/>
                      <a:pt x="27" y="632"/>
                      <a:pt x="18" y="612"/>
                    </a:cubicBezTo>
                    <a:cubicBezTo>
                      <a:pt x="8" y="591"/>
                      <a:pt x="0" y="551"/>
                      <a:pt x="18" y="529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8165600">
                <a:off x="6206400" y="6079680"/>
                <a:ext cx="1207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ctivate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Dendritic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7512120" y="5492880"/>
              <a:ext cx="959040" cy="1135440"/>
              <a:chOff x="7512120" y="5492880"/>
              <a:chExt cx="959040" cy="1135440"/>
            </a:xfrm>
          </p:grpSpPr>
          <p:sp>
            <p:nvSpPr>
              <p:cNvPr id="859" name=""/>
              <p:cNvSpPr/>
              <p:nvPr/>
            </p:nvSpPr>
            <p:spPr>
              <a:xfrm>
                <a:off x="7512120" y="5519520"/>
                <a:ext cx="893520" cy="1042560"/>
              </a:xfrm>
              <a:custGeom>
                <a:avLst/>
                <a:gdLst/>
                <a:ahLst/>
                <a:rect l="l" t="t" r="r" b="b"/>
                <a:pathLst>
                  <a:path w="563" h="657">
                    <a:moveTo>
                      <a:pt x="18" y="529"/>
                    </a:moveTo>
                    <a:cubicBezTo>
                      <a:pt x="35" y="506"/>
                      <a:pt x="90" y="506"/>
                      <a:pt x="126" y="478"/>
                    </a:cubicBezTo>
                    <a:cubicBezTo>
                      <a:pt x="161" y="449"/>
                      <a:pt x="195" y="401"/>
                      <a:pt x="229" y="356"/>
                    </a:cubicBezTo>
                    <a:cubicBezTo>
                      <a:pt x="262" y="310"/>
                      <a:pt x="305" y="243"/>
                      <a:pt x="325" y="203"/>
                    </a:cubicBezTo>
                    <a:cubicBezTo>
                      <a:pt x="344" y="162"/>
                      <a:pt x="337" y="140"/>
                      <a:pt x="344" y="113"/>
                    </a:cubicBezTo>
                    <a:cubicBezTo>
                      <a:pt x="350" y="85"/>
                      <a:pt x="338" y="52"/>
                      <a:pt x="363" y="36"/>
                    </a:cubicBezTo>
                    <a:cubicBezTo>
                      <a:pt x="387" y="19"/>
                      <a:pt x="459" y="0"/>
                      <a:pt x="491" y="11"/>
                    </a:cubicBezTo>
                    <a:cubicBezTo>
                      <a:pt x="523" y="21"/>
                      <a:pt x="546" y="58"/>
                      <a:pt x="555" y="100"/>
                    </a:cubicBezTo>
                    <a:cubicBezTo>
                      <a:pt x="563" y="141"/>
                      <a:pt x="554" y="206"/>
                      <a:pt x="542" y="260"/>
                    </a:cubicBezTo>
                    <a:cubicBezTo>
                      <a:pt x="529" y="313"/>
                      <a:pt x="511" y="369"/>
                      <a:pt x="478" y="420"/>
                    </a:cubicBezTo>
                    <a:cubicBezTo>
                      <a:pt x="444" y="470"/>
                      <a:pt x="384" y="523"/>
                      <a:pt x="338" y="561"/>
                    </a:cubicBezTo>
                    <a:cubicBezTo>
                      <a:pt x="291" y="598"/>
                      <a:pt x="240" y="630"/>
                      <a:pt x="197" y="644"/>
                    </a:cubicBezTo>
                    <a:cubicBezTo>
                      <a:pt x="153" y="657"/>
                      <a:pt x="104" y="649"/>
                      <a:pt x="75" y="644"/>
                    </a:cubicBezTo>
                    <a:cubicBezTo>
                      <a:pt x="45" y="638"/>
                      <a:pt x="27" y="632"/>
                      <a:pt x="18" y="612"/>
                    </a:cubicBezTo>
                    <a:cubicBezTo>
                      <a:pt x="8" y="591"/>
                      <a:pt x="0" y="551"/>
                      <a:pt x="18" y="529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8165600">
                <a:off x="7446960" y="5949720"/>
                <a:ext cx="12078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Dendritic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7000920" y="6461280"/>
              <a:ext cx="466560" cy="31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40520" y="5222880"/>
              <a:ext cx="905040" cy="37476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437000">
              <a:off x="7285680" y="52009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TN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981680" y="4933800"/>
            <a:ext cx="1019880" cy="846000"/>
            <a:chOff x="4981680" y="4933800"/>
            <a:chExt cx="1019880" cy="846000"/>
          </a:xfrm>
        </p:grpSpPr>
        <p:grpSp>
          <p:nvGrpSpPr>
            <p:cNvPr id="865" name=""/>
            <p:cNvGrpSpPr/>
            <p:nvPr/>
          </p:nvGrpSpPr>
          <p:grpSpPr>
            <a:xfrm>
              <a:off x="5082840" y="5207760"/>
              <a:ext cx="524160" cy="486720"/>
              <a:chOff x="5082840" y="5207760"/>
              <a:chExt cx="524160" cy="48672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5240880" y="5329800"/>
                <a:ext cx="366120" cy="364680"/>
                <a:chOff x="5240880" y="5329800"/>
                <a:chExt cx="366120" cy="364680"/>
              </a:xfrm>
            </p:grpSpPr>
            <p:sp>
              <p:nvSpPr>
                <p:cNvPr id="867" name=""/>
                <p:cNvSpPr/>
                <p:nvPr/>
              </p:nvSpPr>
              <p:spPr>
                <a:xfrm rot="18825000">
                  <a:off x="5307120" y="5370120"/>
                  <a:ext cx="233280" cy="283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18825000">
                  <a:off x="5286960" y="5375520"/>
                  <a:ext cx="10188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" name=""/>
              <p:cNvSpPr/>
              <p:nvPr/>
            </p:nvSpPr>
            <p:spPr>
              <a:xfrm rot="7881000">
                <a:off x="5189040" y="5186160"/>
                <a:ext cx="88560" cy="324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5313240" y="5044320"/>
              <a:ext cx="568440" cy="559800"/>
              <a:chOff x="5313240" y="5044320"/>
              <a:chExt cx="568440" cy="559800"/>
            </a:xfrm>
          </p:grpSpPr>
          <p:sp>
            <p:nvSpPr>
              <p:cNvPr id="871" name=""/>
              <p:cNvSpPr/>
              <p:nvPr/>
            </p:nvSpPr>
            <p:spPr>
              <a:xfrm rot="8046600">
                <a:off x="5599800" y="5286960"/>
                <a:ext cx="21204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5313240" y="5044320"/>
                <a:ext cx="343800" cy="342720"/>
                <a:chOff x="5313240" y="5044320"/>
                <a:chExt cx="343800" cy="342720"/>
              </a:xfrm>
            </p:grpSpPr>
            <p:sp>
              <p:nvSpPr>
                <p:cNvPr id="873" name=""/>
                <p:cNvSpPr/>
                <p:nvPr/>
              </p:nvSpPr>
              <p:spPr>
                <a:xfrm rot="8046600">
                  <a:off x="5373720" y="5083560"/>
                  <a:ext cx="222120" cy="263520"/>
                </a:xfrm>
                <a:custGeom>
                  <a:avLst/>
                  <a:gdLst>
                    <a:gd name="textAreaLeft" fmla="*/ 34560 w 222120"/>
                    <a:gd name="textAreaRight" fmla="*/ 187560 w 222120"/>
                    <a:gd name="textAreaTop" fmla="*/ 41040 h 263520"/>
                    <a:gd name="textAreaBottom" fmla="*/ 22248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69" y="21600"/>
                      </a:lnTo>
                      <a:lnTo>
                        <a:pt x="2931" y="216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8046600">
                  <a:off x="5503320" y="5200560"/>
                  <a:ext cx="74160" cy="133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8046600">
                  <a:off x="5419080" y="5144400"/>
                  <a:ext cx="131400" cy="14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8046600">
                  <a:off x="5450040" y="5178960"/>
                  <a:ext cx="74160" cy="74520"/>
                </a:xfrm>
                <a:prstGeom prst="ellipse">
                  <a:avLst/>
                </a:prstGeom>
                <a:solidFill>
                  <a:srgbClr val="33cc33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7" name=""/>
            <p:cNvSpPr/>
            <p:nvPr/>
          </p:nvSpPr>
          <p:spPr>
            <a:xfrm>
              <a:off x="5034600" y="5564160"/>
              <a:ext cx="43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CD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81680" y="53308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B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36520" y="5137200"/>
              <a:ext cx="3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TC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0120" y="4933800"/>
              <a:ext cx="50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MHC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 flipH="1">
            <a:off x="4695840" y="6004080"/>
            <a:ext cx="658800" cy="50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422360" y="1029240"/>
            <a:ext cx="6226920" cy="5503320"/>
            <a:chOff x="1422360" y="1029240"/>
            <a:chExt cx="6226920" cy="5503320"/>
          </a:xfrm>
        </p:grpSpPr>
        <p:sp>
          <p:nvSpPr>
            <p:cNvPr id="883" name=""/>
            <p:cNvSpPr/>
            <p:nvPr/>
          </p:nvSpPr>
          <p:spPr>
            <a:xfrm flipV="1">
              <a:off x="4033800" y="4795560"/>
              <a:ext cx="457200" cy="50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29160" y="4368960"/>
              <a:ext cx="990720" cy="9903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57240" y="45673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Activated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B 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615760" y="3860280"/>
              <a:ext cx="1879560" cy="93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3480" y="3954600"/>
              <a:ext cx="1388880" cy="177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0720" y="380052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Comic Sans MS"/>
                </a:rPr>
                <a:t>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360240" y="368136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Comic Sans MS"/>
                </a:rPr>
                <a:t>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176200" y="3777120"/>
              <a:ext cx="379800" cy="18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Vir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1917000" y="3536640"/>
              <a:ext cx="5732280" cy="1522800"/>
              <a:chOff x="1917000" y="3536640"/>
              <a:chExt cx="5732280" cy="1522800"/>
            </a:xfrm>
          </p:grpSpPr>
          <p:grpSp>
            <p:nvGrpSpPr>
              <p:cNvPr id="892" name=""/>
              <p:cNvGrpSpPr/>
              <p:nvPr/>
            </p:nvGrpSpPr>
            <p:grpSpPr>
              <a:xfrm>
                <a:off x="1917000" y="3536640"/>
                <a:ext cx="5063400" cy="1146600"/>
                <a:chOff x="1917000" y="3536640"/>
                <a:chExt cx="5063400" cy="1146600"/>
              </a:xfrm>
            </p:grpSpPr>
            <p:sp>
              <p:nvSpPr>
                <p:cNvPr id="893" name=""/>
                <p:cNvSpPr/>
                <p:nvPr/>
              </p:nvSpPr>
              <p:spPr>
                <a:xfrm flipH="1" flipV="1">
                  <a:off x="2650680" y="3983040"/>
                  <a:ext cx="1870200" cy="6904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527800" y="4287960"/>
                  <a:ext cx="1452600" cy="395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497760" y="4116240"/>
                  <a:ext cx="76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6600"/>
                      </a:solidFill>
                      <a:latin typeface="Comic Sans MS"/>
                    </a:rPr>
                    <a:t>Opsoniz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580360" y="4278240"/>
                  <a:ext cx="76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6600"/>
                      </a:solidFill>
                      <a:latin typeface="Comic Sans MS"/>
                    </a:rPr>
                    <a:t>Opsoniz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7" name=""/>
                <p:cNvGrpSpPr/>
                <p:nvPr/>
              </p:nvGrpSpPr>
              <p:grpSpPr>
                <a:xfrm>
                  <a:off x="2193840" y="3973680"/>
                  <a:ext cx="141480" cy="212400"/>
                  <a:chOff x="2193840" y="3973680"/>
                  <a:chExt cx="141480" cy="21240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>
                    <a:off x="2193840" y="3973680"/>
                    <a:ext cx="60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H="1">
                    <a:off x="2274840" y="3973680"/>
                    <a:ext cx="60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2450160" y="3911760"/>
                  <a:ext cx="219600" cy="253440"/>
                  <a:chOff x="2450160" y="3911760"/>
                  <a:chExt cx="219600" cy="2534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 rot="20062800">
                    <a:off x="2493000" y="394956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 rot="20062800">
                    <a:off x="2565720" y="39142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3" name=""/>
                <p:cNvGrpSpPr/>
                <p:nvPr/>
              </p:nvGrpSpPr>
              <p:grpSpPr>
                <a:xfrm>
                  <a:off x="2309040" y="3536640"/>
                  <a:ext cx="140400" cy="212760"/>
                  <a:chOff x="2309040" y="3536640"/>
                  <a:chExt cx="140400" cy="212760"/>
                </a:xfrm>
              </p:grpSpPr>
              <p:sp>
                <p:nvSpPr>
                  <p:cNvPr id="904" name=""/>
                  <p:cNvSpPr/>
                  <p:nvPr/>
                </p:nvSpPr>
                <p:spPr>
                  <a:xfrm rot="10800000">
                    <a:off x="2389320" y="35366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flipH="1" rot="10800000">
                    <a:off x="2308680" y="35366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1917000" y="3736440"/>
                  <a:ext cx="251640" cy="214920"/>
                  <a:chOff x="1917000" y="3736440"/>
                  <a:chExt cx="251640" cy="21492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 rot="3963000">
                    <a:off x="1996200" y="37004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 rot="3963000">
                    <a:off x="2028960" y="37742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9" name=""/>
              <p:cNvGrpSpPr/>
              <p:nvPr/>
            </p:nvGrpSpPr>
            <p:grpSpPr>
              <a:xfrm>
                <a:off x="6590880" y="3584160"/>
                <a:ext cx="1058400" cy="1475280"/>
                <a:chOff x="6590880" y="3584160"/>
                <a:chExt cx="1058400" cy="1475280"/>
              </a:xfrm>
            </p:grpSpPr>
            <p:grpSp>
              <p:nvGrpSpPr>
                <p:cNvPr id="910" name=""/>
                <p:cNvGrpSpPr/>
                <p:nvPr/>
              </p:nvGrpSpPr>
              <p:grpSpPr>
                <a:xfrm>
                  <a:off x="6590880" y="3643920"/>
                  <a:ext cx="791280" cy="1218240"/>
                  <a:chOff x="6590880" y="3643920"/>
                  <a:chExt cx="791280" cy="121824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6858000" y="4638600"/>
                    <a:ext cx="33192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590880" y="4531320"/>
                    <a:ext cx="295920" cy="18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" rIns="900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66ff"/>
                        </a:solidFill>
                        <a:latin typeface="Comic Sans MS"/>
                      </a:rPr>
                      <a:t>C3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7080120" y="3643920"/>
                    <a:ext cx="302040" cy="121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 anchorCtr="1" vert="eaVer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acteri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7102440" y="4846680"/>
                  <a:ext cx="141480" cy="212760"/>
                  <a:chOff x="7102440" y="4846680"/>
                  <a:chExt cx="141480" cy="21276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7102440" y="48466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7183440" y="48466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7352280" y="4605120"/>
                  <a:ext cx="253440" cy="246240"/>
                  <a:chOff x="7352280" y="4605120"/>
                  <a:chExt cx="253440" cy="24624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 rot="18655200">
                    <a:off x="7422120" y="46522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 rot="18655200">
                    <a:off x="7474680" y="45910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7410240" y="4154040"/>
                  <a:ext cx="218880" cy="150840"/>
                  <a:chOff x="7410240" y="4154040"/>
                  <a:chExt cx="218880" cy="1508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rot="16045200">
                    <a:off x="7491240" y="416340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rot="16045200">
                    <a:off x="7487640" y="408240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3" name=""/>
                <p:cNvGrpSpPr/>
                <p:nvPr/>
              </p:nvGrpSpPr>
              <p:grpSpPr>
                <a:xfrm>
                  <a:off x="7394400" y="3818520"/>
                  <a:ext cx="254880" cy="235440"/>
                  <a:chOff x="7394400" y="3818520"/>
                  <a:chExt cx="254880" cy="23544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 rot="14161200">
                    <a:off x="7513920" y="386316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 rot="14161200">
                    <a:off x="7468560" y="379656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7300440" y="3584160"/>
                  <a:ext cx="255600" cy="237240"/>
                  <a:chOff x="7300440" y="3584160"/>
                  <a:chExt cx="255600" cy="23724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rot="18275400">
                    <a:off x="7374600" y="362952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 rot="18275400">
                    <a:off x="7421040" y="356292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9" name=""/>
                <p:cNvGrpSpPr/>
                <p:nvPr/>
              </p:nvGrpSpPr>
              <p:grpSpPr>
                <a:xfrm>
                  <a:off x="6843600" y="3692520"/>
                  <a:ext cx="253440" cy="220320"/>
                  <a:chOff x="6843600" y="3692520"/>
                  <a:chExt cx="253440" cy="22032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6960000">
                    <a:off x="6957720" y="365976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 rot="6960000">
                    <a:off x="6921720" y="37324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32" name=""/>
            <p:cNvSpPr/>
            <p:nvPr/>
          </p:nvSpPr>
          <p:spPr>
            <a:xfrm>
              <a:off x="4562640" y="1930320"/>
              <a:ext cx="1299960" cy="1900440"/>
            </a:xfrm>
            <a:custGeom>
              <a:avLst/>
              <a:gdLst/>
              <a:ahLst/>
              <a:rect l="l" t="t" r="r" b="b"/>
              <a:pathLst>
                <a:path w="819" h="1178">
                  <a:moveTo>
                    <a:pt x="646" y="1178"/>
                  </a:moveTo>
                  <a:lnTo>
                    <a:pt x="819" y="1120"/>
                  </a:lnTo>
                  <a:lnTo>
                    <a:pt x="819" y="41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72000" y="2031840"/>
              <a:ext cx="1219320" cy="1697040"/>
            </a:xfrm>
            <a:custGeom>
              <a:avLst/>
              <a:gdLst/>
              <a:ahLst/>
              <a:rect l="l" t="t" r="r" b="b"/>
              <a:pathLst>
                <a:path w="768" h="1069">
                  <a:moveTo>
                    <a:pt x="645" y="1069"/>
                  </a:moveTo>
                  <a:lnTo>
                    <a:pt x="768" y="1029"/>
                  </a:lnTo>
                  <a:lnTo>
                    <a:pt x="768" y="37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1422360" y="1029240"/>
              <a:ext cx="5959440" cy="3036960"/>
              <a:chOff x="1422360" y="1029240"/>
              <a:chExt cx="5959440" cy="3036960"/>
            </a:xfrm>
          </p:grpSpPr>
          <p:sp>
            <p:nvSpPr>
              <p:cNvPr id="935" name=""/>
              <p:cNvSpPr/>
              <p:nvPr/>
            </p:nvSpPr>
            <p:spPr>
              <a:xfrm>
                <a:off x="4094280" y="3098880"/>
                <a:ext cx="528480" cy="600120"/>
              </a:xfrm>
              <a:custGeom>
                <a:avLst/>
                <a:gdLst/>
                <a:ahLst/>
                <a:rect l="l" t="t" r="r" b="b"/>
                <a:pathLst>
                  <a:path w="333" h="378">
                    <a:moveTo>
                      <a:pt x="0" y="0"/>
                    </a:moveTo>
                    <a:lnTo>
                      <a:pt x="103" y="243"/>
                    </a:lnTo>
                    <a:lnTo>
                      <a:pt x="333" y="378"/>
                    </a:lnTo>
                  </a:path>
                </a:pathLst>
              </a:custGeom>
              <a:noFill/>
              <a:ln w="28440">
                <a:solidFill>
                  <a:srgbClr val="33cc33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" name=""/>
              <p:cNvGrpSpPr/>
              <p:nvPr/>
            </p:nvGrpSpPr>
            <p:grpSpPr>
              <a:xfrm>
                <a:off x="1422360" y="1029240"/>
                <a:ext cx="5959440" cy="3036960"/>
                <a:chOff x="1422360" y="1029240"/>
                <a:chExt cx="5959440" cy="3036960"/>
              </a:xfrm>
            </p:grpSpPr>
            <p:sp>
              <p:nvSpPr>
                <p:cNvPr id="937" name=""/>
                <p:cNvSpPr/>
                <p:nvPr/>
              </p:nvSpPr>
              <p:spPr>
                <a:xfrm flipH="1" flipV="1">
                  <a:off x="1836720" y="2100240"/>
                  <a:ext cx="2666880" cy="165888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8" name=""/>
                <p:cNvGrpSpPr/>
                <p:nvPr/>
              </p:nvGrpSpPr>
              <p:grpSpPr>
                <a:xfrm>
                  <a:off x="1422360" y="1029240"/>
                  <a:ext cx="5959440" cy="3036960"/>
                  <a:chOff x="1422360" y="1029240"/>
                  <a:chExt cx="5959440" cy="303696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 rot="3803400">
                    <a:off x="3801240" y="3146760"/>
                    <a:ext cx="5144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33cc33"/>
                        </a:solidFill>
                        <a:latin typeface="Comic Sans MS"/>
                      </a:rPr>
                      <a:t>IFN-</a:t>
                    </a:r>
                    <a:r>
                      <a:rPr b="1" lang="en-US" sz="1000" spc="-1" strike="noStrike">
                        <a:solidFill>
                          <a:srgbClr val="33cc33"/>
                        </a:solidFill>
                        <a:latin typeface="Symbol"/>
                        <a:ea typeface="Symbol"/>
                      </a:rPr>
                      <a:t>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1422360" y="1029240"/>
                    <a:ext cx="5959440" cy="3036960"/>
                    <a:chOff x="1422360" y="1029240"/>
                    <a:chExt cx="5959440" cy="3036960"/>
                  </a:xfrm>
                </p:grpSpPr>
                <p:sp>
                  <p:nvSpPr>
                    <p:cNvPr id="941" name=""/>
                    <p:cNvSpPr/>
                    <p:nvPr/>
                  </p:nvSpPr>
                  <p:spPr>
                    <a:xfrm flipV="1">
                      <a:off x="5605560" y="3369960"/>
                      <a:ext cx="1430280" cy="523800"/>
                    </a:xfrm>
                    <a:prstGeom prst="line">
                      <a:avLst/>
                    </a:prstGeom>
                    <a:ln w="38160">
                      <a:solidFill>
                        <a:srgbClr val="80808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3310560" y="1124280"/>
                      <a:ext cx="1264320" cy="30708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3395160" y="1826640"/>
                      <a:ext cx="1096560" cy="340920"/>
                    </a:xfrm>
                    <a:prstGeom prst="rect">
                      <a:avLst/>
                    </a:prstGeom>
                    <a:solidFill>
                      <a:srgbClr val="fa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ural Kill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3555000" y="2685240"/>
                      <a:ext cx="775080" cy="340920"/>
                    </a:xfrm>
                    <a:prstGeom prst="rect">
                      <a:avLst/>
                    </a:prstGeom>
                    <a:solidFill>
                      <a:srgbClr val="fa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at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K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4530240" y="3191760"/>
                      <a:ext cx="1059840" cy="17064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oph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4532040" y="3725280"/>
                      <a:ext cx="1059840" cy="34092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at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oph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1430280" y="2414520"/>
                      <a:ext cx="990720" cy="990720"/>
                      <a:chOff x="1430280" y="2414520"/>
                      <a:chExt cx="990720" cy="99072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1430280" y="2414520"/>
                        <a:ext cx="990720" cy="990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1489320" y="2717640"/>
                        <a:ext cx="872640" cy="604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Virus</a:t>
                        </a:r>
                        <a:br>
                          <a:rPr sz="1400"/>
                        </a:b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Infected</a:t>
                        </a:r>
                        <a:br>
                          <a:rPr sz="1400"/>
                        </a:b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Cell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1736640" y="2549880"/>
                        <a:ext cx="379800" cy="182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" rIns="9000" tIns="0" bIns="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Viru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1" name=""/>
                    <p:cNvGrpSpPr/>
                    <p:nvPr/>
                  </p:nvGrpSpPr>
                  <p:grpSpPr>
                    <a:xfrm>
                      <a:off x="6425640" y="2329560"/>
                      <a:ext cx="948240" cy="1218240"/>
                      <a:chOff x="6425640" y="2329560"/>
                      <a:chExt cx="948240" cy="1218240"/>
                    </a:xfrm>
                  </p:grpSpPr>
                  <p:grpSp>
                    <p:nvGrpSpPr>
                      <p:cNvPr id="952" name=""/>
                      <p:cNvGrpSpPr/>
                      <p:nvPr/>
                    </p:nvGrpSpPr>
                    <p:grpSpPr>
                      <a:xfrm>
                        <a:off x="6425640" y="2846880"/>
                        <a:ext cx="657000" cy="182880"/>
                        <a:chOff x="6425640" y="2846880"/>
                        <a:chExt cx="657000" cy="182880"/>
                      </a:xfrm>
                    </p:grpSpPr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>
                          <a:off x="6673680" y="2923920"/>
                          <a:ext cx="4089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>
                          <a:off x="6425640" y="2846880"/>
                          <a:ext cx="29592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66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66ff"/>
                              </a:solidFill>
                              <a:latin typeface="Comic Sans MS"/>
                            </a:rPr>
                            <a:t>C3b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55" name=""/>
                      <p:cNvSpPr/>
                      <p:nvPr/>
                    </p:nvSpPr>
                    <p:spPr>
                      <a:xfrm>
                        <a:off x="7071840" y="2329560"/>
                        <a:ext cx="302040" cy="121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 anchorCtr="1" vert="eaVer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acterium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1430280" y="1192680"/>
                      <a:ext cx="379800" cy="182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" rIns="900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i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1422360" y="1835640"/>
                      <a:ext cx="946800" cy="186120"/>
                      <a:chOff x="1422360" y="1835640"/>
                      <a:chExt cx="946800" cy="1861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1744560" y="1930320"/>
                        <a:ext cx="363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59" name=""/>
                      <p:cNvGrpSpPr/>
                      <p:nvPr/>
                    </p:nvGrpSpPr>
                    <p:grpSpPr>
                      <a:xfrm>
                        <a:off x="1422360" y="1835640"/>
                        <a:ext cx="946800" cy="186120"/>
                        <a:chOff x="1422360" y="1835640"/>
                        <a:chExt cx="946800" cy="186120"/>
                      </a:xfrm>
                    </p:grpSpPr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>
                          <a:off x="1422360" y="1835640"/>
                          <a:ext cx="37980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Virus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>
                          <a:off x="2073240" y="1838880"/>
                          <a:ext cx="29592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66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66ff"/>
                              </a:solidFill>
                              <a:latin typeface="Comic Sans MS"/>
                            </a:rPr>
                            <a:t>C3b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1774800" y="1163520"/>
                      <a:ext cx="770400" cy="624240"/>
                      <a:chOff x="1774800" y="1163520"/>
                      <a:chExt cx="770400" cy="624240"/>
                    </a:xfrm>
                  </p:grpSpPr>
                  <p:grpSp>
                    <p:nvGrpSpPr>
                      <p:cNvPr id="963" name=""/>
                      <p:cNvGrpSpPr/>
                      <p:nvPr/>
                    </p:nvGrpSpPr>
                    <p:grpSpPr>
                      <a:xfrm>
                        <a:off x="1814760" y="1163520"/>
                        <a:ext cx="417240" cy="231840"/>
                        <a:chOff x="1814760" y="1163520"/>
                        <a:chExt cx="417240" cy="231840"/>
                      </a:xfrm>
                    </p:grpSpPr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>
                          <a:off x="1814760" y="1279440"/>
                          <a:ext cx="309240" cy="0"/>
                        </a:xfrm>
                        <a:prstGeom prst="line">
                          <a:avLst/>
                        </a:prstGeom>
                        <a:ln w="7632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5" name=""/>
                        <p:cNvSpPr/>
                        <p:nvPr/>
                      </p:nvSpPr>
                      <p:spPr>
                        <a:xfrm>
                          <a:off x="2000160" y="1163520"/>
                          <a:ext cx="231840" cy="231840"/>
                        </a:xfrm>
                        <a:prstGeom prst="ellipse">
                          <a:avLst/>
                        </a:prstGeom>
                        <a:solidFill>
                          <a:srgbClr val="000099"/>
                        </a:solidFill>
                        <a:ln w="93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1774800" y="1386000"/>
                        <a:ext cx="770400" cy="401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75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embrane</a:t>
                        </a:r>
                        <a:br>
                          <a:rPr sz="900"/>
                        </a:b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ttack</a:t>
                        </a:r>
                        <a:br>
                          <a:rPr sz="900"/>
                        </a:b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Complex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6404040" y="1029240"/>
                      <a:ext cx="977760" cy="1218240"/>
                      <a:chOff x="6404040" y="1029240"/>
                      <a:chExt cx="977760" cy="121824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7079760" y="1029240"/>
                        <a:ext cx="302040" cy="121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 anchorCtr="1" vert="eaVer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acterium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69" name=""/>
                      <p:cNvGrpSpPr/>
                      <p:nvPr/>
                    </p:nvGrpSpPr>
                    <p:grpSpPr>
                      <a:xfrm>
                        <a:off x="6404040" y="1164960"/>
                        <a:ext cx="770400" cy="623880"/>
                        <a:chOff x="6404040" y="1164960"/>
                        <a:chExt cx="770400" cy="623880"/>
                      </a:xfrm>
                    </p:grpSpPr>
                    <p:grpSp>
                      <p:nvGrpSpPr>
                        <p:cNvPr id="970" name=""/>
                        <p:cNvGrpSpPr/>
                        <p:nvPr/>
                      </p:nvGrpSpPr>
                      <p:grpSpPr>
                        <a:xfrm>
                          <a:off x="6676560" y="1164960"/>
                          <a:ext cx="417240" cy="231840"/>
                          <a:chOff x="6676560" y="1164960"/>
                          <a:chExt cx="417240" cy="231840"/>
                        </a:xfrm>
                      </p:grpSpPr>
                      <p:sp>
                        <p:nvSpPr>
                          <p:cNvPr id="971" name=""/>
                          <p:cNvSpPr/>
                          <p:nvPr/>
                        </p:nvSpPr>
                        <p:spPr>
                          <a:xfrm flipH="1">
                            <a:off x="6784560" y="1280880"/>
                            <a:ext cx="309240" cy="0"/>
                          </a:xfrm>
                          <a:prstGeom prst="line">
                            <a:avLst/>
                          </a:prstGeom>
                          <a:ln w="76320">
                            <a:solidFill>
                              <a:srgbClr val="0000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 flipH="1">
                            <a:off x="6676560" y="1164960"/>
                            <a:ext cx="231840" cy="231840"/>
                          </a:xfrm>
                          <a:prstGeom prst="ellipse">
                            <a:avLst/>
                          </a:prstGeom>
                          <a:solidFill>
                            <a:srgbClr val="000099"/>
                          </a:solidFill>
                          <a:ln w="9360">
                            <a:solidFill>
                              <a:srgbClr val="0000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73" name=""/>
                        <p:cNvSpPr/>
                        <p:nvPr/>
                      </p:nvSpPr>
                      <p:spPr>
                        <a:xfrm>
                          <a:off x="6404040" y="1387080"/>
                          <a:ext cx="770400" cy="401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75000"/>
                            </a:lnSpc>
                            <a:spcBef>
                              <a:spcPts val="56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Membrane</a:t>
                          </a:r>
                          <a:br>
                            <a:rPr sz="900"/>
                          </a:b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ttack</a:t>
                          </a:r>
                          <a:br>
                            <a:rPr sz="900"/>
                          </a:b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Complex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74" name=""/>
                    <p:cNvSpPr/>
                    <p:nvPr/>
                  </p:nvSpPr>
                  <p:spPr>
                    <a:xfrm flipH="1">
                      <a:off x="2303280" y="1278000"/>
                      <a:ext cx="998280" cy="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4564080" y="1287360"/>
                      <a:ext cx="1836720" cy="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H="1">
                      <a:off x="2116080" y="1973160"/>
                      <a:ext cx="1193760" cy="43200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flipV="1">
                      <a:off x="2489040" y="2844720"/>
                      <a:ext cx="990720" cy="792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flipH="1" flipV="1">
                      <a:off x="2455920" y="3124080"/>
                      <a:ext cx="2047680" cy="74448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2645280" y="104148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2518200" y="194616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2848320" y="259092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3366000" y="326880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5161320" y="106056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3083760" y="2994120"/>
                      <a:ext cx="381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6001920" y="3419640"/>
                      <a:ext cx="381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>
                      <a:off x="2458800" y="1482840"/>
                      <a:ext cx="833400" cy="3967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4592520" y="1422360"/>
                      <a:ext cx="1960560" cy="1341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2410200" y="1384200"/>
                      <a:ext cx="7614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Opson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5447160" y="1871640"/>
                      <a:ext cx="7614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Opson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flipV="1">
                      <a:off x="2367000" y="2184480"/>
                      <a:ext cx="934920" cy="3967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4348080" y="2235240"/>
                      <a:ext cx="355680" cy="91440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>
                      <a:off x="5375160" y="1819440"/>
                      <a:ext cx="1635120" cy="1320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4175280" y="3281400"/>
                      <a:ext cx="377640" cy="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rot="4042200">
                      <a:off x="4344120" y="2436480"/>
                      <a:ext cx="5144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FN-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rot="20140800">
                      <a:off x="2600280" y="2316600"/>
                      <a:ext cx="6289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FN-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rot="1671000">
                      <a:off x="5041800" y="2044080"/>
                      <a:ext cx="4856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L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 rot="19206000">
                      <a:off x="6143400" y="2106000"/>
                      <a:ext cx="4017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L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rot="1659600">
                      <a:off x="4917960" y="2306160"/>
                      <a:ext cx="4262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T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3902040" y="2244600"/>
                      <a:ext cx="0" cy="39708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0" name=""/>
                  <p:cNvSpPr/>
                  <p:nvPr/>
                </p:nvSpPr>
                <p:spPr>
                  <a:xfrm>
                    <a:off x="5019840" y="34034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1" name=""/>
            <p:cNvSpPr/>
            <p:nvPr/>
          </p:nvSpPr>
          <p:spPr>
            <a:xfrm>
              <a:off x="3316680" y="5445000"/>
              <a:ext cx="43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CD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76920" y="5332320"/>
              <a:ext cx="48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CD40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1680" y="5475240"/>
              <a:ext cx="111240" cy="71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2477520" y="4264200"/>
              <a:ext cx="2064240" cy="1530720"/>
              <a:chOff x="2477520" y="4264200"/>
              <a:chExt cx="2064240" cy="153072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4010760" y="4986000"/>
                <a:ext cx="213480" cy="141120"/>
                <a:chOff x="4010760" y="4986000"/>
                <a:chExt cx="213480" cy="141120"/>
              </a:xfrm>
            </p:grpSpPr>
            <p:sp>
              <p:nvSpPr>
                <p:cNvPr id="1006" name=""/>
                <p:cNvSpPr/>
                <p:nvPr/>
              </p:nvSpPr>
              <p:spPr>
                <a:xfrm rot="5388000">
                  <a:off x="4087080" y="4910040"/>
                  <a:ext cx="60120" cy="212760"/>
                </a:xfrm>
                <a:custGeom>
                  <a:avLst/>
                  <a:gdLst/>
                  <a:ahLst/>
                  <a:rect l="l" t="t" r="r" b="b"/>
                  <a:pathLst>
                    <a:path w="38" h="134">
                      <a:moveTo>
                        <a:pt x="0" y="0"/>
                      </a:moveTo>
                      <a:lnTo>
                        <a:pt x="38" y="64"/>
                      </a:lnTo>
                      <a:lnTo>
                        <a:pt x="38" y="134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 rot="5388000">
                  <a:off x="4087440" y="4990320"/>
                  <a:ext cx="60120" cy="212760"/>
                </a:xfrm>
                <a:custGeom>
                  <a:avLst/>
                  <a:gdLst/>
                  <a:ahLst/>
                  <a:rect l="l" t="t" r="r" b="b"/>
                  <a:pathLst>
                    <a:path w="38" h="134">
                      <a:moveTo>
                        <a:pt x="0" y="0"/>
                      </a:moveTo>
                      <a:lnTo>
                        <a:pt x="38" y="64"/>
                      </a:lnTo>
                      <a:lnTo>
                        <a:pt x="38" y="134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2477520" y="4264200"/>
                <a:ext cx="1513440" cy="1530720"/>
                <a:chOff x="2477520" y="4264200"/>
                <a:chExt cx="1513440" cy="153072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3558240" y="5259960"/>
                  <a:ext cx="424080" cy="534960"/>
                  <a:chOff x="3558240" y="5259960"/>
                  <a:chExt cx="424080" cy="534960"/>
                </a:xfrm>
              </p:grpSpPr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3558240" y="5259960"/>
                    <a:ext cx="345960" cy="363600"/>
                    <a:chOff x="3558240" y="5259960"/>
                    <a:chExt cx="345960" cy="36360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 rot="8944800">
                      <a:off x="3614400" y="5299560"/>
                      <a:ext cx="233280" cy="28404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rot="8944800">
                      <a:off x="3741480" y="5487120"/>
                      <a:ext cx="101880" cy="11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13" name=""/>
                  <p:cNvSpPr/>
                  <p:nvPr/>
                </p:nvSpPr>
                <p:spPr>
                  <a:xfrm rot="19600800">
                    <a:off x="3811680" y="5473440"/>
                    <a:ext cx="88920" cy="3236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4" name=""/>
                <p:cNvGrpSpPr/>
                <p:nvPr/>
              </p:nvGrpSpPr>
              <p:grpSpPr>
                <a:xfrm>
                  <a:off x="3000240" y="4513320"/>
                  <a:ext cx="990720" cy="990360"/>
                  <a:chOff x="3000240" y="4513320"/>
                  <a:chExt cx="990720" cy="990360"/>
                </a:xfrm>
              </p:grpSpPr>
              <p:sp>
                <p:nvSpPr>
                  <p:cNvPr id="1015" name=""/>
                  <p:cNvSpPr/>
                  <p:nvPr/>
                </p:nvSpPr>
                <p:spPr>
                  <a:xfrm>
                    <a:off x="3000240" y="4513320"/>
                    <a:ext cx="990720" cy="990360"/>
                  </a:xfrm>
                  <a:prstGeom prst="ellips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162240" y="4692600"/>
                    <a:ext cx="6714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Virgin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B Cel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2712960" y="4278240"/>
                  <a:ext cx="650880" cy="609120"/>
                  <a:chOff x="2712960" y="4278240"/>
                  <a:chExt cx="650880" cy="609120"/>
                </a:xfrm>
              </p:grpSpPr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3140280" y="4329360"/>
                    <a:ext cx="223560" cy="253800"/>
                    <a:chOff x="3140280" y="4329360"/>
                    <a:chExt cx="223560" cy="25380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rot="19959600">
                      <a:off x="3185640" y="436824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flipH="1" rot="19959600">
                      <a:off x="3257280" y="433116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2801880" y="4674600"/>
                    <a:ext cx="250560" cy="212760"/>
                    <a:chOff x="2801880" y="4674600"/>
                    <a:chExt cx="250560" cy="21276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 rot="17589600">
                      <a:off x="2881440" y="471132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H="1" rot="17589000">
                      <a:off x="2912040" y="463752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2894040" y="4502880"/>
                    <a:ext cx="250920" cy="250560"/>
                    <a:chOff x="2894040" y="4502880"/>
                    <a:chExt cx="250920" cy="250560"/>
                  </a:xfrm>
                </p:grpSpPr>
                <p:sp>
                  <p:nvSpPr>
                    <p:cNvPr id="1025" name=""/>
                    <p:cNvSpPr/>
                    <p:nvPr/>
                  </p:nvSpPr>
                  <p:spPr>
                    <a:xfrm rot="18873000">
                      <a:off x="2960640" y="455040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 flipH="1" rot="18873000">
                      <a:off x="3017160" y="449244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3034080" y="4400640"/>
                    <a:ext cx="232200" cy="254520"/>
                    <a:chOff x="3034080" y="4400640"/>
                    <a:chExt cx="232200" cy="254520"/>
                  </a:xfrm>
                </p:grpSpPr>
                <p:sp>
                  <p:nvSpPr>
                    <p:cNvPr id="1028" name=""/>
                    <p:cNvSpPr/>
                    <p:nvPr/>
                  </p:nvSpPr>
                  <p:spPr>
                    <a:xfrm rot="19680000">
                      <a:off x="3085560" y="444240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 flipH="1" rot="19680000">
                      <a:off x="3153600" y="440028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2712960" y="4278240"/>
                    <a:ext cx="542520" cy="520560"/>
                    <a:chOff x="2712960" y="4278240"/>
                    <a:chExt cx="542520" cy="520560"/>
                  </a:xfrm>
                </p:grpSpPr>
                <p:grpSp>
                  <p:nvGrpSpPr>
                    <p:cNvPr id="1031" name=""/>
                    <p:cNvGrpSpPr/>
                    <p:nvPr/>
                  </p:nvGrpSpPr>
                  <p:grpSpPr>
                    <a:xfrm>
                      <a:off x="2748240" y="4672800"/>
                      <a:ext cx="152640" cy="126000"/>
                      <a:chOff x="2748240" y="4672800"/>
                      <a:chExt cx="152640" cy="126000"/>
                    </a:xfrm>
                  </p:grpSpPr>
                  <p:sp>
                    <p:nvSpPr>
                      <p:cNvPr id="1032" name=""/>
                      <p:cNvSpPr/>
                      <p:nvPr/>
                    </p:nvSpPr>
                    <p:spPr>
                      <a:xfrm rot="7471200">
                        <a:off x="2811600" y="470916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3" name=""/>
                      <p:cNvSpPr/>
                      <p:nvPr/>
                    </p:nvSpPr>
                    <p:spPr>
                      <a:xfrm flipH="1" flipV="1">
                        <a:off x="2748240" y="4672800"/>
                        <a:ext cx="70560" cy="4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4" name=""/>
                    <p:cNvGrpSpPr/>
                    <p:nvPr/>
                  </p:nvGrpSpPr>
                  <p:grpSpPr>
                    <a:xfrm>
                      <a:off x="2871000" y="4470120"/>
                      <a:ext cx="138240" cy="143640"/>
                      <a:chOff x="2871000" y="4470120"/>
                      <a:chExt cx="138240" cy="143640"/>
                    </a:xfrm>
                  </p:grpSpPr>
                  <p:sp>
                    <p:nvSpPr>
                      <p:cNvPr id="1035" name=""/>
                      <p:cNvSpPr/>
                      <p:nvPr/>
                    </p:nvSpPr>
                    <p:spPr>
                      <a:xfrm rot="8091600">
                        <a:off x="2918880" y="452340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 flipH="1" flipV="1">
                        <a:off x="2871000" y="4470120"/>
                        <a:ext cx="60480" cy="604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7" name=""/>
                    <p:cNvGrpSpPr/>
                    <p:nvPr/>
                  </p:nvGrpSpPr>
                  <p:grpSpPr>
                    <a:xfrm>
                      <a:off x="3024360" y="4366440"/>
                      <a:ext cx="135720" cy="145800"/>
                      <a:chOff x="3024360" y="4366440"/>
                      <a:chExt cx="135720" cy="145800"/>
                    </a:xfrm>
                  </p:grpSpPr>
                  <p:sp>
                    <p:nvSpPr>
                      <p:cNvPr id="1038" name=""/>
                      <p:cNvSpPr/>
                      <p:nvPr/>
                    </p:nvSpPr>
                    <p:spPr>
                      <a:xfrm rot="8193000">
                        <a:off x="3069720" y="442188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" name=""/>
                      <p:cNvSpPr/>
                      <p:nvPr/>
                    </p:nvSpPr>
                    <p:spPr>
                      <a:xfrm flipH="1" flipV="1">
                        <a:off x="3024360" y="4366440"/>
                        <a:ext cx="58680" cy="6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0" name=""/>
                    <p:cNvGrpSpPr/>
                    <p:nvPr/>
                  </p:nvGrpSpPr>
                  <p:grpSpPr>
                    <a:xfrm>
                      <a:off x="3119760" y="4281840"/>
                      <a:ext cx="135720" cy="145800"/>
                      <a:chOff x="3119760" y="4281840"/>
                      <a:chExt cx="135720" cy="145800"/>
                    </a:xfrm>
                  </p:grpSpPr>
                  <p:sp>
                    <p:nvSpPr>
                      <p:cNvPr id="1041" name=""/>
                      <p:cNvSpPr/>
                      <p:nvPr/>
                    </p:nvSpPr>
                    <p:spPr>
                      <a:xfrm rot="8193000">
                        <a:off x="3165120" y="433728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2" name=""/>
                      <p:cNvSpPr/>
                      <p:nvPr/>
                    </p:nvSpPr>
                    <p:spPr>
                      <a:xfrm flipH="1" flipV="1">
                        <a:off x="3119760" y="4281840"/>
                        <a:ext cx="59040" cy="6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2712960" y="4278240"/>
                      <a:ext cx="39708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256">
                          <a:moveTo>
                            <a:pt x="0" y="256"/>
                          </a:moveTo>
                          <a:cubicBezTo>
                            <a:pt x="6" y="244"/>
                            <a:pt x="21" y="208"/>
                            <a:pt x="38" y="185"/>
                          </a:cubicBezTo>
                          <a:cubicBezTo>
                            <a:pt x="54" y="161"/>
                            <a:pt x="78" y="136"/>
                            <a:pt x="102" y="115"/>
                          </a:cubicBezTo>
                          <a:cubicBezTo>
                            <a:pt x="125" y="93"/>
                            <a:pt x="154" y="76"/>
                            <a:pt x="179" y="57"/>
                          </a:cubicBezTo>
                          <a:cubicBezTo>
                            <a:pt x="203" y="37"/>
                            <a:pt x="235" y="11"/>
                            <a:pt x="25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44" name=""/>
                <p:cNvSpPr/>
                <p:nvPr/>
              </p:nvSpPr>
              <p:spPr>
                <a:xfrm>
                  <a:off x="2477520" y="4264200"/>
                  <a:ext cx="554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omic Sans MS"/>
                    </a:rPr>
                    <a:t>Antige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" name=""/>
              <p:cNvSpPr/>
              <p:nvPr/>
            </p:nvSpPr>
            <p:spPr>
              <a:xfrm>
                <a:off x="4165920" y="4943520"/>
                <a:ext cx="375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654360" y="5541840"/>
              <a:ext cx="990720" cy="990720"/>
              <a:chOff x="3654360" y="5541840"/>
              <a:chExt cx="990720" cy="990720"/>
            </a:xfrm>
          </p:grpSpPr>
          <p:sp>
            <p:nvSpPr>
              <p:cNvPr id="1047" name=""/>
              <p:cNvSpPr/>
              <p:nvPr/>
            </p:nvSpPr>
            <p:spPr>
              <a:xfrm>
                <a:off x="3654360" y="5541840"/>
                <a:ext cx="990720" cy="99072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671280" y="5772240"/>
                <a:ext cx="955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Activat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5398920" y="5315040"/>
            <a:ext cx="990720" cy="990360"/>
            <a:chOff x="5398920" y="5315040"/>
            <a:chExt cx="990720" cy="990360"/>
          </a:xfrm>
        </p:grpSpPr>
        <p:sp>
          <p:nvSpPr>
            <p:cNvPr id="1050" name=""/>
            <p:cNvSpPr/>
            <p:nvPr/>
          </p:nvSpPr>
          <p:spPr>
            <a:xfrm>
              <a:off x="5398920" y="5315040"/>
              <a:ext cx="990720" cy="9903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07640" y="5315040"/>
              <a:ext cx="7430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Virgin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Helper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T Cell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493560" y="5154120"/>
            <a:ext cx="1474200" cy="1473480"/>
            <a:chOff x="493560" y="5154120"/>
            <a:chExt cx="1474200" cy="1473480"/>
          </a:xfrm>
        </p:grpSpPr>
        <p:grpSp>
          <p:nvGrpSpPr>
            <p:cNvPr id="1053" name=""/>
            <p:cNvGrpSpPr/>
            <p:nvPr/>
          </p:nvGrpSpPr>
          <p:grpSpPr>
            <a:xfrm>
              <a:off x="1486080" y="5364720"/>
              <a:ext cx="339480" cy="277560"/>
              <a:chOff x="1486080" y="5364720"/>
              <a:chExt cx="339480" cy="277560"/>
            </a:xfrm>
          </p:grpSpPr>
          <p:sp>
            <p:nvSpPr>
              <p:cNvPr id="1054" name=""/>
              <p:cNvSpPr/>
              <p:nvPr/>
            </p:nvSpPr>
            <p:spPr>
              <a:xfrm rot="15622800">
                <a:off x="1549080" y="5361480"/>
                <a:ext cx="23328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5622800">
                <a:off x="1498320" y="5468400"/>
                <a:ext cx="101880" cy="11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"/>
            <p:cNvSpPr/>
            <p:nvPr/>
          </p:nvSpPr>
          <p:spPr>
            <a:xfrm rot="4678800">
              <a:off x="1378080" y="5394240"/>
              <a:ext cx="88920" cy="324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493560" y="5154120"/>
              <a:ext cx="1474200" cy="1473480"/>
              <a:chOff x="493560" y="5154120"/>
              <a:chExt cx="1474200" cy="147348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1284480" y="5577120"/>
                <a:ext cx="619920" cy="420120"/>
                <a:chOff x="1284480" y="5577120"/>
                <a:chExt cx="619920" cy="420120"/>
              </a:xfrm>
            </p:grpSpPr>
            <p:sp>
              <p:nvSpPr>
                <p:cNvPr id="1059" name=""/>
                <p:cNvSpPr/>
                <p:nvPr/>
              </p:nvSpPr>
              <p:spPr>
                <a:xfrm rot="4071600">
                  <a:off x="1626480" y="5586840"/>
                  <a:ext cx="212400" cy="2840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1284480" y="5691960"/>
                  <a:ext cx="327960" cy="305280"/>
                  <a:chOff x="1284480" y="5691960"/>
                  <a:chExt cx="327960" cy="30528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 rot="4071600">
                    <a:off x="1337040" y="5712840"/>
                    <a:ext cx="222480" cy="263520"/>
                  </a:xfrm>
                  <a:custGeom>
                    <a:avLst/>
                    <a:gdLst>
                      <a:gd name="textAreaLeft" fmla="*/ 34560 w 222480"/>
                      <a:gd name="textAreaRight" fmla="*/ 187920 w 222480"/>
                      <a:gd name="textAreaTop" fmla="*/ 41040 h 263520"/>
                      <a:gd name="textAreaBottom" fmla="*/ 222480 h 26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69" y="21600"/>
                        </a:lnTo>
                        <a:lnTo>
                          <a:pt x="2931" y="2160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rot="4071600">
                    <a:off x="1481040" y="5748120"/>
                    <a:ext cx="74520" cy="13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 rot="4071600">
                    <a:off x="1382760" y="5774040"/>
                    <a:ext cx="131760" cy="142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 rot="4071600">
                    <a:off x="1412640" y="5805720"/>
                    <a:ext cx="74520" cy="745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5" name=""/>
              <p:cNvGrpSpPr/>
              <p:nvPr/>
            </p:nvGrpSpPr>
            <p:grpSpPr>
              <a:xfrm>
                <a:off x="493560" y="5154120"/>
                <a:ext cx="1428840" cy="1473480"/>
                <a:chOff x="493560" y="5154120"/>
                <a:chExt cx="1428840" cy="1473480"/>
              </a:xfrm>
            </p:grpSpPr>
            <p:sp>
              <p:nvSpPr>
                <p:cNvPr id="1066" name=""/>
                <p:cNvSpPr/>
                <p:nvPr/>
              </p:nvSpPr>
              <p:spPr>
                <a:xfrm rot="6940200">
                  <a:off x="640440" y="5370840"/>
                  <a:ext cx="1135080" cy="1039680"/>
                </a:xfrm>
                <a:custGeom>
                  <a:avLst/>
                  <a:gdLst/>
                  <a:ahLst/>
                  <a:rect l="l" t="t" r="r" b="b"/>
                  <a:pathLst>
                    <a:path w="715" h="655">
                      <a:moveTo>
                        <a:pt x="27" y="418"/>
                      </a:moveTo>
                      <a:cubicBezTo>
                        <a:pt x="49" y="400"/>
                        <a:pt x="103" y="412"/>
                        <a:pt x="144" y="393"/>
                      </a:cubicBezTo>
                      <a:cubicBezTo>
                        <a:pt x="185" y="372"/>
                        <a:pt x="229" y="333"/>
                        <a:pt x="272" y="297"/>
                      </a:cubicBezTo>
                      <a:cubicBezTo>
                        <a:pt x="314" y="260"/>
                        <a:pt x="371" y="204"/>
                        <a:pt x="400" y="169"/>
                      </a:cubicBezTo>
                      <a:cubicBezTo>
                        <a:pt x="427" y="134"/>
                        <a:pt x="425" y="111"/>
                        <a:pt x="438" y="86"/>
                      </a:cubicBezTo>
                      <a:cubicBezTo>
                        <a:pt x="450" y="60"/>
                        <a:pt x="446" y="25"/>
                        <a:pt x="474" y="15"/>
                      </a:cubicBezTo>
                      <a:cubicBezTo>
                        <a:pt x="501" y="4"/>
                        <a:pt x="569" y="0"/>
                        <a:pt x="604" y="19"/>
                      </a:cubicBezTo>
                      <a:cubicBezTo>
                        <a:pt x="638" y="37"/>
                        <a:pt x="667" y="80"/>
                        <a:pt x="684" y="129"/>
                      </a:cubicBezTo>
                      <a:cubicBezTo>
                        <a:pt x="700" y="177"/>
                        <a:pt x="715" y="243"/>
                        <a:pt x="703" y="309"/>
                      </a:cubicBezTo>
                      <a:cubicBezTo>
                        <a:pt x="690" y="374"/>
                        <a:pt x="662" y="464"/>
                        <a:pt x="607" y="520"/>
                      </a:cubicBezTo>
                      <a:cubicBezTo>
                        <a:pt x="551" y="575"/>
                        <a:pt x="443" y="626"/>
                        <a:pt x="370" y="641"/>
                      </a:cubicBezTo>
                      <a:cubicBezTo>
                        <a:pt x="296" y="655"/>
                        <a:pt x="214" y="620"/>
                        <a:pt x="165" y="609"/>
                      </a:cubicBezTo>
                      <a:cubicBezTo>
                        <a:pt x="116" y="597"/>
                        <a:pt x="101" y="589"/>
                        <a:pt x="76" y="571"/>
                      </a:cubicBezTo>
                      <a:cubicBezTo>
                        <a:pt x="50" y="552"/>
                        <a:pt x="17" y="524"/>
                        <a:pt x="9" y="499"/>
                      </a:cubicBezTo>
                      <a:cubicBezTo>
                        <a:pt x="0" y="473"/>
                        <a:pt x="5" y="436"/>
                        <a:pt x="27" y="41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rot="4283400">
                  <a:off x="617760" y="5739480"/>
                  <a:ext cx="11300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Activat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Macropha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rot="4143000">
                  <a:off x="702720" y="5969520"/>
                  <a:ext cx="410400" cy="18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" rIns="900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Comic Sans MS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9" name=""/>
              <p:cNvSpPr/>
              <p:nvPr/>
            </p:nvSpPr>
            <p:spPr>
              <a:xfrm>
                <a:off x="1326240" y="5210280"/>
                <a:ext cx="435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CD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213200" y="5353200"/>
                <a:ext cx="30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B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02720" y="5799240"/>
                <a:ext cx="365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TC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355760" y="5900760"/>
                <a:ext cx="47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MHC 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3" name=""/>
          <p:cNvGrpSpPr/>
          <p:nvPr/>
        </p:nvGrpSpPr>
        <p:grpSpPr>
          <a:xfrm>
            <a:off x="2173320" y="5603040"/>
            <a:ext cx="1185480" cy="1218240"/>
            <a:chOff x="2173320" y="5603040"/>
            <a:chExt cx="1185480" cy="1218240"/>
          </a:xfrm>
        </p:grpSpPr>
        <p:grpSp>
          <p:nvGrpSpPr>
            <p:cNvPr id="1074" name=""/>
            <p:cNvGrpSpPr/>
            <p:nvPr/>
          </p:nvGrpSpPr>
          <p:grpSpPr>
            <a:xfrm>
              <a:off x="2382480" y="5603040"/>
              <a:ext cx="366480" cy="365040"/>
              <a:chOff x="2382480" y="5603040"/>
              <a:chExt cx="366480" cy="365040"/>
            </a:xfrm>
          </p:grpSpPr>
          <p:sp>
            <p:nvSpPr>
              <p:cNvPr id="1075" name=""/>
              <p:cNvSpPr/>
              <p:nvPr/>
            </p:nvSpPr>
            <p:spPr>
              <a:xfrm rot="8025000">
                <a:off x="2448720" y="5643360"/>
                <a:ext cx="23328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8025000">
                <a:off x="2601000" y="5811120"/>
                <a:ext cx="101880" cy="11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 rot="18681000">
              <a:off x="2712960" y="5789520"/>
              <a:ext cx="88920" cy="323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2173320" y="5784840"/>
              <a:ext cx="473760" cy="612360"/>
              <a:chOff x="2173320" y="5784840"/>
              <a:chExt cx="473760" cy="612360"/>
            </a:xfrm>
          </p:grpSpPr>
          <p:sp>
            <p:nvSpPr>
              <p:cNvPr id="1079" name=""/>
              <p:cNvSpPr/>
              <p:nvPr/>
            </p:nvSpPr>
            <p:spPr>
              <a:xfrm rot="19841400">
                <a:off x="2229120" y="5818320"/>
                <a:ext cx="21204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2324520" y="6058800"/>
                <a:ext cx="322560" cy="338400"/>
                <a:chOff x="2324520" y="6058800"/>
                <a:chExt cx="322560" cy="338400"/>
              </a:xfrm>
            </p:grpSpPr>
            <p:sp>
              <p:nvSpPr>
                <p:cNvPr id="1081" name=""/>
                <p:cNvSpPr/>
                <p:nvPr/>
              </p:nvSpPr>
              <p:spPr>
                <a:xfrm rot="19841400">
                  <a:off x="2374560" y="6096240"/>
                  <a:ext cx="222120" cy="263520"/>
                </a:xfrm>
                <a:custGeom>
                  <a:avLst/>
                  <a:gdLst>
                    <a:gd name="textAreaLeft" fmla="*/ 34560 w 222120"/>
                    <a:gd name="textAreaRight" fmla="*/ 187560 w 222120"/>
                    <a:gd name="textAreaTop" fmla="*/ 41040 h 263520"/>
                    <a:gd name="textAreaBottom" fmla="*/ 22248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69" y="21600"/>
                      </a:lnTo>
                      <a:lnTo>
                        <a:pt x="2931" y="216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9841400">
                  <a:off x="2410200" y="6095160"/>
                  <a:ext cx="74160" cy="133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9841400">
                  <a:off x="2420280" y="6156360"/>
                  <a:ext cx="131400" cy="14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9841400">
                  <a:off x="2446560" y="6189480"/>
                  <a:ext cx="74160" cy="74520"/>
                </a:xfrm>
                <a:prstGeom prst="ellipse">
                  <a:avLst/>
                </a:prstGeom>
                <a:solidFill>
                  <a:srgbClr val="33cc33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5" name=""/>
            <p:cNvGrpSpPr/>
            <p:nvPr/>
          </p:nvGrpSpPr>
          <p:grpSpPr>
            <a:xfrm>
              <a:off x="2206800" y="5728320"/>
              <a:ext cx="1152000" cy="1092960"/>
              <a:chOff x="2206800" y="5728320"/>
              <a:chExt cx="1152000" cy="1092960"/>
            </a:xfrm>
          </p:grpSpPr>
          <p:sp>
            <p:nvSpPr>
              <p:cNvPr id="1086" name=""/>
              <p:cNvSpPr/>
              <p:nvPr/>
            </p:nvSpPr>
            <p:spPr>
              <a:xfrm>
                <a:off x="2206800" y="5748480"/>
                <a:ext cx="1134720" cy="1039680"/>
              </a:xfrm>
              <a:custGeom>
                <a:avLst/>
                <a:gdLst/>
                <a:ahLst/>
                <a:rect l="l" t="t" r="r" b="b"/>
                <a:pathLst>
                  <a:path w="715" h="655">
                    <a:moveTo>
                      <a:pt x="27" y="418"/>
                    </a:moveTo>
                    <a:cubicBezTo>
                      <a:pt x="49" y="400"/>
                      <a:pt x="103" y="412"/>
                      <a:pt x="144" y="393"/>
                    </a:cubicBezTo>
                    <a:cubicBezTo>
                      <a:pt x="185" y="372"/>
                      <a:pt x="229" y="333"/>
                      <a:pt x="272" y="297"/>
                    </a:cubicBezTo>
                    <a:cubicBezTo>
                      <a:pt x="314" y="260"/>
                      <a:pt x="371" y="204"/>
                      <a:pt x="400" y="169"/>
                    </a:cubicBezTo>
                    <a:cubicBezTo>
                      <a:pt x="427" y="134"/>
                      <a:pt x="425" y="111"/>
                      <a:pt x="438" y="86"/>
                    </a:cubicBezTo>
                    <a:cubicBezTo>
                      <a:pt x="450" y="60"/>
                      <a:pt x="446" y="25"/>
                      <a:pt x="474" y="15"/>
                    </a:cubicBezTo>
                    <a:cubicBezTo>
                      <a:pt x="501" y="4"/>
                      <a:pt x="569" y="0"/>
                      <a:pt x="604" y="19"/>
                    </a:cubicBezTo>
                    <a:cubicBezTo>
                      <a:pt x="638" y="37"/>
                      <a:pt x="667" y="80"/>
                      <a:pt x="684" y="129"/>
                    </a:cubicBezTo>
                    <a:cubicBezTo>
                      <a:pt x="700" y="177"/>
                      <a:pt x="715" y="243"/>
                      <a:pt x="703" y="309"/>
                    </a:cubicBezTo>
                    <a:cubicBezTo>
                      <a:pt x="690" y="374"/>
                      <a:pt x="662" y="464"/>
                      <a:pt x="607" y="520"/>
                    </a:cubicBezTo>
                    <a:cubicBezTo>
                      <a:pt x="551" y="575"/>
                      <a:pt x="443" y="626"/>
                      <a:pt x="370" y="641"/>
                    </a:cubicBezTo>
                    <a:cubicBezTo>
                      <a:pt x="296" y="655"/>
                      <a:pt x="214" y="620"/>
                      <a:pt x="165" y="609"/>
                    </a:cubicBezTo>
                    <a:cubicBezTo>
                      <a:pt x="116" y="597"/>
                      <a:pt x="101" y="589"/>
                      <a:pt x="76" y="571"/>
                    </a:cubicBezTo>
                    <a:cubicBezTo>
                      <a:pt x="50" y="552"/>
                      <a:pt x="17" y="524"/>
                      <a:pt x="9" y="499"/>
                    </a:cubicBezTo>
                    <a:cubicBezTo>
                      <a:pt x="0" y="473"/>
                      <a:pt x="5" y="436"/>
                      <a:pt x="27" y="41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8943200">
                <a:off x="2200680" y="6100200"/>
                <a:ext cx="1207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ctivate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Dendritic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8802800">
                <a:off x="2852640" y="6373080"/>
                <a:ext cx="41040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" rIns="900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Vir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720720" y="1699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un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615760" y="3681360"/>
            <a:ext cx="4386600" cy="451080"/>
            <a:chOff x="2615760" y="3681360"/>
            <a:chExt cx="4386600" cy="451080"/>
          </a:xfrm>
        </p:grpSpPr>
        <p:sp>
          <p:nvSpPr>
            <p:cNvPr id="1091" name=""/>
            <p:cNvSpPr/>
            <p:nvPr/>
          </p:nvSpPr>
          <p:spPr>
            <a:xfrm flipH="1" flipV="1">
              <a:off x="2615760" y="3860280"/>
              <a:ext cx="1879560" cy="93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613480" y="3954600"/>
              <a:ext cx="1388880" cy="177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120720" y="380052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Comic Sans MS"/>
                </a:rPr>
                <a:t>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60240" y="368136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Comic Sans MS"/>
                </a:rPr>
                <a:t>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1917000" y="3536640"/>
            <a:ext cx="5732280" cy="1522800"/>
            <a:chOff x="1917000" y="3536640"/>
            <a:chExt cx="5732280" cy="1522800"/>
          </a:xfrm>
        </p:grpSpPr>
        <p:sp>
          <p:nvSpPr>
            <p:cNvPr id="1096" name=""/>
            <p:cNvSpPr/>
            <p:nvPr/>
          </p:nvSpPr>
          <p:spPr>
            <a:xfrm>
              <a:off x="2176200" y="3777120"/>
              <a:ext cx="379800" cy="18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Vir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1917000" y="3536640"/>
              <a:ext cx="5732280" cy="1522800"/>
              <a:chOff x="1917000" y="3536640"/>
              <a:chExt cx="5732280" cy="152280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1917000" y="3536640"/>
                <a:ext cx="5063400" cy="1146600"/>
                <a:chOff x="1917000" y="3536640"/>
                <a:chExt cx="5063400" cy="1146600"/>
              </a:xfrm>
            </p:grpSpPr>
            <p:sp>
              <p:nvSpPr>
                <p:cNvPr id="1099" name=""/>
                <p:cNvSpPr/>
                <p:nvPr/>
              </p:nvSpPr>
              <p:spPr>
                <a:xfrm flipH="1" flipV="1">
                  <a:off x="2650680" y="3983040"/>
                  <a:ext cx="1870200" cy="6904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5527800" y="4287960"/>
                  <a:ext cx="1452600" cy="395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497760" y="4116240"/>
                  <a:ext cx="76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6600"/>
                      </a:solidFill>
                      <a:latin typeface="Comic Sans MS"/>
                    </a:rPr>
                    <a:t>Opsoniz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580360" y="4278240"/>
                  <a:ext cx="76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6600"/>
                      </a:solidFill>
                      <a:latin typeface="Comic Sans MS"/>
                    </a:rPr>
                    <a:t>Opsoniz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2193840" y="3973680"/>
                  <a:ext cx="141480" cy="212400"/>
                  <a:chOff x="2193840" y="3973680"/>
                  <a:chExt cx="141480" cy="21240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2193840" y="3973680"/>
                    <a:ext cx="60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>
                    <a:off x="2274840" y="3973680"/>
                    <a:ext cx="60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2450160" y="3911760"/>
                  <a:ext cx="219600" cy="253440"/>
                  <a:chOff x="2450160" y="3911760"/>
                  <a:chExt cx="219600" cy="25344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 rot="20062800">
                    <a:off x="2493000" y="394956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 rot="20062800">
                    <a:off x="2565720" y="39142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2309040" y="3536640"/>
                  <a:ext cx="140400" cy="212760"/>
                  <a:chOff x="2309040" y="3536640"/>
                  <a:chExt cx="140400" cy="2127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rot="10800000">
                    <a:off x="2389320" y="35366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 rot="10800000">
                    <a:off x="2308680" y="35366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1917000" y="3736440"/>
                  <a:ext cx="251640" cy="214920"/>
                  <a:chOff x="1917000" y="3736440"/>
                  <a:chExt cx="251640" cy="21492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 rot="3963000">
                    <a:off x="1996200" y="37004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H="1" rot="3963000">
                    <a:off x="2028960" y="377424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5" name=""/>
              <p:cNvGrpSpPr/>
              <p:nvPr/>
            </p:nvGrpSpPr>
            <p:grpSpPr>
              <a:xfrm>
                <a:off x="6590880" y="3584160"/>
                <a:ext cx="1058400" cy="1475280"/>
                <a:chOff x="6590880" y="3584160"/>
                <a:chExt cx="1058400" cy="1475280"/>
              </a:xfrm>
            </p:grpSpPr>
            <p:grpSp>
              <p:nvGrpSpPr>
                <p:cNvPr id="1116" name=""/>
                <p:cNvGrpSpPr/>
                <p:nvPr/>
              </p:nvGrpSpPr>
              <p:grpSpPr>
                <a:xfrm>
                  <a:off x="6590880" y="3643920"/>
                  <a:ext cx="791280" cy="1218240"/>
                  <a:chOff x="6590880" y="3643920"/>
                  <a:chExt cx="791280" cy="121824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858000" y="4638600"/>
                    <a:ext cx="33192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590880" y="4531320"/>
                    <a:ext cx="295920" cy="18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" rIns="900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66ff"/>
                        </a:solidFill>
                        <a:latin typeface="Comic Sans MS"/>
                      </a:rPr>
                      <a:t>C3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7080120" y="3643920"/>
                    <a:ext cx="302040" cy="121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 anchorCtr="1" vert="eaVer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acteri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0" name=""/>
                <p:cNvGrpSpPr/>
                <p:nvPr/>
              </p:nvGrpSpPr>
              <p:grpSpPr>
                <a:xfrm>
                  <a:off x="7102440" y="4846680"/>
                  <a:ext cx="141480" cy="212760"/>
                  <a:chOff x="7102440" y="4846680"/>
                  <a:chExt cx="141480" cy="212760"/>
                </a:xfrm>
              </p:grpSpPr>
              <p:sp>
                <p:nvSpPr>
                  <p:cNvPr id="1121" name=""/>
                  <p:cNvSpPr/>
                  <p:nvPr/>
                </p:nvSpPr>
                <p:spPr>
                  <a:xfrm>
                    <a:off x="7102440" y="48466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 flipH="1">
                    <a:off x="7183440" y="48466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7352280" y="4605120"/>
                  <a:ext cx="253440" cy="246240"/>
                  <a:chOff x="7352280" y="4605120"/>
                  <a:chExt cx="253440" cy="24624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 rot="18655200">
                    <a:off x="7422120" y="46522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 flipH="1" rot="18655200">
                    <a:off x="7474680" y="45910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7410240" y="4154040"/>
                  <a:ext cx="218880" cy="150840"/>
                  <a:chOff x="7410240" y="4154040"/>
                  <a:chExt cx="218880" cy="15084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 rot="16045200">
                    <a:off x="7491240" y="416340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 flipH="1" rot="16045200">
                    <a:off x="7487640" y="408240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9" name=""/>
                <p:cNvGrpSpPr/>
                <p:nvPr/>
              </p:nvGrpSpPr>
              <p:grpSpPr>
                <a:xfrm>
                  <a:off x="7394400" y="3818520"/>
                  <a:ext cx="254880" cy="235440"/>
                  <a:chOff x="7394400" y="3818520"/>
                  <a:chExt cx="254880" cy="23544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 rot="14161200">
                    <a:off x="7513920" y="386316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flipH="1" rot="14161200">
                    <a:off x="7468560" y="3796560"/>
                    <a:ext cx="60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7300440" y="3584160"/>
                  <a:ext cx="255600" cy="237240"/>
                  <a:chOff x="7300440" y="3584160"/>
                  <a:chExt cx="255600" cy="23724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 rot="18275400">
                    <a:off x="7374600" y="362952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 rot="18275400">
                    <a:off x="7421040" y="356292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6843600" y="3692520"/>
                  <a:ext cx="253440" cy="220320"/>
                  <a:chOff x="6843600" y="3692520"/>
                  <a:chExt cx="253440" cy="2203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rot="6960000">
                    <a:off x="6957720" y="365976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 rot="6960000">
                    <a:off x="6921720" y="3732480"/>
                    <a:ext cx="604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4">
                        <a:moveTo>
                          <a:pt x="0" y="0"/>
                        </a:moveTo>
                        <a:lnTo>
                          <a:pt x="38" y="64"/>
                        </a:lnTo>
                        <a:lnTo>
                          <a:pt x="38" y="134"/>
                        </a:lnTo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138" name=""/>
          <p:cNvGrpSpPr/>
          <p:nvPr/>
        </p:nvGrpSpPr>
        <p:grpSpPr>
          <a:xfrm>
            <a:off x="1422360" y="1029240"/>
            <a:ext cx="5959440" cy="3036960"/>
            <a:chOff x="1422360" y="1029240"/>
            <a:chExt cx="5959440" cy="3036960"/>
          </a:xfrm>
        </p:grpSpPr>
        <p:sp>
          <p:nvSpPr>
            <p:cNvPr id="1139" name=""/>
            <p:cNvSpPr/>
            <p:nvPr/>
          </p:nvSpPr>
          <p:spPr>
            <a:xfrm>
              <a:off x="4562640" y="1930320"/>
              <a:ext cx="1299960" cy="1900440"/>
            </a:xfrm>
            <a:custGeom>
              <a:avLst/>
              <a:gdLst/>
              <a:ahLst/>
              <a:rect l="l" t="t" r="r" b="b"/>
              <a:pathLst>
                <a:path w="819" h="1178">
                  <a:moveTo>
                    <a:pt x="646" y="1178"/>
                  </a:moveTo>
                  <a:lnTo>
                    <a:pt x="819" y="1120"/>
                  </a:lnTo>
                  <a:lnTo>
                    <a:pt x="819" y="41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572000" y="2031840"/>
              <a:ext cx="1219320" cy="1697040"/>
            </a:xfrm>
            <a:custGeom>
              <a:avLst/>
              <a:gdLst/>
              <a:ahLst/>
              <a:rect l="l" t="t" r="r" b="b"/>
              <a:pathLst>
                <a:path w="768" h="1069">
                  <a:moveTo>
                    <a:pt x="645" y="1069"/>
                  </a:moveTo>
                  <a:lnTo>
                    <a:pt x="768" y="1029"/>
                  </a:lnTo>
                  <a:lnTo>
                    <a:pt x="768" y="37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1422360" y="1029240"/>
              <a:ext cx="5959440" cy="3036960"/>
              <a:chOff x="1422360" y="1029240"/>
              <a:chExt cx="5959440" cy="3036960"/>
            </a:xfrm>
          </p:grpSpPr>
          <p:sp>
            <p:nvSpPr>
              <p:cNvPr id="1142" name=""/>
              <p:cNvSpPr/>
              <p:nvPr/>
            </p:nvSpPr>
            <p:spPr>
              <a:xfrm>
                <a:off x="4094280" y="3098880"/>
                <a:ext cx="528480" cy="600120"/>
              </a:xfrm>
              <a:custGeom>
                <a:avLst/>
                <a:gdLst/>
                <a:ahLst/>
                <a:rect l="l" t="t" r="r" b="b"/>
                <a:pathLst>
                  <a:path w="333" h="378">
                    <a:moveTo>
                      <a:pt x="0" y="0"/>
                    </a:moveTo>
                    <a:lnTo>
                      <a:pt x="103" y="243"/>
                    </a:lnTo>
                    <a:lnTo>
                      <a:pt x="333" y="378"/>
                    </a:lnTo>
                  </a:path>
                </a:pathLst>
              </a:custGeom>
              <a:noFill/>
              <a:ln w="28440">
                <a:solidFill>
                  <a:srgbClr val="33cc33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3" name=""/>
              <p:cNvGrpSpPr/>
              <p:nvPr/>
            </p:nvGrpSpPr>
            <p:grpSpPr>
              <a:xfrm>
                <a:off x="1422360" y="1029240"/>
                <a:ext cx="5959440" cy="3036960"/>
                <a:chOff x="1422360" y="1029240"/>
                <a:chExt cx="5959440" cy="3036960"/>
              </a:xfrm>
            </p:grpSpPr>
            <p:sp>
              <p:nvSpPr>
                <p:cNvPr id="1144" name=""/>
                <p:cNvSpPr/>
                <p:nvPr/>
              </p:nvSpPr>
              <p:spPr>
                <a:xfrm flipH="1" flipV="1">
                  <a:off x="1836720" y="2100240"/>
                  <a:ext cx="2666880" cy="165888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5" name=""/>
                <p:cNvGrpSpPr/>
                <p:nvPr/>
              </p:nvGrpSpPr>
              <p:grpSpPr>
                <a:xfrm>
                  <a:off x="1422360" y="1029240"/>
                  <a:ext cx="5959440" cy="3036960"/>
                  <a:chOff x="1422360" y="1029240"/>
                  <a:chExt cx="5959440" cy="3036960"/>
                </a:xfrm>
              </p:grpSpPr>
              <p:sp>
                <p:nvSpPr>
                  <p:cNvPr id="1146" name=""/>
                  <p:cNvSpPr/>
                  <p:nvPr/>
                </p:nvSpPr>
                <p:spPr>
                  <a:xfrm rot="3803400">
                    <a:off x="3801240" y="3146760"/>
                    <a:ext cx="5144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33cc33"/>
                        </a:solidFill>
                        <a:latin typeface="Comic Sans MS"/>
                      </a:rPr>
                      <a:t>IFN-</a:t>
                    </a:r>
                    <a:r>
                      <a:rPr b="1" lang="en-US" sz="1000" spc="-1" strike="noStrike">
                        <a:solidFill>
                          <a:srgbClr val="33cc33"/>
                        </a:solidFill>
                        <a:latin typeface="Symbol"/>
                        <a:ea typeface="Symbol"/>
                      </a:rPr>
                      <a:t>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1422360" y="1029240"/>
                    <a:ext cx="5959440" cy="3036960"/>
                    <a:chOff x="1422360" y="1029240"/>
                    <a:chExt cx="5959440" cy="303696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flipV="1">
                      <a:off x="5605560" y="3369960"/>
                      <a:ext cx="1430280" cy="523800"/>
                    </a:xfrm>
                    <a:prstGeom prst="line">
                      <a:avLst/>
                    </a:prstGeom>
                    <a:ln w="38160">
                      <a:solidFill>
                        <a:srgbClr val="80808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3310560" y="1124280"/>
                      <a:ext cx="1264320" cy="30708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3395160" y="1826640"/>
                      <a:ext cx="1096560" cy="340920"/>
                    </a:xfrm>
                    <a:prstGeom prst="rect">
                      <a:avLst/>
                    </a:prstGeom>
                    <a:solidFill>
                      <a:srgbClr val="fa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ural Kill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3555000" y="2685240"/>
                      <a:ext cx="775080" cy="340920"/>
                    </a:xfrm>
                    <a:prstGeom prst="rect">
                      <a:avLst/>
                    </a:prstGeom>
                    <a:solidFill>
                      <a:srgbClr val="fa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at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K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4530240" y="3191760"/>
                      <a:ext cx="1059840" cy="17064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oph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4532040" y="3725280"/>
                      <a:ext cx="1059840" cy="34092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at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oph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54" name=""/>
                    <p:cNvGrpSpPr/>
                    <p:nvPr/>
                  </p:nvGrpSpPr>
                  <p:grpSpPr>
                    <a:xfrm>
                      <a:off x="1430280" y="2414520"/>
                      <a:ext cx="990720" cy="990720"/>
                      <a:chOff x="1430280" y="2414520"/>
                      <a:chExt cx="990720" cy="990720"/>
                    </a:xfrm>
                  </p:grpSpPr>
                  <p:sp>
                    <p:nvSpPr>
                      <p:cNvPr id="1155" name=""/>
                      <p:cNvSpPr/>
                      <p:nvPr/>
                    </p:nvSpPr>
                    <p:spPr>
                      <a:xfrm>
                        <a:off x="1430280" y="2414520"/>
                        <a:ext cx="990720" cy="990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6" name=""/>
                      <p:cNvSpPr/>
                      <p:nvPr/>
                    </p:nvSpPr>
                    <p:spPr>
                      <a:xfrm>
                        <a:off x="1489320" y="2717640"/>
                        <a:ext cx="872640" cy="604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Virus</a:t>
                        </a:r>
                        <a:br>
                          <a:rPr sz="1400"/>
                        </a:b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Infected</a:t>
                        </a:r>
                        <a:br>
                          <a:rPr sz="1400"/>
                        </a:b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Cell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7" name=""/>
                      <p:cNvSpPr/>
                      <p:nvPr/>
                    </p:nvSpPr>
                    <p:spPr>
                      <a:xfrm>
                        <a:off x="1736640" y="2549880"/>
                        <a:ext cx="379800" cy="182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" rIns="9000" tIns="0" bIns="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Viru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58" name=""/>
                    <p:cNvGrpSpPr/>
                    <p:nvPr/>
                  </p:nvGrpSpPr>
                  <p:grpSpPr>
                    <a:xfrm>
                      <a:off x="6425640" y="2329560"/>
                      <a:ext cx="948240" cy="1218240"/>
                      <a:chOff x="6425640" y="2329560"/>
                      <a:chExt cx="948240" cy="1218240"/>
                    </a:xfrm>
                  </p:grpSpPr>
                  <p:grpSp>
                    <p:nvGrpSpPr>
                      <p:cNvPr id="1159" name=""/>
                      <p:cNvGrpSpPr/>
                      <p:nvPr/>
                    </p:nvGrpSpPr>
                    <p:grpSpPr>
                      <a:xfrm>
                        <a:off x="6425640" y="2846880"/>
                        <a:ext cx="657000" cy="182880"/>
                        <a:chOff x="6425640" y="2846880"/>
                        <a:chExt cx="657000" cy="182880"/>
                      </a:xfrm>
                    </p:grpSpPr>
                    <p:sp>
                      <p:nvSpPr>
                        <p:cNvPr id="1160" name=""/>
                        <p:cNvSpPr/>
                        <p:nvPr/>
                      </p:nvSpPr>
                      <p:spPr>
                        <a:xfrm>
                          <a:off x="6673680" y="2923920"/>
                          <a:ext cx="4089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1" name=""/>
                        <p:cNvSpPr/>
                        <p:nvPr/>
                      </p:nvSpPr>
                      <p:spPr>
                        <a:xfrm>
                          <a:off x="6425640" y="2846880"/>
                          <a:ext cx="29592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66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66ff"/>
                              </a:solidFill>
                              <a:latin typeface="Comic Sans MS"/>
                            </a:rPr>
                            <a:t>C3b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62" name=""/>
                      <p:cNvSpPr/>
                      <p:nvPr/>
                    </p:nvSpPr>
                    <p:spPr>
                      <a:xfrm>
                        <a:off x="7071840" y="2329560"/>
                        <a:ext cx="302040" cy="121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 anchorCtr="1" vert="eaVer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acterium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1430280" y="1192680"/>
                      <a:ext cx="379800" cy="182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" rIns="900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i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64" name=""/>
                    <p:cNvGrpSpPr/>
                    <p:nvPr/>
                  </p:nvGrpSpPr>
                  <p:grpSpPr>
                    <a:xfrm>
                      <a:off x="1422360" y="1835640"/>
                      <a:ext cx="946800" cy="186120"/>
                      <a:chOff x="1422360" y="1835640"/>
                      <a:chExt cx="946800" cy="186120"/>
                    </a:xfrm>
                  </p:grpSpPr>
                  <p:sp>
                    <p:nvSpPr>
                      <p:cNvPr id="1165" name=""/>
                      <p:cNvSpPr/>
                      <p:nvPr/>
                    </p:nvSpPr>
                    <p:spPr>
                      <a:xfrm>
                        <a:off x="1744560" y="1930320"/>
                        <a:ext cx="363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6" name=""/>
                      <p:cNvGrpSpPr/>
                      <p:nvPr/>
                    </p:nvGrpSpPr>
                    <p:grpSpPr>
                      <a:xfrm>
                        <a:off x="1422360" y="1835640"/>
                        <a:ext cx="946800" cy="186120"/>
                        <a:chOff x="1422360" y="1835640"/>
                        <a:chExt cx="946800" cy="186120"/>
                      </a:xfrm>
                    </p:grpSpPr>
                    <p:sp>
                      <p:nvSpPr>
                        <p:cNvPr id="1167" name=""/>
                        <p:cNvSpPr/>
                        <p:nvPr/>
                      </p:nvSpPr>
                      <p:spPr>
                        <a:xfrm>
                          <a:off x="1422360" y="1835640"/>
                          <a:ext cx="37980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Virus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8" name=""/>
                        <p:cNvSpPr/>
                        <p:nvPr/>
                      </p:nvSpPr>
                      <p:spPr>
                        <a:xfrm>
                          <a:off x="2073240" y="1838880"/>
                          <a:ext cx="295920" cy="182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66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" rIns="9000" tIns="0" bIns="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66ff"/>
                              </a:solidFill>
                              <a:latin typeface="Comic Sans MS"/>
                            </a:rPr>
                            <a:t>C3b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69" name=""/>
                    <p:cNvGrpSpPr/>
                    <p:nvPr/>
                  </p:nvGrpSpPr>
                  <p:grpSpPr>
                    <a:xfrm>
                      <a:off x="1774800" y="1163520"/>
                      <a:ext cx="770400" cy="624240"/>
                      <a:chOff x="1774800" y="1163520"/>
                      <a:chExt cx="770400" cy="624240"/>
                    </a:xfrm>
                  </p:grpSpPr>
                  <p:grpSp>
                    <p:nvGrpSpPr>
                      <p:cNvPr id="1170" name=""/>
                      <p:cNvGrpSpPr/>
                      <p:nvPr/>
                    </p:nvGrpSpPr>
                    <p:grpSpPr>
                      <a:xfrm>
                        <a:off x="1814760" y="1163520"/>
                        <a:ext cx="417240" cy="231840"/>
                        <a:chOff x="1814760" y="1163520"/>
                        <a:chExt cx="417240" cy="231840"/>
                      </a:xfrm>
                    </p:grpSpPr>
                    <p:sp>
                      <p:nvSpPr>
                        <p:cNvPr id="1171" name=""/>
                        <p:cNvSpPr/>
                        <p:nvPr/>
                      </p:nvSpPr>
                      <p:spPr>
                        <a:xfrm>
                          <a:off x="1814760" y="1279440"/>
                          <a:ext cx="309240" cy="0"/>
                        </a:xfrm>
                        <a:prstGeom prst="line">
                          <a:avLst/>
                        </a:prstGeom>
                        <a:ln w="7632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2" name=""/>
                        <p:cNvSpPr/>
                        <p:nvPr/>
                      </p:nvSpPr>
                      <p:spPr>
                        <a:xfrm>
                          <a:off x="2000160" y="1163520"/>
                          <a:ext cx="231840" cy="231840"/>
                        </a:xfrm>
                        <a:prstGeom prst="ellipse">
                          <a:avLst/>
                        </a:prstGeom>
                        <a:solidFill>
                          <a:srgbClr val="000099"/>
                        </a:solidFill>
                        <a:ln w="93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73" name=""/>
                      <p:cNvSpPr/>
                      <p:nvPr/>
                    </p:nvSpPr>
                    <p:spPr>
                      <a:xfrm>
                        <a:off x="1774800" y="1386000"/>
                        <a:ext cx="770400" cy="401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75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embrane</a:t>
                        </a:r>
                        <a:br>
                          <a:rPr sz="900"/>
                        </a:b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ttack</a:t>
                        </a:r>
                        <a:br>
                          <a:rPr sz="900"/>
                        </a:b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Complex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74" name=""/>
                    <p:cNvGrpSpPr/>
                    <p:nvPr/>
                  </p:nvGrpSpPr>
                  <p:grpSpPr>
                    <a:xfrm>
                      <a:off x="6404040" y="1029240"/>
                      <a:ext cx="977760" cy="1218240"/>
                      <a:chOff x="6404040" y="1029240"/>
                      <a:chExt cx="977760" cy="1218240"/>
                    </a:xfrm>
                  </p:grpSpPr>
                  <p:sp>
                    <p:nvSpPr>
                      <p:cNvPr id="1175" name=""/>
                      <p:cNvSpPr/>
                      <p:nvPr/>
                    </p:nvSpPr>
                    <p:spPr>
                      <a:xfrm>
                        <a:off x="7079760" y="1029240"/>
                        <a:ext cx="302040" cy="1218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 anchorCtr="1" vert="eaVer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acterium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76" name=""/>
                      <p:cNvGrpSpPr/>
                      <p:nvPr/>
                    </p:nvGrpSpPr>
                    <p:grpSpPr>
                      <a:xfrm>
                        <a:off x="6404040" y="1164960"/>
                        <a:ext cx="770400" cy="623880"/>
                        <a:chOff x="6404040" y="1164960"/>
                        <a:chExt cx="770400" cy="623880"/>
                      </a:xfrm>
                    </p:grpSpPr>
                    <p:grpSp>
                      <p:nvGrpSpPr>
                        <p:cNvPr id="1177" name=""/>
                        <p:cNvGrpSpPr/>
                        <p:nvPr/>
                      </p:nvGrpSpPr>
                      <p:grpSpPr>
                        <a:xfrm>
                          <a:off x="6676560" y="1164960"/>
                          <a:ext cx="417240" cy="231840"/>
                          <a:chOff x="6676560" y="1164960"/>
                          <a:chExt cx="417240" cy="231840"/>
                        </a:xfrm>
                      </p:grpSpPr>
                      <p:sp>
                        <p:nvSpPr>
                          <p:cNvPr id="1178" name=""/>
                          <p:cNvSpPr/>
                          <p:nvPr/>
                        </p:nvSpPr>
                        <p:spPr>
                          <a:xfrm flipH="1">
                            <a:off x="6784560" y="1280880"/>
                            <a:ext cx="309240" cy="0"/>
                          </a:xfrm>
                          <a:prstGeom prst="line">
                            <a:avLst/>
                          </a:prstGeom>
                          <a:ln w="76320">
                            <a:solidFill>
                              <a:srgbClr val="0000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9" name=""/>
                          <p:cNvSpPr/>
                          <p:nvPr/>
                        </p:nvSpPr>
                        <p:spPr>
                          <a:xfrm flipH="1">
                            <a:off x="6676560" y="1164960"/>
                            <a:ext cx="231840" cy="231840"/>
                          </a:xfrm>
                          <a:prstGeom prst="ellipse">
                            <a:avLst/>
                          </a:prstGeom>
                          <a:solidFill>
                            <a:srgbClr val="000099"/>
                          </a:solidFill>
                          <a:ln w="9360">
                            <a:solidFill>
                              <a:srgbClr val="0000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80" name=""/>
                        <p:cNvSpPr/>
                        <p:nvPr/>
                      </p:nvSpPr>
                      <p:spPr>
                        <a:xfrm>
                          <a:off x="6404040" y="1387080"/>
                          <a:ext cx="770400" cy="401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75000"/>
                            </a:lnSpc>
                            <a:spcBef>
                              <a:spcPts val="56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Membrane</a:t>
                          </a:r>
                          <a:br>
                            <a:rPr sz="900"/>
                          </a:b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ttack</a:t>
                          </a:r>
                          <a:br>
                            <a:rPr sz="900"/>
                          </a:br>
                          <a:r>
                            <a:rPr b="0" lang="en-US" sz="9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Complex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81" name=""/>
                    <p:cNvSpPr/>
                    <p:nvPr/>
                  </p:nvSpPr>
                  <p:spPr>
                    <a:xfrm flipH="1">
                      <a:off x="2303280" y="1278000"/>
                      <a:ext cx="998280" cy="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4564080" y="1287360"/>
                      <a:ext cx="1836720" cy="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 flipH="1">
                      <a:off x="2116080" y="1973160"/>
                      <a:ext cx="1193760" cy="43200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 flipH="1" flipV="1">
                      <a:off x="2489040" y="2844720"/>
                      <a:ext cx="990720" cy="792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H="1" flipV="1">
                      <a:off x="2455920" y="3124080"/>
                      <a:ext cx="2047680" cy="744480"/>
                    </a:xfrm>
                    <a:prstGeom prst="line">
                      <a:avLst/>
                    </a:prstGeom>
                    <a:ln w="381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>
                      <a:off x="2645280" y="104148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2518200" y="194616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2848320" y="259092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3366000" y="326880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5161320" y="1060560"/>
                      <a:ext cx="37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3083760" y="2994120"/>
                      <a:ext cx="381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6001920" y="3419640"/>
                      <a:ext cx="381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2458800" y="1482840"/>
                      <a:ext cx="833400" cy="3967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4592520" y="1422360"/>
                      <a:ext cx="1960560" cy="1341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2410200" y="1384200"/>
                      <a:ext cx="7614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Opson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>
                      <a:off x="5447160" y="1871640"/>
                      <a:ext cx="7614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Opson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flipV="1">
                      <a:off x="2367000" y="2184480"/>
                      <a:ext cx="934920" cy="3967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>
                      <a:off x="4348080" y="2235240"/>
                      <a:ext cx="355680" cy="91440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flipH="1">
                      <a:off x="5375160" y="1819440"/>
                      <a:ext cx="1635120" cy="1320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>
                      <a:off x="4175280" y="3281400"/>
                      <a:ext cx="377640" cy="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rot="4042200">
                      <a:off x="4344120" y="2436480"/>
                      <a:ext cx="5144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FN-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rot="20140800">
                      <a:off x="2600280" y="2316600"/>
                      <a:ext cx="6289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FN-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rot="1671000">
                      <a:off x="5041800" y="2044080"/>
                      <a:ext cx="4856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IL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 rot="19206000">
                      <a:off x="6143400" y="2106000"/>
                      <a:ext cx="4017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L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rot="1659600">
                      <a:off x="4917960" y="2306160"/>
                      <a:ext cx="4262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T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3902040" y="2244600"/>
                      <a:ext cx="0" cy="39708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7" name=""/>
                  <p:cNvSpPr/>
                  <p:nvPr/>
                </p:nvSpPr>
                <p:spPr>
                  <a:xfrm>
                    <a:off x="5019840" y="34034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08" name=""/>
          <p:cNvGrpSpPr/>
          <p:nvPr/>
        </p:nvGrpSpPr>
        <p:grpSpPr>
          <a:xfrm>
            <a:off x="747360" y="3421080"/>
            <a:ext cx="1009800" cy="1711440"/>
            <a:chOff x="747360" y="3421080"/>
            <a:chExt cx="1009800" cy="1711440"/>
          </a:xfrm>
        </p:grpSpPr>
        <p:sp>
          <p:nvSpPr>
            <p:cNvPr id="1209" name=""/>
            <p:cNvSpPr/>
            <p:nvPr/>
          </p:nvSpPr>
          <p:spPr>
            <a:xfrm>
              <a:off x="1240200" y="3538440"/>
              <a:ext cx="37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mic Sans MS"/>
                </a:rPr>
                <a:t>K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747360" y="3421080"/>
              <a:ext cx="1009800" cy="1711440"/>
              <a:chOff x="747360" y="3421080"/>
              <a:chExt cx="1009800" cy="1711440"/>
            </a:xfrm>
          </p:grpSpPr>
          <p:grpSp>
            <p:nvGrpSpPr>
              <p:cNvPr id="1211" name=""/>
              <p:cNvGrpSpPr/>
              <p:nvPr/>
            </p:nvGrpSpPr>
            <p:grpSpPr>
              <a:xfrm>
                <a:off x="747360" y="4019400"/>
                <a:ext cx="990720" cy="990720"/>
                <a:chOff x="747360" y="4019400"/>
                <a:chExt cx="990720" cy="9907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747360" y="4019400"/>
                  <a:ext cx="990720" cy="990720"/>
                </a:xfrm>
                <a:prstGeom prst="ellipse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64280" y="4249800"/>
                  <a:ext cx="9550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Activate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CT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4" name=""/>
              <p:cNvSpPr/>
              <p:nvPr/>
            </p:nvSpPr>
            <p:spPr>
              <a:xfrm flipV="1">
                <a:off x="1430280" y="3421080"/>
                <a:ext cx="289080" cy="55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flipV="1">
                <a:off x="1585440" y="4948200"/>
                <a:ext cx="17172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6" name=""/>
          <p:cNvGrpSpPr/>
          <p:nvPr/>
        </p:nvGrpSpPr>
        <p:grpSpPr>
          <a:xfrm>
            <a:off x="6051240" y="5125320"/>
            <a:ext cx="2415240" cy="1731240"/>
            <a:chOff x="6051240" y="5125320"/>
            <a:chExt cx="2415240" cy="1731240"/>
          </a:xfrm>
        </p:grpSpPr>
        <p:grpSp>
          <p:nvGrpSpPr>
            <p:cNvPr id="1217" name=""/>
            <p:cNvGrpSpPr/>
            <p:nvPr/>
          </p:nvGrpSpPr>
          <p:grpSpPr>
            <a:xfrm>
              <a:off x="6051240" y="5998680"/>
              <a:ext cx="524160" cy="486720"/>
              <a:chOff x="6051240" y="5998680"/>
              <a:chExt cx="524160" cy="48672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6051240" y="5998680"/>
                <a:ext cx="366120" cy="364680"/>
                <a:chOff x="6051240" y="5998680"/>
                <a:chExt cx="366120" cy="364680"/>
              </a:xfrm>
            </p:grpSpPr>
            <p:sp>
              <p:nvSpPr>
                <p:cNvPr id="1219" name=""/>
                <p:cNvSpPr/>
                <p:nvPr/>
              </p:nvSpPr>
              <p:spPr>
                <a:xfrm rot="8025000">
                  <a:off x="6117480" y="6039000"/>
                  <a:ext cx="233280" cy="283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rot="8025000">
                  <a:off x="6269040" y="6206400"/>
                  <a:ext cx="10188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1" name=""/>
              <p:cNvSpPr/>
              <p:nvPr/>
            </p:nvSpPr>
            <p:spPr>
              <a:xfrm rot="18681000">
                <a:off x="6380280" y="6182640"/>
                <a:ext cx="88560" cy="324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6163920" y="5808240"/>
              <a:ext cx="615600" cy="462240"/>
              <a:chOff x="6163920" y="5808240"/>
              <a:chExt cx="615600" cy="462240"/>
            </a:xfrm>
          </p:grpSpPr>
          <p:sp>
            <p:nvSpPr>
              <p:cNvPr id="1223" name=""/>
              <p:cNvSpPr/>
              <p:nvPr/>
            </p:nvSpPr>
            <p:spPr>
              <a:xfrm rot="17860200">
                <a:off x="6232680" y="5826240"/>
                <a:ext cx="21240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6442920" y="5951160"/>
                <a:ext cx="336600" cy="319320"/>
                <a:chOff x="6442920" y="5951160"/>
                <a:chExt cx="336600" cy="319320"/>
              </a:xfrm>
            </p:grpSpPr>
            <p:sp>
              <p:nvSpPr>
                <p:cNvPr id="1225" name=""/>
                <p:cNvSpPr/>
                <p:nvPr/>
              </p:nvSpPr>
              <p:spPr>
                <a:xfrm rot="17860200">
                  <a:off x="6499800" y="5978880"/>
                  <a:ext cx="222480" cy="263520"/>
                </a:xfrm>
                <a:custGeom>
                  <a:avLst/>
                  <a:gdLst>
                    <a:gd name="textAreaLeft" fmla="*/ 34560 w 222480"/>
                    <a:gd name="textAreaRight" fmla="*/ 187920 w 222480"/>
                    <a:gd name="textAreaTop" fmla="*/ 41040 h 263520"/>
                    <a:gd name="textAreaBottom" fmla="*/ 22248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69" y="21600"/>
                      </a:lnTo>
                      <a:lnTo>
                        <a:pt x="2931" y="216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rot="17860200">
                  <a:off x="6505920" y="6009120"/>
                  <a:ext cx="74520" cy="133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rot="17860200">
                  <a:off x="6545520" y="6038640"/>
                  <a:ext cx="131760" cy="14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17860200">
                  <a:off x="6571440" y="6073200"/>
                  <a:ext cx="74520" cy="74520"/>
                </a:xfrm>
                <a:prstGeom prst="ellipse">
                  <a:avLst/>
                </a:prstGeom>
                <a:solidFill>
                  <a:srgbClr val="33cc33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9" name=""/>
            <p:cNvGrpSpPr/>
            <p:nvPr/>
          </p:nvGrpSpPr>
          <p:grpSpPr>
            <a:xfrm>
              <a:off x="6280200" y="5649840"/>
              <a:ext cx="1003680" cy="1206720"/>
              <a:chOff x="6280200" y="5649840"/>
              <a:chExt cx="1003680" cy="1206720"/>
            </a:xfrm>
          </p:grpSpPr>
          <p:sp>
            <p:nvSpPr>
              <p:cNvPr id="1230" name=""/>
              <p:cNvSpPr/>
              <p:nvPr/>
            </p:nvSpPr>
            <p:spPr>
              <a:xfrm>
                <a:off x="6280200" y="5649840"/>
                <a:ext cx="893880" cy="1042920"/>
              </a:xfrm>
              <a:custGeom>
                <a:avLst/>
                <a:gdLst/>
                <a:ahLst/>
                <a:rect l="l" t="t" r="r" b="b"/>
                <a:pathLst>
                  <a:path w="563" h="657">
                    <a:moveTo>
                      <a:pt x="18" y="529"/>
                    </a:moveTo>
                    <a:cubicBezTo>
                      <a:pt x="35" y="506"/>
                      <a:pt x="90" y="506"/>
                      <a:pt x="126" y="478"/>
                    </a:cubicBezTo>
                    <a:cubicBezTo>
                      <a:pt x="161" y="449"/>
                      <a:pt x="195" y="401"/>
                      <a:pt x="229" y="356"/>
                    </a:cubicBezTo>
                    <a:cubicBezTo>
                      <a:pt x="262" y="310"/>
                      <a:pt x="305" y="243"/>
                      <a:pt x="325" y="203"/>
                    </a:cubicBezTo>
                    <a:cubicBezTo>
                      <a:pt x="344" y="162"/>
                      <a:pt x="337" y="140"/>
                      <a:pt x="344" y="113"/>
                    </a:cubicBezTo>
                    <a:cubicBezTo>
                      <a:pt x="350" y="85"/>
                      <a:pt x="338" y="52"/>
                      <a:pt x="363" y="36"/>
                    </a:cubicBezTo>
                    <a:cubicBezTo>
                      <a:pt x="387" y="19"/>
                      <a:pt x="459" y="0"/>
                      <a:pt x="491" y="11"/>
                    </a:cubicBezTo>
                    <a:cubicBezTo>
                      <a:pt x="523" y="21"/>
                      <a:pt x="546" y="58"/>
                      <a:pt x="555" y="100"/>
                    </a:cubicBezTo>
                    <a:cubicBezTo>
                      <a:pt x="563" y="141"/>
                      <a:pt x="554" y="206"/>
                      <a:pt x="542" y="260"/>
                    </a:cubicBezTo>
                    <a:cubicBezTo>
                      <a:pt x="529" y="313"/>
                      <a:pt x="511" y="369"/>
                      <a:pt x="478" y="420"/>
                    </a:cubicBezTo>
                    <a:cubicBezTo>
                      <a:pt x="444" y="470"/>
                      <a:pt x="384" y="523"/>
                      <a:pt x="338" y="561"/>
                    </a:cubicBezTo>
                    <a:cubicBezTo>
                      <a:pt x="291" y="598"/>
                      <a:pt x="240" y="630"/>
                      <a:pt x="197" y="644"/>
                    </a:cubicBezTo>
                    <a:cubicBezTo>
                      <a:pt x="153" y="657"/>
                      <a:pt x="104" y="649"/>
                      <a:pt x="75" y="644"/>
                    </a:cubicBezTo>
                    <a:cubicBezTo>
                      <a:pt x="45" y="638"/>
                      <a:pt x="27" y="632"/>
                      <a:pt x="18" y="612"/>
                    </a:cubicBezTo>
                    <a:cubicBezTo>
                      <a:pt x="8" y="591"/>
                      <a:pt x="0" y="551"/>
                      <a:pt x="18" y="529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8165600">
                <a:off x="6206400" y="6079680"/>
                <a:ext cx="1207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ctivate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Dendritic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7512120" y="5497920"/>
              <a:ext cx="954360" cy="1135440"/>
              <a:chOff x="7512120" y="5497920"/>
              <a:chExt cx="954360" cy="1135440"/>
            </a:xfrm>
          </p:grpSpPr>
          <p:sp>
            <p:nvSpPr>
              <p:cNvPr id="1233" name=""/>
              <p:cNvSpPr/>
              <p:nvPr/>
            </p:nvSpPr>
            <p:spPr>
              <a:xfrm>
                <a:off x="7512120" y="5519880"/>
                <a:ext cx="893520" cy="1042920"/>
              </a:xfrm>
              <a:custGeom>
                <a:avLst/>
                <a:gdLst/>
                <a:ahLst/>
                <a:rect l="l" t="t" r="r" b="b"/>
                <a:pathLst>
                  <a:path w="563" h="657">
                    <a:moveTo>
                      <a:pt x="18" y="529"/>
                    </a:moveTo>
                    <a:cubicBezTo>
                      <a:pt x="35" y="506"/>
                      <a:pt x="90" y="506"/>
                      <a:pt x="126" y="478"/>
                    </a:cubicBezTo>
                    <a:cubicBezTo>
                      <a:pt x="161" y="449"/>
                      <a:pt x="195" y="401"/>
                      <a:pt x="229" y="356"/>
                    </a:cubicBezTo>
                    <a:cubicBezTo>
                      <a:pt x="262" y="310"/>
                      <a:pt x="305" y="243"/>
                      <a:pt x="325" y="203"/>
                    </a:cubicBezTo>
                    <a:cubicBezTo>
                      <a:pt x="344" y="162"/>
                      <a:pt x="337" y="140"/>
                      <a:pt x="344" y="113"/>
                    </a:cubicBezTo>
                    <a:cubicBezTo>
                      <a:pt x="350" y="85"/>
                      <a:pt x="338" y="52"/>
                      <a:pt x="363" y="36"/>
                    </a:cubicBezTo>
                    <a:cubicBezTo>
                      <a:pt x="387" y="19"/>
                      <a:pt x="459" y="0"/>
                      <a:pt x="491" y="11"/>
                    </a:cubicBezTo>
                    <a:cubicBezTo>
                      <a:pt x="523" y="21"/>
                      <a:pt x="546" y="58"/>
                      <a:pt x="555" y="100"/>
                    </a:cubicBezTo>
                    <a:cubicBezTo>
                      <a:pt x="563" y="141"/>
                      <a:pt x="554" y="206"/>
                      <a:pt x="542" y="260"/>
                    </a:cubicBezTo>
                    <a:cubicBezTo>
                      <a:pt x="529" y="313"/>
                      <a:pt x="511" y="369"/>
                      <a:pt x="478" y="420"/>
                    </a:cubicBezTo>
                    <a:cubicBezTo>
                      <a:pt x="444" y="470"/>
                      <a:pt x="384" y="523"/>
                      <a:pt x="338" y="561"/>
                    </a:cubicBezTo>
                    <a:cubicBezTo>
                      <a:pt x="291" y="598"/>
                      <a:pt x="240" y="630"/>
                      <a:pt x="197" y="644"/>
                    </a:cubicBezTo>
                    <a:cubicBezTo>
                      <a:pt x="153" y="657"/>
                      <a:pt x="104" y="649"/>
                      <a:pt x="75" y="644"/>
                    </a:cubicBezTo>
                    <a:cubicBezTo>
                      <a:pt x="45" y="638"/>
                      <a:pt x="27" y="632"/>
                      <a:pt x="18" y="612"/>
                    </a:cubicBezTo>
                    <a:cubicBezTo>
                      <a:pt x="8" y="591"/>
                      <a:pt x="0" y="551"/>
                      <a:pt x="18" y="529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8165600">
                <a:off x="7442280" y="5954760"/>
                <a:ext cx="12078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Dendritic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5" name=""/>
            <p:cNvSpPr/>
            <p:nvPr/>
          </p:nvSpPr>
          <p:spPr>
            <a:xfrm flipH="1">
              <a:off x="7000920" y="6461280"/>
              <a:ext cx="466560" cy="31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040520" y="5222880"/>
              <a:ext cx="905040" cy="37476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437000">
              <a:off x="7285680" y="52009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TN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1665360" y="5019840"/>
            <a:ext cx="2001240" cy="990360"/>
            <a:chOff x="1665360" y="5019840"/>
            <a:chExt cx="2001240" cy="990360"/>
          </a:xfrm>
        </p:grpSpPr>
        <p:grpSp>
          <p:nvGrpSpPr>
            <p:cNvPr id="1239" name=""/>
            <p:cNvGrpSpPr/>
            <p:nvPr/>
          </p:nvGrpSpPr>
          <p:grpSpPr>
            <a:xfrm>
              <a:off x="1665360" y="5019840"/>
              <a:ext cx="2001240" cy="990360"/>
              <a:chOff x="1665360" y="5019840"/>
              <a:chExt cx="2001240" cy="99036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1665360" y="5019840"/>
                <a:ext cx="990360" cy="990360"/>
                <a:chOff x="1665360" y="5019840"/>
                <a:chExt cx="990360" cy="99036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1665360" y="5019840"/>
                  <a:ext cx="990360" cy="990360"/>
                </a:xfrm>
                <a:prstGeom prst="ellipse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1809720" y="5019840"/>
                  <a:ext cx="67140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Virgin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Killer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T Cell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CT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3" name=""/>
              <p:cNvSpPr/>
              <p:nvPr/>
            </p:nvSpPr>
            <p:spPr>
              <a:xfrm flipH="1" flipV="1">
                <a:off x="2701440" y="5527440"/>
                <a:ext cx="965160" cy="253800"/>
              </a:xfrm>
              <a:prstGeom prst="line">
                <a:avLst/>
              </a:prstGeom>
              <a:ln w="28440">
                <a:solidFill>
                  <a:srgbClr val="33cc33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 rot="1014000">
              <a:off x="2953440" y="5424480"/>
              <a:ext cx="41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33"/>
                  </a:solidFill>
                  <a:latin typeface="Comic Sans MS"/>
                </a:rPr>
                <a:t>IL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4033800" y="4368960"/>
            <a:ext cx="1967760" cy="1410840"/>
            <a:chOff x="4033800" y="4368960"/>
            <a:chExt cx="1967760" cy="1410840"/>
          </a:xfrm>
        </p:grpSpPr>
        <p:grpSp>
          <p:nvGrpSpPr>
            <p:cNvPr id="1246" name=""/>
            <p:cNvGrpSpPr/>
            <p:nvPr/>
          </p:nvGrpSpPr>
          <p:grpSpPr>
            <a:xfrm>
              <a:off x="5082840" y="5207760"/>
              <a:ext cx="524160" cy="486720"/>
              <a:chOff x="5082840" y="5207760"/>
              <a:chExt cx="524160" cy="486720"/>
            </a:xfrm>
          </p:grpSpPr>
          <p:grpSp>
            <p:nvGrpSpPr>
              <p:cNvPr id="1247" name=""/>
              <p:cNvGrpSpPr/>
              <p:nvPr/>
            </p:nvGrpSpPr>
            <p:grpSpPr>
              <a:xfrm>
                <a:off x="5240880" y="5329800"/>
                <a:ext cx="366120" cy="364680"/>
                <a:chOff x="5240880" y="5329800"/>
                <a:chExt cx="366120" cy="364680"/>
              </a:xfrm>
            </p:grpSpPr>
            <p:sp>
              <p:nvSpPr>
                <p:cNvPr id="1248" name=""/>
                <p:cNvSpPr/>
                <p:nvPr/>
              </p:nvSpPr>
              <p:spPr>
                <a:xfrm rot="18825000">
                  <a:off x="5307120" y="5370120"/>
                  <a:ext cx="233280" cy="283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rot="18825000">
                  <a:off x="5286960" y="5375520"/>
                  <a:ext cx="10188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0" name=""/>
              <p:cNvSpPr/>
              <p:nvPr/>
            </p:nvSpPr>
            <p:spPr>
              <a:xfrm rot="7881000">
                <a:off x="5189040" y="5186160"/>
                <a:ext cx="88560" cy="324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 flipV="1">
              <a:off x="4033800" y="4795560"/>
              <a:ext cx="457200" cy="50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5313240" y="5044320"/>
              <a:ext cx="568440" cy="559800"/>
              <a:chOff x="5313240" y="5044320"/>
              <a:chExt cx="568440" cy="559800"/>
            </a:xfrm>
          </p:grpSpPr>
          <p:sp>
            <p:nvSpPr>
              <p:cNvPr id="1253" name=""/>
              <p:cNvSpPr/>
              <p:nvPr/>
            </p:nvSpPr>
            <p:spPr>
              <a:xfrm rot="8046600">
                <a:off x="5599800" y="5286960"/>
                <a:ext cx="21204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4" name=""/>
              <p:cNvGrpSpPr/>
              <p:nvPr/>
            </p:nvGrpSpPr>
            <p:grpSpPr>
              <a:xfrm>
                <a:off x="5313240" y="5044320"/>
                <a:ext cx="343800" cy="342720"/>
                <a:chOff x="5313240" y="5044320"/>
                <a:chExt cx="343800" cy="342720"/>
              </a:xfrm>
            </p:grpSpPr>
            <p:sp>
              <p:nvSpPr>
                <p:cNvPr id="1255" name=""/>
                <p:cNvSpPr/>
                <p:nvPr/>
              </p:nvSpPr>
              <p:spPr>
                <a:xfrm rot="8046600">
                  <a:off x="5373720" y="5083560"/>
                  <a:ext cx="222120" cy="263520"/>
                </a:xfrm>
                <a:custGeom>
                  <a:avLst/>
                  <a:gdLst>
                    <a:gd name="textAreaLeft" fmla="*/ 34560 w 222120"/>
                    <a:gd name="textAreaRight" fmla="*/ 187560 w 222120"/>
                    <a:gd name="textAreaTop" fmla="*/ 41040 h 263520"/>
                    <a:gd name="textAreaBottom" fmla="*/ 22248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69" y="21600"/>
                      </a:lnTo>
                      <a:lnTo>
                        <a:pt x="2931" y="216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rot="8046600">
                  <a:off x="5503320" y="5200560"/>
                  <a:ext cx="74160" cy="133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rot="8046600">
                  <a:off x="5419080" y="5144400"/>
                  <a:ext cx="131400" cy="14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rot="8046600">
                  <a:off x="5450040" y="5178960"/>
                  <a:ext cx="74160" cy="74520"/>
                </a:xfrm>
                <a:prstGeom prst="ellipse">
                  <a:avLst/>
                </a:prstGeom>
                <a:solidFill>
                  <a:srgbClr val="33cc33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"/>
            <p:cNvGrpSpPr/>
            <p:nvPr/>
          </p:nvGrpSpPr>
          <p:grpSpPr>
            <a:xfrm>
              <a:off x="4529160" y="4368960"/>
              <a:ext cx="990720" cy="990360"/>
              <a:chOff x="4529160" y="4368960"/>
              <a:chExt cx="990720" cy="990360"/>
            </a:xfrm>
          </p:grpSpPr>
          <p:sp>
            <p:nvSpPr>
              <p:cNvPr id="1260" name=""/>
              <p:cNvSpPr/>
              <p:nvPr/>
            </p:nvSpPr>
            <p:spPr>
              <a:xfrm>
                <a:off x="4529160" y="4368960"/>
                <a:ext cx="990720" cy="9903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557240" y="4566960"/>
                <a:ext cx="955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Activat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B Ce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2" name=""/>
            <p:cNvSpPr/>
            <p:nvPr/>
          </p:nvSpPr>
          <p:spPr>
            <a:xfrm>
              <a:off x="5034600" y="5564160"/>
              <a:ext cx="43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CD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981680" y="53308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B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636520" y="5137200"/>
              <a:ext cx="3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TC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60120" y="4933800"/>
              <a:ext cx="50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MHC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2477520" y="4264200"/>
            <a:ext cx="2064240" cy="1530720"/>
            <a:chOff x="2477520" y="4264200"/>
            <a:chExt cx="2064240" cy="1530720"/>
          </a:xfrm>
        </p:grpSpPr>
        <p:sp>
          <p:nvSpPr>
            <p:cNvPr id="1267" name=""/>
            <p:cNvSpPr/>
            <p:nvPr/>
          </p:nvSpPr>
          <p:spPr>
            <a:xfrm>
              <a:off x="3316680" y="5445000"/>
              <a:ext cx="43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CD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976920" y="5332320"/>
              <a:ext cx="48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CD40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3901680" y="5475240"/>
              <a:ext cx="111240" cy="71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2477520" y="4264200"/>
              <a:ext cx="2064240" cy="1530720"/>
              <a:chOff x="2477520" y="4264200"/>
              <a:chExt cx="2064240" cy="1530720"/>
            </a:xfrm>
          </p:grpSpPr>
          <p:grpSp>
            <p:nvGrpSpPr>
              <p:cNvPr id="1271" name=""/>
              <p:cNvGrpSpPr/>
              <p:nvPr/>
            </p:nvGrpSpPr>
            <p:grpSpPr>
              <a:xfrm>
                <a:off x="4010760" y="4986000"/>
                <a:ext cx="213480" cy="141120"/>
                <a:chOff x="4010760" y="4986000"/>
                <a:chExt cx="213480" cy="141120"/>
              </a:xfrm>
            </p:grpSpPr>
            <p:sp>
              <p:nvSpPr>
                <p:cNvPr id="1272" name=""/>
                <p:cNvSpPr/>
                <p:nvPr/>
              </p:nvSpPr>
              <p:spPr>
                <a:xfrm rot="5388000">
                  <a:off x="4087080" y="4910040"/>
                  <a:ext cx="60120" cy="212760"/>
                </a:xfrm>
                <a:custGeom>
                  <a:avLst/>
                  <a:gdLst/>
                  <a:ahLst/>
                  <a:rect l="l" t="t" r="r" b="b"/>
                  <a:pathLst>
                    <a:path w="38" h="134">
                      <a:moveTo>
                        <a:pt x="0" y="0"/>
                      </a:moveTo>
                      <a:lnTo>
                        <a:pt x="38" y="64"/>
                      </a:lnTo>
                      <a:lnTo>
                        <a:pt x="38" y="134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H="1" rot="5388000">
                  <a:off x="4087440" y="4990320"/>
                  <a:ext cx="60120" cy="212760"/>
                </a:xfrm>
                <a:custGeom>
                  <a:avLst/>
                  <a:gdLst/>
                  <a:ahLst/>
                  <a:rect l="l" t="t" r="r" b="b"/>
                  <a:pathLst>
                    <a:path w="38" h="134">
                      <a:moveTo>
                        <a:pt x="0" y="0"/>
                      </a:moveTo>
                      <a:lnTo>
                        <a:pt x="38" y="64"/>
                      </a:lnTo>
                      <a:lnTo>
                        <a:pt x="38" y="134"/>
                      </a:lnTo>
                    </a:path>
                  </a:pathLst>
                </a:custGeom>
                <a:noFill/>
                <a:ln w="93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2477520" y="4264200"/>
                <a:ext cx="1513440" cy="1530720"/>
                <a:chOff x="2477520" y="4264200"/>
                <a:chExt cx="1513440" cy="1530720"/>
              </a:xfrm>
            </p:grpSpPr>
            <p:grpSp>
              <p:nvGrpSpPr>
                <p:cNvPr id="1275" name=""/>
                <p:cNvGrpSpPr/>
                <p:nvPr/>
              </p:nvGrpSpPr>
              <p:grpSpPr>
                <a:xfrm>
                  <a:off x="3558240" y="5259960"/>
                  <a:ext cx="424080" cy="534960"/>
                  <a:chOff x="3558240" y="5259960"/>
                  <a:chExt cx="424080" cy="534960"/>
                </a:xfrm>
              </p:grpSpPr>
              <p:grpSp>
                <p:nvGrpSpPr>
                  <p:cNvPr id="1276" name=""/>
                  <p:cNvGrpSpPr/>
                  <p:nvPr/>
                </p:nvGrpSpPr>
                <p:grpSpPr>
                  <a:xfrm>
                    <a:off x="3558240" y="5259960"/>
                    <a:ext cx="345960" cy="363600"/>
                    <a:chOff x="3558240" y="5259960"/>
                    <a:chExt cx="345960" cy="363600"/>
                  </a:xfrm>
                </p:grpSpPr>
                <p:sp>
                  <p:nvSpPr>
                    <p:cNvPr id="1277" name=""/>
                    <p:cNvSpPr/>
                    <p:nvPr/>
                  </p:nvSpPr>
                  <p:spPr>
                    <a:xfrm rot="8944800">
                      <a:off x="3614400" y="5299560"/>
                      <a:ext cx="233280" cy="28404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8" name=""/>
                    <p:cNvSpPr/>
                    <p:nvPr/>
                  </p:nvSpPr>
                  <p:spPr>
                    <a:xfrm rot="8944800">
                      <a:off x="3741480" y="5487120"/>
                      <a:ext cx="101880" cy="11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9" name=""/>
                  <p:cNvSpPr/>
                  <p:nvPr/>
                </p:nvSpPr>
                <p:spPr>
                  <a:xfrm rot="19600800">
                    <a:off x="3811680" y="5473440"/>
                    <a:ext cx="88920" cy="3236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0" name=""/>
                <p:cNvGrpSpPr/>
                <p:nvPr/>
              </p:nvGrpSpPr>
              <p:grpSpPr>
                <a:xfrm>
                  <a:off x="3000240" y="4513320"/>
                  <a:ext cx="990720" cy="990360"/>
                  <a:chOff x="3000240" y="4513320"/>
                  <a:chExt cx="990720" cy="99036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3000240" y="4513320"/>
                    <a:ext cx="990720" cy="990360"/>
                  </a:xfrm>
                  <a:prstGeom prst="ellips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3162240" y="4692600"/>
                    <a:ext cx="6714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Virgin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B Cel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2712960" y="4278240"/>
                  <a:ext cx="650880" cy="609120"/>
                  <a:chOff x="2712960" y="4278240"/>
                  <a:chExt cx="650880" cy="609120"/>
                </a:xfrm>
              </p:grpSpPr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3140280" y="4329360"/>
                    <a:ext cx="223560" cy="253800"/>
                    <a:chOff x="3140280" y="4329360"/>
                    <a:chExt cx="223560" cy="25380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 rot="19959600">
                      <a:off x="3185640" y="436824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 flipH="1" rot="19959600">
                      <a:off x="3257280" y="433116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2801880" y="4674600"/>
                    <a:ext cx="250560" cy="212760"/>
                    <a:chOff x="2801880" y="4674600"/>
                    <a:chExt cx="250560" cy="21276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rot="17589600">
                      <a:off x="2881440" y="471132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flipH="1" rot="17589000">
                      <a:off x="2912040" y="463752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2894040" y="4502880"/>
                    <a:ext cx="250920" cy="250560"/>
                    <a:chOff x="2894040" y="4502880"/>
                    <a:chExt cx="250920" cy="25056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 rot="18873000">
                      <a:off x="2960640" y="455040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flipH="1" rot="18873000">
                      <a:off x="3017160" y="4492440"/>
                      <a:ext cx="604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3" name=""/>
                  <p:cNvGrpSpPr/>
                  <p:nvPr/>
                </p:nvGrpSpPr>
                <p:grpSpPr>
                  <a:xfrm>
                    <a:off x="3034080" y="4400640"/>
                    <a:ext cx="232200" cy="254520"/>
                    <a:chOff x="3034080" y="4400640"/>
                    <a:chExt cx="232200" cy="254520"/>
                  </a:xfrm>
                </p:grpSpPr>
                <p:sp>
                  <p:nvSpPr>
                    <p:cNvPr id="1294" name=""/>
                    <p:cNvSpPr/>
                    <p:nvPr/>
                  </p:nvSpPr>
                  <p:spPr>
                    <a:xfrm rot="19680000">
                      <a:off x="3085560" y="444240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 flipH="1" rot="19680000">
                      <a:off x="3153600" y="4400280"/>
                      <a:ext cx="601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4">
                          <a:moveTo>
                            <a:pt x="0" y="0"/>
                          </a:moveTo>
                          <a:lnTo>
                            <a:pt x="38" y="64"/>
                          </a:lnTo>
                          <a:lnTo>
                            <a:pt x="38" y="13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6" name=""/>
                  <p:cNvGrpSpPr/>
                  <p:nvPr/>
                </p:nvGrpSpPr>
                <p:grpSpPr>
                  <a:xfrm>
                    <a:off x="2712960" y="4278240"/>
                    <a:ext cx="542520" cy="520560"/>
                    <a:chOff x="2712960" y="4278240"/>
                    <a:chExt cx="542520" cy="520560"/>
                  </a:xfrm>
                </p:grpSpPr>
                <p:grpSp>
                  <p:nvGrpSpPr>
                    <p:cNvPr id="1297" name=""/>
                    <p:cNvGrpSpPr/>
                    <p:nvPr/>
                  </p:nvGrpSpPr>
                  <p:grpSpPr>
                    <a:xfrm>
                      <a:off x="2748240" y="4672800"/>
                      <a:ext cx="152640" cy="126000"/>
                      <a:chOff x="2748240" y="4672800"/>
                      <a:chExt cx="152640" cy="126000"/>
                    </a:xfrm>
                  </p:grpSpPr>
                  <p:sp>
                    <p:nvSpPr>
                      <p:cNvPr id="1298" name=""/>
                      <p:cNvSpPr/>
                      <p:nvPr/>
                    </p:nvSpPr>
                    <p:spPr>
                      <a:xfrm rot="7471200">
                        <a:off x="2811600" y="470916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9" name=""/>
                      <p:cNvSpPr/>
                      <p:nvPr/>
                    </p:nvSpPr>
                    <p:spPr>
                      <a:xfrm flipH="1" flipV="1">
                        <a:off x="2748240" y="4672800"/>
                        <a:ext cx="70560" cy="4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00" name=""/>
                    <p:cNvGrpSpPr/>
                    <p:nvPr/>
                  </p:nvGrpSpPr>
                  <p:grpSpPr>
                    <a:xfrm>
                      <a:off x="2871000" y="4470120"/>
                      <a:ext cx="138240" cy="143640"/>
                      <a:chOff x="2871000" y="4470120"/>
                      <a:chExt cx="138240" cy="143640"/>
                    </a:xfrm>
                  </p:grpSpPr>
                  <p:sp>
                    <p:nvSpPr>
                      <p:cNvPr id="1301" name=""/>
                      <p:cNvSpPr/>
                      <p:nvPr/>
                    </p:nvSpPr>
                    <p:spPr>
                      <a:xfrm rot="8091600">
                        <a:off x="2918880" y="452340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2" name=""/>
                      <p:cNvSpPr/>
                      <p:nvPr/>
                    </p:nvSpPr>
                    <p:spPr>
                      <a:xfrm flipH="1" flipV="1">
                        <a:off x="2871000" y="4470120"/>
                        <a:ext cx="60480" cy="604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03" name=""/>
                    <p:cNvGrpSpPr/>
                    <p:nvPr/>
                  </p:nvGrpSpPr>
                  <p:grpSpPr>
                    <a:xfrm>
                      <a:off x="3024360" y="4366440"/>
                      <a:ext cx="135720" cy="145800"/>
                      <a:chOff x="3024360" y="4366440"/>
                      <a:chExt cx="135720" cy="145800"/>
                    </a:xfrm>
                  </p:grpSpPr>
                  <p:sp>
                    <p:nvSpPr>
                      <p:cNvPr id="1304" name=""/>
                      <p:cNvSpPr/>
                      <p:nvPr/>
                    </p:nvSpPr>
                    <p:spPr>
                      <a:xfrm rot="8193000">
                        <a:off x="3069720" y="442188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5" name=""/>
                      <p:cNvSpPr/>
                      <p:nvPr/>
                    </p:nvSpPr>
                    <p:spPr>
                      <a:xfrm flipH="1" flipV="1">
                        <a:off x="3024360" y="4366440"/>
                        <a:ext cx="58680" cy="6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06" name=""/>
                    <p:cNvGrpSpPr/>
                    <p:nvPr/>
                  </p:nvGrpSpPr>
                  <p:grpSpPr>
                    <a:xfrm>
                      <a:off x="3119760" y="4281840"/>
                      <a:ext cx="135720" cy="145800"/>
                      <a:chOff x="3119760" y="4281840"/>
                      <a:chExt cx="135720" cy="145800"/>
                    </a:xfrm>
                  </p:grpSpPr>
                  <p:sp>
                    <p:nvSpPr>
                      <p:cNvPr id="1307" name=""/>
                      <p:cNvSpPr/>
                      <p:nvPr/>
                    </p:nvSpPr>
                    <p:spPr>
                      <a:xfrm rot="8193000">
                        <a:off x="3165120" y="433728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99ff"/>
                      </a:solidFill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8" name=""/>
                      <p:cNvSpPr/>
                      <p:nvPr/>
                    </p:nvSpPr>
                    <p:spPr>
                      <a:xfrm flipH="1" flipV="1">
                        <a:off x="3119760" y="4281840"/>
                        <a:ext cx="59040" cy="6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2712960" y="4278240"/>
                      <a:ext cx="39708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256">
                          <a:moveTo>
                            <a:pt x="0" y="256"/>
                          </a:moveTo>
                          <a:cubicBezTo>
                            <a:pt x="6" y="244"/>
                            <a:pt x="21" y="208"/>
                            <a:pt x="38" y="185"/>
                          </a:cubicBezTo>
                          <a:cubicBezTo>
                            <a:pt x="54" y="161"/>
                            <a:pt x="78" y="136"/>
                            <a:pt x="102" y="115"/>
                          </a:cubicBezTo>
                          <a:cubicBezTo>
                            <a:pt x="125" y="93"/>
                            <a:pt x="154" y="76"/>
                            <a:pt x="179" y="57"/>
                          </a:cubicBezTo>
                          <a:cubicBezTo>
                            <a:pt x="203" y="37"/>
                            <a:pt x="235" y="11"/>
                            <a:pt x="25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10" name=""/>
                <p:cNvSpPr/>
                <p:nvPr/>
              </p:nvSpPr>
              <p:spPr>
                <a:xfrm>
                  <a:off x="2477520" y="4264200"/>
                  <a:ext cx="554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omic Sans MS"/>
                    </a:rPr>
                    <a:t>Antige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1" name=""/>
              <p:cNvSpPr/>
              <p:nvPr/>
            </p:nvSpPr>
            <p:spPr>
              <a:xfrm>
                <a:off x="4165920" y="4943520"/>
                <a:ext cx="375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2" name=""/>
          <p:cNvGrpSpPr/>
          <p:nvPr/>
        </p:nvGrpSpPr>
        <p:grpSpPr>
          <a:xfrm>
            <a:off x="3654360" y="5541840"/>
            <a:ext cx="1700280" cy="990720"/>
            <a:chOff x="3654360" y="5541840"/>
            <a:chExt cx="1700280" cy="990720"/>
          </a:xfrm>
        </p:grpSpPr>
        <p:sp>
          <p:nvSpPr>
            <p:cNvPr id="1313" name=""/>
            <p:cNvSpPr/>
            <p:nvPr/>
          </p:nvSpPr>
          <p:spPr>
            <a:xfrm flipH="1">
              <a:off x="4695840" y="6004080"/>
              <a:ext cx="658800" cy="50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4" name=""/>
            <p:cNvGrpSpPr/>
            <p:nvPr/>
          </p:nvGrpSpPr>
          <p:grpSpPr>
            <a:xfrm>
              <a:off x="3654360" y="5541840"/>
              <a:ext cx="990720" cy="990720"/>
              <a:chOff x="3654360" y="5541840"/>
              <a:chExt cx="990720" cy="990720"/>
            </a:xfrm>
          </p:grpSpPr>
          <p:sp>
            <p:nvSpPr>
              <p:cNvPr id="1315" name=""/>
              <p:cNvSpPr/>
              <p:nvPr/>
            </p:nvSpPr>
            <p:spPr>
              <a:xfrm>
                <a:off x="3654360" y="5541840"/>
                <a:ext cx="990720" cy="99072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671280" y="5772240"/>
                <a:ext cx="955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Activat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5398920" y="4544280"/>
            <a:ext cx="1695600" cy="1761120"/>
            <a:chOff x="5398920" y="4544280"/>
            <a:chExt cx="1695600" cy="1761120"/>
          </a:xfrm>
        </p:grpSpPr>
        <p:grpSp>
          <p:nvGrpSpPr>
            <p:cNvPr id="1318" name=""/>
            <p:cNvGrpSpPr/>
            <p:nvPr/>
          </p:nvGrpSpPr>
          <p:grpSpPr>
            <a:xfrm>
              <a:off x="6166440" y="5303880"/>
              <a:ext cx="558360" cy="416880"/>
              <a:chOff x="6166440" y="5303880"/>
              <a:chExt cx="558360" cy="416880"/>
            </a:xfrm>
          </p:grpSpPr>
          <p:grpSp>
            <p:nvGrpSpPr>
              <p:cNvPr id="1319" name=""/>
              <p:cNvGrpSpPr/>
              <p:nvPr/>
            </p:nvGrpSpPr>
            <p:grpSpPr>
              <a:xfrm>
                <a:off x="6166440" y="5382360"/>
                <a:ext cx="359280" cy="338400"/>
                <a:chOff x="6166440" y="5382360"/>
                <a:chExt cx="359280" cy="338400"/>
              </a:xfrm>
            </p:grpSpPr>
            <p:sp>
              <p:nvSpPr>
                <p:cNvPr id="1320" name=""/>
                <p:cNvSpPr/>
                <p:nvPr/>
              </p:nvSpPr>
              <p:spPr>
                <a:xfrm rot="3736800">
                  <a:off x="6229440" y="5409720"/>
                  <a:ext cx="233280" cy="2833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rot="3736800">
                  <a:off x="6399000" y="5440320"/>
                  <a:ext cx="10188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2" name=""/>
              <p:cNvSpPr/>
              <p:nvPr/>
            </p:nvSpPr>
            <p:spPr>
              <a:xfrm rot="14392800">
                <a:off x="6517800" y="5261760"/>
                <a:ext cx="88920" cy="323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5991840" y="4969800"/>
              <a:ext cx="479160" cy="611640"/>
              <a:chOff x="5991840" y="4969800"/>
              <a:chExt cx="479160" cy="611640"/>
            </a:xfrm>
          </p:grpSpPr>
          <p:sp>
            <p:nvSpPr>
              <p:cNvPr id="1324" name=""/>
              <p:cNvSpPr/>
              <p:nvPr/>
            </p:nvSpPr>
            <p:spPr>
              <a:xfrm rot="12608400">
                <a:off x="6048360" y="5263200"/>
                <a:ext cx="21204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5" name=""/>
              <p:cNvGrpSpPr/>
              <p:nvPr/>
            </p:nvGrpSpPr>
            <p:grpSpPr>
              <a:xfrm>
                <a:off x="6146280" y="4969800"/>
                <a:ext cx="324720" cy="339480"/>
                <a:chOff x="6146280" y="4969800"/>
                <a:chExt cx="324720" cy="339480"/>
              </a:xfrm>
            </p:grpSpPr>
            <p:sp>
              <p:nvSpPr>
                <p:cNvPr id="1326" name=""/>
                <p:cNvSpPr/>
                <p:nvPr/>
              </p:nvSpPr>
              <p:spPr>
                <a:xfrm rot="12608400">
                  <a:off x="6197400" y="5007600"/>
                  <a:ext cx="222120" cy="263520"/>
                </a:xfrm>
                <a:custGeom>
                  <a:avLst/>
                  <a:gdLst>
                    <a:gd name="textAreaLeft" fmla="*/ 34560 w 222120"/>
                    <a:gd name="textAreaRight" fmla="*/ 187560 w 222120"/>
                    <a:gd name="textAreaTop" fmla="*/ 41040 h 263520"/>
                    <a:gd name="textAreaBottom" fmla="*/ 22248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69" y="21600"/>
                      </a:lnTo>
                      <a:lnTo>
                        <a:pt x="2931" y="216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rot="12608400">
                  <a:off x="6234480" y="5139000"/>
                  <a:ext cx="74160" cy="133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rot="12608400">
                  <a:off x="6242760" y="5068080"/>
                  <a:ext cx="131400" cy="14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12608400">
                  <a:off x="6271200" y="5104800"/>
                  <a:ext cx="74160" cy="74520"/>
                </a:xfrm>
                <a:prstGeom prst="ellipse">
                  <a:avLst/>
                </a:prstGeom>
                <a:solidFill>
                  <a:srgbClr val="33cc33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0" name=""/>
            <p:cNvGrpSpPr/>
            <p:nvPr/>
          </p:nvGrpSpPr>
          <p:grpSpPr>
            <a:xfrm>
              <a:off x="5398920" y="5315040"/>
              <a:ext cx="990720" cy="990360"/>
              <a:chOff x="5398920" y="5315040"/>
              <a:chExt cx="990720" cy="990360"/>
            </a:xfrm>
          </p:grpSpPr>
          <p:sp>
            <p:nvSpPr>
              <p:cNvPr id="1331" name=""/>
              <p:cNvSpPr/>
              <p:nvPr/>
            </p:nvSpPr>
            <p:spPr>
              <a:xfrm>
                <a:off x="5398920" y="5315040"/>
                <a:ext cx="990720" cy="9903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7640" y="5315040"/>
                <a:ext cx="74304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Virg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Helper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T Cell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 rot="16608600">
              <a:off x="6065280" y="4605120"/>
              <a:ext cx="893880" cy="1042920"/>
            </a:xfrm>
            <a:custGeom>
              <a:avLst/>
              <a:gdLst/>
              <a:ahLst/>
              <a:rect l="l" t="t" r="r" b="b"/>
              <a:pathLst>
                <a:path w="563" h="657">
                  <a:moveTo>
                    <a:pt x="18" y="529"/>
                  </a:moveTo>
                  <a:cubicBezTo>
                    <a:pt x="35" y="506"/>
                    <a:pt x="90" y="506"/>
                    <a:pt x="126" y="478"/>
                  </a:cubicBezTo>
                  <a:cubicBezTo>
                    <a:pt x="161" y="449"/>
                    <a:pt x="195" y="401"/>
                    <a:pt x="229" y="356"/>
                  </a:cubicBezTo>
                  <a:cubicBezTo>
                    <a:pt x="262" y="310"/>
                    <a:pt x="305" y="243"/>
                    <a:pt x="325" y="203"/>
                  </a:cubicBezTo>
                  <a:cubicBezTo>
                    <a:pt x="344" y="162"/>
                    <a:pt x="337" y="140"/>
                    <a:pt x="344" y="113"/>
                  </a:cubicBezTo>
                  <a:cubicBezTo>
                    <a:pt x="350" y="85"/>
                    <a:pt x="338" y="52"/>
                    <a:pt x="363" y="36"/>
                  </a:cubicBezTo>
                  <a:cubicBezTo>
                    <a:pt x="387" y="19"/>
                    <a:pt x="459" y="0"/>
                    <a:pt x="491" y="11"/>
                  </a:cubicBezTo>
                  <a:cubicBezTo>
                    <a:pt x="523" y="21"/>
                    <a:pt x="546" y="58"/>
                    <a:pt x="555" y="100"/>
                  </a:cubicBezTo>
                  <a:cubicBezTo>
                    <a:pt x="563" y="141"/>
                    <a:pt x="554" y="206"/>
                    <a:pt x="542" y="260"/>
                  </a:cubicBezTo>
                  <a:cubicBezTo>
                    <a:pt x="529" y="313"/>
                    <a:pt x="511" y="369"/>
                    <a:pt x="478" y="420"/>
                  </a:cubicBezTo>
                  <a:cubicBezTo>
                    <a:pt x="444" y="470"/>
                    <a:pt x="384" y="523"/>
                    <a:pt x="338" y="561"/>
                  </a:cubicBezTo>
                  <a:cubicBezTo>
                    <a:pt x="291" y="598"/>
                    <a:pt x="240" y="630"/>
                    <a:pt x="197" y="644"/>
                  </a:cubicBezTo>
                  <a:cubicBezTo>
                    <a:pt x="153" y="657"/>
                    <a:pt x="104" y="649"/>
                    <a:pt x="75" y="644"/>
                  </a:cubicBezTo>
                  <a:cubicBezTo>
                    <a:pt x="45" y="638"/>
                    <a:pt x="27" y="632"/>
                    <a:pt x="18" y="612"/>
                  </a:cubicBezTo>
                  <a:cubicBezTo>
                    <a:pt x="8" y="591"/>
                    <a:pt x="0" y="551"/>
                    <a:pt x="18" y="529"/>
                  </a:cubicBez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13608600">
              <a:off x="6015600" y="4901040"/>
              <a:ext cx="11300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ctivate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croph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une System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74640" y="176004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ed of imperfec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g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e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mmunication among a network of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ent behavior through the interaction of multip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TI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Artificial Immu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Stephanie Forrest (U Nm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e system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ole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prot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centr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evelop LISYS, a network intrusion detec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 is to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itu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41520" y="442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Betwe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TIS and Immu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844280" y="1760400"/>
            <a:ext cx="59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mmune System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R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/protein/epito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lonal lymphocy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cell, T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variable re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string encoding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constant re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c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elf binary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 string ma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es i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ole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m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H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pheral tole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nega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stimulation: signal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es exceed activation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stimulation: signal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 clo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 dete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on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 elimin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3081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YS: Network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s on a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s are datapath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IP address; destination IP address; TCP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-bit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= set of “naturally occurring”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over time on the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terms of frequenci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it occurs frequen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ertex of graph corresponds to a computer on the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s a fully conn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720720" y="154260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d on subnet of 50 computers in U New Mexico C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trace collected over 5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M datapaths filtered to 1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00 unique self strings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elf trace comprised 7 different intr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mainly carried out on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simulated days of self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days of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(30 runs over 20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ion immature detectors: 0.2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positive rate: 1.7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20 (per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ts detected: 7 out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systems offer a number of insights and metaphors that may be valuable for developing the area of embedd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mune system maps well to highly distributed systems of a large number of instances of a small number of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just starting on specific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234936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39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mbedded Comp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0" y="2401920"/>
            <a:ext cx="233352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rge collections of distributed processors (agents) producing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irable behavior through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7520" y="36648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the Immu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4640" y="176004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ed of imperfec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g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e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mmunication among a network of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ent behavior through the interaction of multip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the Immu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0520" y="1131840"/>
            <a:ext cx="7772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Protect the organism against path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t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: Self++ vs Non-Self (pathog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nat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aptive (Specific)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d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3120" y="27756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Immune 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60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cognizes &gt;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anti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lim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tion of self from non-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98800" y="1654200"/>
            <a:ext cx="3499920" cy="2441880"/>
            <a:chOff x="3898800" y="1654200"/>
            <a:chExt cx="3499920" cy="2441880"/>
          </a:xfrm>
        </p:grpSpPr>
        <p:sp>
          <p:nvSpPr>
            <p:cNvPr id="58" name=""/>
            <p:cNvSpPr/>
            <p:nvPr/>
          </p:nvSpPr>
          <p:spPr>
            <a:xfrm>
              <a:off x="4307040" y="2446200"/>
              <a:ext cx="2906640" cy="1203480"/>
            </a:xfrm>
            <a:custGeom>
              <a:avLst/>
              <a:gdLst/>
              <a:ahLst/>
              <a:rect l="l" t="t" r="r" b="b"/>
              <a:pathLst>
                <a:path w="1831" h="758">
                  <a:moveTo>
                    <a:pt x="0" y="747"/>
                  </a:moveTo>
                  <a:cubicBezTo>
                    <a:pt x="33" y="744"/>
                    <a:pt x="148" y="758"/>
                    <a:pt x="205" y="726"/>
                  </a:cubicBezTo>
                  <a:cubicBezTo>
                    <a:pt x="261" y="694"/>
                    <a:pt x="301" y="591"/>
                    <a:pt x="339" y="555"/>
                  </a:cubicBezTo>
                  <a:cubicBezTo>
                    <a:pt x="376" y="518"/>
                    <a:pt x="403" y="505"/>
                    <a:pt x="430" y="507"/>
                  </a:cubicBezTo>
                  <a:cubicBezTo>
                    <a:pt x="457" y="508"/>
                    <a:pt x="477" y="539"/>
                    <a:pt x="502" y="566"/>
                  </a:cubicBezTo>
                  <a:cubicBezTo>
                    <a:pt x="526" y="592"/>
                    <a:pt x="550" y="643"/>
                    <a:pt x="579" y="667"/>
                  </a:cubicBezTo>
                  <a:cubicBezTo>
                    <a:pt x="607" y="691"/>
                    <a:pt x="635" y="702"/>
                    <a:pt x="674" y="710"/>
                  </a:cubicBezTo>
                  <a:cubicBezTo>
                    <a:pt x="712" y="717"/>
                    <a:pt x="774" y="714"/>
                    <a:pt x="812" y="715"/>
                  </a:cubicBezTo>
                  <a:cubicBezTo>
                    <a:pt x="850" y="715"/>
                    <a:pt x="867" y="717"/>
                    <a:pt x="903" y="715"/>
                  </a:cubicBezTo>
                  <a:cubicBezTo>
                    <a:pt x="938" y="712"/>
                    <a:pt x="998" y="724"/>
                    <a:pt x="1026" y="699"/>
                  </a:cubicBezTo>
                  <a:cubicBezTo>
                    <a:pt x="1053" y="673"/>
                    <a:pt x="1036" y="655"/>
                    <a:pt x="1066" y="560"/>
                  </a:cubicBezTo>
                  <a:cubicBezTo>
                    <a:pt x="1095" y="464"/>
                    <a:pt x="1158" y="218"/>
                    <a:pt x="1201" y="128"/>
                  </a:cubicBezTo>
                  <a:cubicBezTo>
                    <a:pt x="1243" y="37"/>
                    <a:pt x="1280" y="32"/>
                    <a:pt x="1319" y="16"/>
                  </a:cubicBezTo>
                  <a:cubicBezTo>
                    <a:pt x="1357" y="0"/>
                    <a:pt x="1401" y="10"/>
                    <a:pt x="1431" y="32"/>
                  </a:cubicBezTo>
                  <a:cubicBezTo>
                    <a:pt x="1460" y="53"/>
                    <a:pt x="1478" y="97"/>
                    <a:pt x="1495" y="144"/>
                  </a:cubicBezTo>
                  <a:cubicBezTo>
                    <a:pt x="1511" y="190"/>
                    <a:pt x="1511" y="245"/>
                    <a:pt x="1532" y="310"/>
                  </a:cubicBezTo>
                  <a:cubicBezTo>
                    <a:pt x="1552" y="374"/>
                    <a:pt x="1568" y="489"/>
                    <a:pt x="1618" y="534"/>
                  </a:cubicBezTo>
                  <a:cubicBezTo>
                    <a:pt x="1667" y="578"/>
                    <a:pt x="1795" y="569"/>
                    <a:pt x="1831" y="57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29000" y="3255840"/>
              <a:ext cx="2881440" cy="392400"/>
            </a:xfrm>
            <a:custGeom>
              <a:avLst/>
              <a:gdLst/>
              <a:ahLst/>
              <a:rect l="l" t="t" r="r" b="b"/>
              <a:pathLst>
                <a:path w="1815" h="247">
                  <a:moveTo>
                    <a:pt x="0" y="242"/>
                  </a:moveTo>
                  <a:cubicBezTo>
                    <a:pt x="147" y="241"/>
                    <a:pt x="714" y="247"/>
                    <a:pt x="888" y="242"/>
                  </a:cubicBezTo>
                  <a:cubicBezTo>
                    <a:pt x="1060" y="236"/>
                    <a:pt x="993" y="242"/>
                    <a:pt x="1039" y="210"/>
                  </a:cubicBezTo>
                  <a:cubicBezTo>
                    <a:pt x="1084" y="178"/>
                    <a:pt x="1122" y="84"/>
                    <a:pt x="1158" y="50"/>
                  </a:cubicBezTo>
                  <a:cubicBezTo>
                    <a:pt x="1192" y="15"/>
                    <a:pt x="1219" y="0"/>
                    <a:pt x="1249" y="2"/>
                  </a:cubicBezTo>
                  <a:cubicBezTo>
                    <a:pt x="1278" y="3"/>
                    <a:pt x="1309" y="37"/>
                    <a:pt x="1335" y="61"/>
                  </a:cubicBezTo>
                  <a:cubicBezTo>
                    <a:pt x="1360" y="85"/>
                    <a:pt x="1376" y="124"/>
                    <a:pt x="1405" y="146"/>
                  </a:cubicBezTo>
                  <a:cubicBezTo>
                    <a:pt x="1433" y="167"/>
                    <a:pt x="1468" y="179"/>
                    <a:pt x="1503" y="189"/>
                  </a:cubicBezTo>
                  <a:cubicBezTo>
                    <a:pt x="1538" y="198"/>
                    <a:pt x="1566" y="202"/>
                    <a:pt x="1617" y="205"/>
                  </a:cubicBezTo>
                  <a:cubicBezTo>
                    <a:pt x="1669" y="207"/>
                    <a:pt x="1782" y="205"/>
                    <a:pt x="1815" y="205"/>
                  </a:cubicBez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4361040" y="1654200"/>
              <a:ext cx="723960" cy="246240"/>
              <a:chOff x="4361040" y="1654200"/>
              <a:chExt cx="723960" cy="246240"/>
            </a:xfrm>
          </p:grpSpPr>
          <p:sp>
            <p:nvSpPr>
              <p:cNvPr id="61" name=""/>
              <p:cNvSpPr/>
              <p:nvPr/>
            </p:nvSpPr>
            <p:spPr>
              <a:xfrm>
                <a:off x="4361040" y="1828800"/>
                <a:ext cx="203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46080" y="1654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Comic Sans MS"/>
                  </a:rPr>
                  <a:t>Anti-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361040" y="1784520"/>
              <a:ext cx="717480" cy="246240"/>
              <a:chOff x="4361040" y="1784520"/>
              <a:chExt cx="717480" cy="246240"/>
            </a:xfrm>
          </p:grpSpPr>
          <p:sp>
            <p:nvSpPr>
              <p:cNvPr id="64" name=""/>
              <p:cNvSpPr/>
              <p:nvPr/>
            </p:nvSpPr>
            <p:spPr>
              <a:xfrm>
                <a:off x="4361040" y="1959120"/>
                <a:ext cx="20304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38160" y="1784520"/>
                <a:ext cx="54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Comic Sans MS"/>
                  </a:rPr>
                  <a:t>Anti-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187160" y="2362320"/>
              <a:ext cx="87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Antigen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8760" y="2295360"/>
              <a:ext cx="88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Antigen 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br>
                <a:rPr sz="1200"/>
              </a:br>
              <a:r>
                <a:rPr b="0" lang="en-US" sz="1200" spc="-1" strike="noStrike">
                  <a:solidFill>
                    <a:srgbClr val="3333cc"/>
                  </a:solidFill>
                  <a:latin typeface="Comic Sans MS"/>
                </a:rPr>
                <a:t>Antigen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9960" y="2784600"/>
              <a:ext cx="8420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Primary</a:t>
              </a:r>
              <a:br>
                <a:rPr sz="1200"/>
              </a:b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anti-A</a:t>
              </a:r>
              <a:br>
                <a:rPr sz="1200"/>
              </a:b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03720" y="2801880"/>
              <a:ext cx="8420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Comic Sans MS"/>
                </a:rPr>
                <a:t>Primary</a:t>
              </a:r>
              <a:br>
                <a:rPr sz="1200"/>
              </a:br>
              <a:r>
                <a:rPr b="0" lang="en-US" sz="1200" spc="-1" strike="noStrike">
                  <a:solidFill>
                    <a:srgbClr val="3333cc"/>
                  </a:solidFill>
                  <a:latin typeface="Comic Sans MS"/>
                </a:rPr>
                <a:t>anti-B</a:t>
              </a:r>
              <a:br>
                <a:rPr sz="1200"/>
              </a:br>
              <a:r>
                <a:rPr b="0" lang="en-US" sz="1200" spc="-1" strike="noStrike">
                  <a:solidFill>
                    <a:srgbClr val="3333cc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37920" y="2014560"/>
              <a:ext cx="930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Secondary</a:t>
              </a:r>
              <a:br>
                <a:rPr sz="1200"/>
              </a:b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anti-A</a:t>
              </a:r>
              <a:br>
                <a:rPr sz="1200"/>
              </a:br>
              <a:r>
                <a:rPr b="0" lang="en-US" sz="1200" spc="-1" strike="noStrike">
                  <a:solidFill>
                    <a:srgbClr val="ff0000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29160" y="2649600"/>
              <a:ext cx="0" cy="923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95840" y="2768760"/>
              <a:ext cx="297000" cy="763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3165480" y="2580480"/>
              <a:ext cx="174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erum Antibody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056120" y="1719360"/>
              <a:ext cx="0" cy="185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249800" y="1709640"/>
              <a:ext cx="2981160" cy="2024280"/>
              <a:chOff x="4249800" y="1709640"/>
              <a:chExt cx="2981160" cy="2024280"/>
            </a:xfrm>
          </p:grpSpPr>
          <p:sp>
            <p:nvSpPr>
              <p:cNvPr id="76" name=""/>
              <p:cNvSpPr/>
              <p:nvPr/>
            </p:nvSpPr>
            <p:spPr>
              <a:xfrm>
                <a:off x="4249800" y="1709640"/>
                <a:ext cx="2981160" cy="198144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4249800" y="3639960"/>
                <a:ext cx="2981160" cy="93960"/>
                <a:chOff x="4249800" y="3639960"/>
                <a:chExt cx="2981160" cy="939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4249800" y="3639960"/>
                  <a:ext cx="0" cy="93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746600" y="3639960"/>
                  <a:ext cx="0" cy="93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43400" y="3639960"/>
                  <a:ext cx="0" cy="93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40560" y="3639960"/>
                  <a:ext cx="0" cy="93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237360" y="3639960"/>
                  <a:ext cx="0" cy="93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734160" y="3639960"/>
                  <a:ext cx="0" cy="93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230960" y="3639960"/>
                  <a:ext cx="0" cy="93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"/>
            <p:cNvSpPr/>
            <p:nvPr/>
          </p:nvSpPr>
          <p:spPr>
            <a:xfrm>
              <a:off x="4627440" y="3675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6960" y="3675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18160" y="3675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21440" y="3675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70000" y="36752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74720" y="36752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19800" y="38196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Wee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12920" y="4316400"/>
            <a:ext cx="373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s of the immune system originate in the bone marrow and descend from self-renewing stem ce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177920" y="2631600"/>
            <a:ext cx="334800" cy="451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348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ular Immune System Partici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040" y="3081240"/>
            <a:ext cx="565200" cy="565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3680" y="363528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35360" y="1828800"/>
            <a:ext cx="565200" cy="5652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43480" y="4130640"/>
            <a:ext cx="565200" cy="565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25520" y="2031840"/>
            <a:ext cx="565200" cy="565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74960" y="2597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20800" y="3081240"/>
            <a:ext cx="565200" cy="5652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70440" y="3635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-potential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2517840"/>
            <a:ext cx="564840" cy="565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c19a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84320" y="20318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Lymph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4760" y="31194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Lymph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3040" y="1484280"/>
            <a:ext cx="588960" cy="650880"/>
          </a:xfrm>
          <a:custGeom>
            <a:avLst/>
            <a:gdLst>
              <a:gd name="textAreaLeft" fmla="*/ 134280 w 588960"/>
              <a:gd name="textAreaRight" fmla="*/ 454680 w 588960"/>
              <a:gd name="textAreaTop" fmla="*/ 148320 h 650880"/>
              <a:gd name="textAreaBottom" fmla="*/ 5025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86000" y="3405240"/>
            <a:ext cx="1062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43360" y="2486160"/>
            <a:ext cx="137880" cy="512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55840" y="3556080"/>
            <a:ext cx="117792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463920" y="1893960"/>
            <a:ext cx="716040" cy="195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2760" y="2101680"/>
            <a:ext cx="762120" cy="565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022720" y="2132640"/>
            <a:ext cx="2485440" cy="3722760"/>
            <a:chOff x="5022720" y="2132640"/>
            <a:chExt cx="2485440" cy="3722760"/>
          </a:xfrm>
        </p:grpSpPr>
        <p:sp>
          <p:nvSpPr>
            <p:cNvPr id="113" name=""/>
            <p:cNvSpPr/>
            <p:nvPr/>
          </p:nvSpPr>
          <p:spPr>
            <a:xfrm>
              <a:off x="6434280" y="5068800"/>
              <a:ext cx="564840" cy="5652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92000" y="5518080"/>
              <a:ext cx="10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st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34280" y="4202280"/>
              <a:ext cx="564840" cy="564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4040" y="4651200"/>
              <a:ext cx="11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osinoph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34280" y="3335400"/>
              <a:ext cx="564840" cy="565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14600" y="378468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utroph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28480" y="2132640"/>
              <a:ext cx="1579680" cy="1137960"/>
            </a:xfrm>
            <a:prstGeom prst="irregularSeal2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23520" y="291780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045040" y="2943000"/>
              <a:ext cx="1085760" cy="1431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033880" y="3636720"/>
              <a:ext cx="1339920" cy="75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33880" y="4398840"/>
              <a:ext cx="1338480" cy="5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2720" y="4398840"/>
              <a:ext cx="1327320" cy="889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558680" y="5478480"/>
            <a:ext cx="1828080" cy="969120"/>
            <a:chOff x="4558680" y="5478480"/>
            <a:chExt cx="1828080" cy="969120"/>
          </a:xfrm>
        </p:grpSpPr>
        <p:sp>
          <p:nvSpPr>
            <p:cNvPr id="126" name=""/>
            <p:cNvSpPr/>
            <p:nvPr/>
          </p:nvSpPr>
          <p:spPr>
            <a:xfrm>
              <a:off x="5024520" y="5478480"/>
              <a:ext cx="695520" cy="6494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58680" y="6110280"/>
              <a:ext cx="18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atural Killer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04560" y="5521320"/>
            <a:ext cx="1450080" cy="1002240"/>
            <a:chOff x="3004560" y="5521320"/>
            <a:chExt cx="1450080" cy="1002240"/>
          </a:xfrm>
        </p:grpSpPr>
        <p:sp>
          <p:nvSpPr>
            <p:cNvPr id="129" name=""/>
            <p:cNvSpPr/>
            <p:nvPr/>
          </p:nvSpPr>
          <p:spPr>
            <a:xfrm>
              <a:off x="3279600" y="5521320"/>
              <a:ext cx="828720" cy="718920"/>
            </a:xfrm>
            <a:custGeom>
              <a:avLst/>
              <a:gdLst>
                <a:gd name="textAreaLeft" fmla="*/ 341280 w 828720"/>
                <a:gd name="textAreaRight" fmla="*/ 487440 w 828720"/>
                <a:gd name="textAreaTop" fmla="*/ 296280 h 718920"/>
                <a:gd name="textAreaBottom" fmla="*/ 4226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4560" y="618624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ndritic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522600" y="1359000"/>
            <a:ext cx="1954440" cy="2241360"/>
          </a:xfrm>
          <a:prstGeom prst="rect">
            <a:avLst/>
          </a:pr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16080" y="2174760"/>
            <a:ext cx="4770720" cy="4395960"/>
          </a:xfrm>
          <a:custGeom>
            <a:avLst/>
            <a:gdLst/>
            <a:ahLst/>
            <a:rect l="l" t="t" r="r" b="b"/>
            <a:pathLst>
              <a:path w="3005" h="2769">
                <a:moveTo>
                  <a:pt x="1732" y="0"/>
                </a:moveTo>
                <a:lnTo>
                  <a:pt x="1732" y="1976"/>
                </a:lnTo>
                <a:lnTo>
                  <a:pt x="0" y="1976"/>
                </a:lnTo>
                <a:lnTo>
                  <a:pt x="0" y="2769"/>
                </a:lnTo>
                <a:lnTo>
                  <a:pt x="3005" y="2769"/>
                </a:lnTo>
                <a:lnTo>
                  <a:pt x="3005" y="0"/>
                </a:lnTo>
                <a:lnTo>
                  <a:pt x="1732" y="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92520" y="123516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aptive (Specific)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29160" y="1906560"/>
            <a:ext cx="13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nat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~2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us membranes ~4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ira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ings out or trap them for further attention by immu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nat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5280" y="163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ate immune cells recognize conserved biochemical components of traditional inv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hag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ph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ph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Kille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nents interact with each other and with adaptive system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7:27:17Z</dcterms:created>
  <dc:creator>Thomas D. Garvey</dc:creator>
  <dc:description/>
  <dc:language>en-US</dc:language>
  <cp:lastModifiedBy>AYA</cp:lastModifiedBy>
  <cp:lastPrinted>2000-02-29T00:15:21Z</cp:lastPrinted>
  <dcterms:modified xsi:type="dcterms:W3CDTF">2004-02-13T18:04:13Z</dcterms:modified>
  <cp:revision>68</cp:revision>
  <dc:subject/>
  <dc:title>Artificial Immune Systems</dc:title>
</cp:coreProperties>
</file>