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04F-E1A8-4F05-BF2C-CA9A1A1F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AFE-BFDF-4069-B5C1-A16C0718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FF9-CF29-49FB-9FC2-0F78FA09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DCD-3282-4605-B003-65CD03CD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C41-F3D1-41F1-8ED7-6B187437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5C4-9512-404D-B98E-F146FD91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388-EA78-4B2F-A21D-EBF5E315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CF6-B44F-44A5-BC65-8E6F39B1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8C4-8F02-49E3-BE21-3D7DA0C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BC0-E3A8-434F-9A4C-B96C3A06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A26-F984-4002-8979-B010B40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0A7-4E1A-4C43-8F19-18F7368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627D-D52D-48A4-A9B1-F9BA9000D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18:35:07Z</dcterms:created>
  <dc:creator>Annalisa D'Andrea</dc:creator>
  <dc:description/>
  <dc:language>en-US</dc:language>
  <cp:lastModifiedBy>Annalisa D'Andrea</cp:lastModifiedBy>
  <dcterms:modified xsi:type="dcterms:W3CDTF">2002-03-21T18:36:08Z</dcterms:modified>
  <cp:revision>1</cp:revision>
  <dc:subject/>
  <dc:title>No Slide Title</dc:title>
</cp:coreProperties>
</file>