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D7D-2126-4A3C-BB3C-3E56C7B3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88A-F0C9-48F5-A09B-C51280E6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108-236B-4A2F-8B7D-E0FF57CF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A51-51D8-424A-A8D0-EDA3EBD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790-EEFE-41DB-898E-A24790C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237-D4A7-400F-B103-CADD526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027-38F5-4DCA-BFF3-EA24573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851-987B-483D-9E13-723321C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244-3248-46D1-B8AA-3C5D426A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6B4-2145-4C17-A7D9-C290B7E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85A-07D9-4340-A600-FEEA34A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7C4-F1BB-420B-A8C9-5A090F1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062-2F56-46A3-BD27-977F7B4C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 of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SB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Hybrid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BML to Hybrid SAL Translator – Ma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or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Continue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many applications at time, the system will cr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nd Warning! to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proteins are expressed, then the cell cra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Cell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gulate protein  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rash" descr=""/>
          <p:cNvPicPr/>
          <p:nvPr/>
        </p:nvPicPr>
        <p:blipFill>
          <a:blip r:embed="rId1"/>
          <a:stretch/>
        </p:blipFill>
        <p:spPr>
          <a:xfrm>
            <a:off x="1143000" y="4780080"/>
            <a:ext cx="312408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deathcell" descr=""/>
          <p:cNvPicPr/>
          <p:nvPr/>
        </p:nvPicPr>
        <p:blipFill>
          <a:blip r:embed="rId2"/>
          <a:stretch/>
        </p:blipFill>
        <p:spPr>
          <a:xfrm>
            <a:off x="5029200" y="4800600"/>
            <a:ext cx="3429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 Regulatory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391160" cy="4267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3520" y="1600200"/>
            <a:ext cx="6825960" cy="3872880"/>
            <a:chOff x="533520" y="1600200"/>
            <a:chExt cx="6825960" cy="3872880"/>
          </a:xfrm>
        </p:grpSpPr>
        <p:sp>
          <p:nvSpPr>
            <p:cNvPr id="139" name=""/>
            <p:cNvSpPr/>
            <p:nvPr/>
          </p:nvSpPr>
          <p:spPr>
            <a:xfrm>
              <a:off x="533520" y="1600200"/>
              <a:ext cx="19047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salt Con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8800" y="3505320"/>
              <a:ext cx="541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3886200"/>
              <a:ext cx="541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3521880"/>
              <a:ext cx="990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440" y="3504240"/>
              <a:ext cx="84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2438280"/>
              <a:ext cx="3049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3962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5120" y="4648320"/>
              <a:ext cx="1447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ei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4572000"/>
              <a:ext cx="160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ei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6" idx="3"/>
              <a:endCxn id="143" idx="0"/>
            </p:cNvCxnSpPr>
            <p:nvPr/>
          </p:nvCxnSpPr>
          <p:spPr>
            <a:xfrm flipV="1">
              <a:off x="3352320" y="3504600"/>
              <a:ext cx="2482200" cy="1377000"/>
            </a:xfrm>
            <a:prstGeom prst="bentConnector4">
              <a:avLst>
                <a:gd name="adj1" fmla="val 41456"/>
                <a:gd name="adj2" fmla="val 116605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586728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4952880"/>
              <a:ext cx="838440" cy="52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 high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33526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 flipV="1">
              <a:off x="2971440" y="3351960"/>
              <a:ext cx="3658320" cy="1353240"/>
            </a:xfrm>
            <a:prstGeom prst="curvedConnector5">
              <a:avLst>
                <a:gd name="adj1" fmla="val -19958"/>
                <a:gd name="adj2" fmla="val 91644"/>
                <a:gd name="adj3" fmla="val -19958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Networks in real Lif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por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BM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ML –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stems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logy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B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standard for encoding biochemical network models in X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we need SB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To Facilitate the exchange, sharing and reuse of models between different software to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tools to repres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with graphical interface can be used to generate SBML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Jdesigner, Gepasi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untitled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2951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752480"/>
            <a:ext cx="6705720" cy="38102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*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*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Rep. in SB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 Version=“1.0” encoding=“UTF-8”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b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odel id=“exampl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istOfCompartme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partment id=“cell” size=“3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istOfCompartme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istOfSpeci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pecies id=“X0”  compartment = “cell” initialConcentration=“1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pecies id=“X1”  compartment = “cell” initialConcentration=“0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pecies id=“X2”  compartment = “cell” initialConcentration=“0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listOfSpeci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Rep. in SBML (Cont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Reaction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reaction id = “reaction1”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Reactan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speciesReference species=“X0”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Reactan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Produc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speciesReference species=“X1”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Produc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KineticLaw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math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apply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times/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ci&gt;k1&lt;/ci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ci&gt;X0&lt;/ci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/apply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/math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Parameter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parameter id=“k1” value=“0.1”/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listOfParameter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/KineticLaw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/reaction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/listOfReaction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mp. Features of SB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athematical Constraints. E.g., X0+X1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iscrete time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[Protein1] &gt;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express Gen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Hybrid 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Hybrid S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deling language for hybrid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Hybrid S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specification of both continuous and discrete dynamics which are found commonly in biological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 for comp-Wiz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90720" y="2666880"/>
            <a:ext cx="3047760" cy="3645000"/>
            <a:chOff x="990720" y="2666880"/>
            <a:chExt cx="3047760" cy="3645000"/>
          </a:xfrm>
        </p:grpSpPr>
        <p:pic>
          <p:nvPicPr>
            <p:cNvPr id="46" name="pc" descr=""/>
            <p:cNvPicPr/>
            <p:nvPr/>
          </p:nvPicPr>
          <p:blipFill>
            <a:blip r:embed="rId1"/>
            <a:stretch/>
          </p:blipFill>
          <p:spPr>
            <a:xfrm>
              <a:off x="990720" y="2666880"/>
              <a:ext cx="297180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4343400"/>
              <a:ext cx="76320" cy="1143000"/>
            </a:xfrm>
            <a:prstGeom prst="downArrow">
              <a:avLst>
                <a:gd name="adj1" fmla="val 50000"/>
                <a:gd name="adj2" fmla="val 37441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0" y="54864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ing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943600" y="2743200"/>
            <a:ext cx="1905120" cy="3279240"/>
            <a:chOff x="5943600" y="2743200"/>
            <a:chExt cx="1905120" cy="3279240"/>
          </a:xfrm>
        </p:grpSpPr>
        <p:grpSp>
          <p:nvGrpSpPr>
            <p:cNvPr id="50" name=""/>
            <p:cNvGrpSpPr/>
            <p:nvPr/>
          </p:nvGrpSpPr>
          <p:grpSpPr>
            <a:xfrm>
              <a:off x="5943600" y="2743200"/>
              <a:ext cx="1600200" cy="1905120"/>
              <a:chOff x="5943600" y="2743200"/>
              <a:chExt cx="1600200" cy="1905120"/>
            </a:xfrm>
          </p:grpSpPr>
          <p:sp>
            <p:nvSpPr>
              <p:cNvPr id="51" name=""/>
              <p:cNvSpPr/>
              <p:nvPr/>
            </p:nvSpPr>
            <p:spPr>
              <a:xfrm>
                <a:off x="5943600" y="2743200"/>
                <a:ext cx="1600200" cy="1905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00800" y="3200400"/>
                <a:ext cx="598320" cy="878040"/>
              </a:xfrm>
              <a:custGeom>
                <a:avLst/>
                <a:gdLst/>
                <a:ahLst/>
                <a:rect l="l" t="t" r="r" b="b"/>
                <a:pathLst>
                  <a:path w="377" h="553">
                    <a:moveTo>
                      <a:pt x="129" y="59"/>
                    </a:moveTo>
                    <a:cubicBezTo>
                      <a:pt x="136" y="66"/>
                      <a:pt x="147" y="72"/>
                      <a:pt x="151" y="81"/>
                    </a:cubicBezTo>
                    <a:cubicBezTo>
                      <a:pt x="159" y="99"/>
                      <a:pt x="165" y="138"/>
                      <a:pt x="165" y="138"/>
                    </a:cubicBezTo>
                    <a:cubicBezTo>
                      <a:pt x="162" y="209"/>
                      <a:pt x="145" y="308"/>
                      <a:pt x="158" y="383"/>
                    </a:cubicBezTo>
                    <a:cubicBezTo>
                      <a:pt x="159" y="391"/>
                      <a:pt x="160" y="400"/>
                      <a:pt x="165" y="405"/>
                    </a:cubicBezTo>
                    <a:cubicBezTo>
                      <a:pt x="179" y="419"/>
                      <a:pt x="218" y="434"/>
                      <a:pt x="237" y="441"/>
                    </a:cubicBezTo>
                    <a:cubicBezTo>
                      <a:pt x="275" y="433"/>
                      <a:pt x="289" y="431"/>
                      <a:pt x="317" y="405"/>
                    </a:cubicBezTo>
                    <a:cubicBezTo>
                      <a:pt x="314" y="378"/>
                      <a:pt x="316" y="336"/>
                      <a:pt x="295" y="311"/>
                    </a:cubicBezTo>
                    <a:cubicBezTo>
                      <a:pt x="244" y="250"/>
                      <a:pt x="83" y="271"/>
                      <a:pt x="29" y="268"/>
                    </a:cubicBezTo>
                    <a:cubicBezTo>
                      <a:pt x="0" y="239"/>
                      <a:pt x="3" y="196"/>
                      <a:pt x="43" y="181"/>
                    </a:cubicBezTo>
                    <a:cubicBezTo>
                      <a:pt x="96" y="186"/>
                      <a:pt x="132" y="188"/>
                      <a:pt x="180" y="203"/>
                    </a:cubicBezTo>
                    <a:cubicBezTo>
                      <a:pt x="296" y="196"/>
                      <a:pt x="313" y="163"/>
                      <a:pt x="338" y="268"/>
                    </a:cubicBezTo>
                    <a:cubicBezTo>
                      <a:pt x="323" y="314"/>
                      <a:pt x="317" y="317"/>
                      <a:pt x="288" y="354"/>
                    </a:cubicBezTo>
                    <a:cubicBezTo>
                      <a:pt x="277" y="368"/>
                      <a:pt x="259" y="397"/>
                      <a:pt x="259" y="397"/>
                    </a:cubicBezTo>
                    <a:cubicBezTo>
                      <a:pt x="251" y="421"/>
                      <a:pt x="223" y="462"/>
                      <a:pt x="223" y="462"/>
                    </a:cubicBezTo>
                    <a:cubicBezTo>
                      <a:pt x="203" y="525"/>
                      <a:pt x="265" y="532"/>
                      <a:pt x="309" y="549"/>
                    </a:cubicBezTo>
                    <a:cubicBezTo>
                      <a:pt x="326" y="546"/>
                      <a:pt x="348" y="553"/>
                      <a:pt x="360" y="541"/>
                    </a:cubicBezTo>
                    <a:cubicBezTo>
                      <a:pt x="377" y="524"/>
                      <a:pt x="364" y="390"/>
                      <a:pt x="353" y="376"/>
                    </a:cubicBezTo>
                    <a:cubicBezTo>
                      <a:pt x="289" y="297"/>
                      <a:pt x="151" y="357"/>
                      <a:pt x="50" y="354"/>
                    </a:cubicBezTo>
                    <a:cubicBezTo>
                      <a:pt x="24" y="316"/>
                      <a:pt x="47" y="267"/>
                      <a:pt x="72" y="232"/>
                    </a:cubicBezTo>
                    <a:cubicBezTo>
                      <a:pt x="83" y="198"/>
                      <a:pt x="88" y="174"/>
                      <a:pt x="108" y="145"/>
                    </a:cubicBezTo>
                    <a:cubicBezTo>
                      <a:pt x="110" y="133"/>
                      <a:pt x="111" y="120"/>
                      <a:pt x="115" y="109"/>
                    </a:cubicBezTo>
                    <a:cubicBezTo>
                      <a:pt x="124" y="84"/>
                      <a:pt x="141" y="68"/>
                      <a:pt x="101" y="59"/>
                    </a:cubicBezTo>
                    <a:cubicBezTo>
                      <a:pt x="86" y="56"/>
                      <a:pt x="72" y="54"/>
                      <a:pt x="57" y="52"/>
                    </a:cubicBezTo>
                    <a:cubicBezTo>
                      <a:pt x="40" y="0"/>
                      <a:pt x="87" y="18"/>
                      <a:pt x="129" y="23"/>
                    </a:cubicBezTo>
                    <a:cubicBezTo>
                      <a:pt x="134" y="28"/>
                      <a:pt x="141" y="31"/>
                      <a:pt x="144" y="37"/>
                    </a:cubicBezTo>
                    <a:cubicBezTo>
                      <a:pt x="151" y="51"/>
                      <a:pt x="170" y="90"/>
                      <a:pt x="158" y="81"/>
                    </a:cubicBezTo>
                    <a:cubicBezTo>
                      <a:pt x="148" y="74"/>
                      <a:pt x="139" y="66"/>
                      <a:pt x="129" y="59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6781680" y="4038840"/>
              <a:ext cx="76320" cy="1447560"/>
            </a:xfrm>
            <a:prstGeom prst="downArrow">
              <a:avLst>
                <a:gd name="adj1" fmla="val 50000"/>
                <a:gd name="adj2" fmla="val 47417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00800" y="5562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9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Examp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752480"/>
            <a:ext cx="6705720" cy="38102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1*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2*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brid SAL Representation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CONTEXT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[k1,k2: REAL] : MODUL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X0, X1, X2: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X0dot, X1dot, X2dot: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1=(1/10) AND k2=(2/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=1; X2=0; X3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0dot` = - (k1*X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1dot` =  (k1*X0) – (k2*X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2dot` =  (k2*X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mp features in Hybrid 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cts as a global repository for information common to more than one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o represent constraints. e.g., X0+X1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s between SBML and SAL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0200" y="1676520"/>
          <a:ext cx="6095880" cy="4994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BML Compon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brid SAL Place Hol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/Input/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gnment  / Algebraic R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ari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e R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 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BML_SAL_Translator : *.sbml       *.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34290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 are du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atrick Linco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Ashish Tiw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.S vs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 Collection of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 Collection of Programs call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4267080"/>
            <a:ext cx="2666880" cy="1679040"/>
            <a:chOff x="990720" y="4267080"/>
            <a:chExt cx="2666880" cy="1679040"/>
          </a:xfrm>
        </p:grpSpPr>
        <p:sp>
          <p:nvSpPr>
            <p:cNvPr id="60" name=""/>
            <p:cNvSpPr/>
            <p:nvPr/>
          </p:nvSpPr>
          <p:spPr>
            <a:xfrm>
              <a:off x="990720" y="4267080"/>
              <a:ext cx="266688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6680" y="4419720"/>
              <a:ext cx="609840" cy="304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5120" y="4419720"/>
              <a:ext cx="609480" cy="304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9520" y="4419720"/>
              <a:ext cx="609480" cy="304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47242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9680" y="4724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514240" y="472428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54864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ules/Pro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105520" y="4191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191120"/>
            <a:ext cx="533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419112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5334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4419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010280" y="44197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s Vs Nucleot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mputer Instructions are stored in Binary Format ‘0’ s and ‘1’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netic Information is represented by four nucleotides ‘A’, ‘T’, ‘G’ and ‘C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133720"/>
            <a:ext cx="3124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Program in a High leve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733920"/>
            <a:ext cx="3200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029200"/>
            <a:ext cx="28195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readable executab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2209680"/>
            <a:ext cx="38098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information stored in DNA in ‘A’, ‘T’, ‘G’, ‘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971800"/>
            <a:ext cx="75960" cy="1066680"/>
          </a:xfrm>
          <a:prstGeom prst="downArrow">
            <a:avLst>
              <a:gd name="adj1" fmla="val 50000"/>
              <a:gd name="adj2" fmla="val 3510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657600"/>
            <a:ext cx="36576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A – ‘U’, ‘A’, ‘C’, ‘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029200"/>
            <a:ext cx="38098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– 20 different Amino Acids. E.g: Ala, Asp, G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cription aka Compi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-T-G-T-G-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-A-C-A-C-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36232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98600" y="3505320"/>
            <a:ext cx="27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-T-G-T-G-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8128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80060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1800" y="472428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U-A-C-U-C-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olII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692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aka.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U-A-C-U-C-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590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4191120"/>
            <a:ext cx="15238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2080" y="403848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yr-Se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ucleotides          1Codon (1amino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029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obtains the Corresponding amino acids from a Hash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ribosome1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089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ino-acid Lookup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opy%20of%20image2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Computer Ana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 of Desktop depend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mber of applications (windows)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behavior of a cell depend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mber of Proteins expressed (Transcription + Trans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0:17:01Z</dcterms:created>
  <dc:creator>Computer Science Laboratory</dc:creator>
  <dc:description/>
  <dc:language>en-US</dc:language>
  <cp:lastModifiedBy>Computer Science Laboratory</cp:lastModifiedBy>
  <dcterms:modified xsi:type="dcterms:W3CDTF">2003-08-28T18:14:17Z</dcterms:modified>
  <cp:revision>23</cp:revision>
  <dc:subject/>
  <dc:title>Outline</dc:title>
</cp:coreProperties>
</file>